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6534-AACD-4916-A6C6-C06A5B3F56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Times New Roman"/>
              </a:rPr>
              <a:t>■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教育、鼓励子女认真刻苦读书，持之以恒，苦战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天，取得高考的好成绩，为自己的人生开辟新的希望之路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Times New Roman"/>
              </a:rPr>
              <a:t>■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每个家庭要全力配合。加强同班主任、任课教师的联系。配合学校班主任、任课教师、做好学生的思想工作，起到保障作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Times New Roman"/>
              </a:rPr>
              <a:t>■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高三的一年，子女需要有一个温暖和谐的家庭。希望家长在这一年，以孩子的利益为重，不吵架，哪怕是生意上严重的问题（包括感情问题），也不影响子女学习。周末多陪孩子吃饭，关心她的交往。孩子在家时家长少搓麻将，少娱乐活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200" spc="-1" strike="noStrike">
                <a:solidFill>
                  <a:srgbClr val="ff0000"/>
                </a:solidFill>
                <a:latin typeface="Times New Roman"/>
              </a:rPr>
              <a:t>■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既要关心子女的成绩，更要关心子女的思想、生活和学习。生活上要关心、爱护，保证身体健康；思想上要排扰解难，保证集中精力；学习上要积极鼓励。要观察子女微小的变化（如穿着、花费、交流、交往等），加强教育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0000"/>
                </a:solidFill>
                <a:latin typeface="Times New Roman"/>
              </a:rPr>
              <a:t>■</a:t>
            </a:r>
            <a:r>
              <a:rPr b="1" lang="zh-CN" sz="700" spc="-1" strike="noStrike">
                <a:solidFill>
                  <a:srgbClr val="000000"/>
                </a:solidFill>
                <a:latin typeface="Times New Roman"/>
              </a:rPr>
              <a:t>对子女严格要求，要积极配合学校做好子女的教育工作。不过分保护、不过分干涉、不过分期待。手机小灵通和</a:t>
            </a:r>
            <a:r>
              <a:rPr b="1" lang="zh-CN" sz="700" spc="-1" strike="noStrike">
                <a:solidFill>
                  <a:srgbClr val="000000"/>
                </a:solidFill>
                <a:latin typeface="Times New Roman"/>
              </a:rPr>
              <a:t>MP3MP4</a:t>
            </a:r>
            <a:r>
              <a:rPr b="1" lang="zh-CN" sz="700" spc="-1" strike="noStrike">
                <a:solidFill>
                  <a:srgbClr val="000000"/>
                </a:solidFill>
                <a:latin typeface="Times New Roman"/>
              </a:rPr>
              <a:t>的问题；同学之间的关系处理问题；遵守校纪校规</a:t>
            </a:r>
            <a:r>
              <a:rPr b="1" lang="zh-CN" sz="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700" spc="-1" strike="noStrike">
                <a:solidFill>
                  <a:srgbClr val="000000"/>
                </a:solidFill>
                <a:latin typeface="Times New Roman"/>
              </a:rPr>
              <a:t>确保良好的复习迎考氛</a:t>
            </a:r>
            <a:r>
              <a:rPr b="1" lang="zh-CN" sz="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700" spc="-1" strike="noStrike">
                <a:solidFill>
                  <a:srgbClr val="000000"/>
                </a:solidFill>
                <a:latin typeface="Times New Roman"/>
              </a:rPr>
              <a:t>违纪情节严重的，学校将严肃处理</a:t>
            </a:r>
            <a:r>
              <a:rPr b="1" lang="zh-CN" sz="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Times New Roman"/>
              </a:rPr>
              <a:t>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ff0000"/>
                </a:solidFill>
                <a:latin typeface="Times New Roman"/>
              </a:rPr>
              <a:t>■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近期甲流在社会上十分猖獗，家长要教育子女多穿衣服，开窗通风，锻炼身体，不到人多聚集的地方去，防止感冒。同时一旦有这种情况产生，希望家长配合学校积极采取措施，孩子的身体要紧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537-2820-4461-A638-2FBD282F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238-77A1-4345-88C0-A95227F3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AF8-4D81-49BE-86AC-79B43D36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9E5-4F87-42A6-93B9-E558756C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A57-C11B-4D81-A2E1-D5A62267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2DA-DC12-4602-9F5C-696EB1BF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9D9-AB6E-445F-98BB-92A83BFC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19F-404C-426A-96AB-280A7DC5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762-7C4D-4D77-B263-094CD2AD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A56-8B22-485B-AF66-8D0B943D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F01-0C77-4B7A-BF2D-9F6D6EEF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C4C-15EC-40B5-B076-D96C38F8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94FE-AB80-4BB6-ABA6-3CE2FE49C7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1593600">
            <a:off x="1979280" y="3715920"/>
            <a:ext cx="3398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幼圆"/>
              </a:rPr>
              <a:t>爸爸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2997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高二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热  烈  欢  迎</a:t>
            </a:r>
            <a:br>
              <a:rPr sz="7200"/>
            </a:b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学生家长莅临指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394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086600" cy="1050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01800" y="991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样使您的孩子成为您一生的财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38040" y="1915920"/>
            <a:ext cx="2907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一种观念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一种行为。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624816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87880" y="23652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期中考试分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90760" y="34920"/>
            <a:ext cx="3198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目前班级总分前十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16829400">
            <a:off x="5238360" y="3099960"/>
            <a:ext cx="544824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0" y="976320"/>
          <a:ext cx="6372360" cy="569268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  <a:gridCol w="2124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级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俞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丹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谊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钱李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佳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轶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炉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董峰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小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凌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1120" y="69840"/>
            <a:ext cx="4697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级进步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名以上的同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 rot="16829400">
            <a:off x="5238360" y="3099960"/>
            <a:ext cx="544824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324000" y="907920"/>
          <a:ext cx="3024000" cy="4900680"/>
        </p:xfrm>
        <a:graphic>
          <a:graphicData uri="http://schemas.openxmlformats.org/drawingml/2006/table">
            <a:tbl>
              <a:tblPr/>
              <a:tblGrid>
                <a:gridCol w="2016000"/>
                <a:gridCol w="100800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裘嘉诚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施晨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海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盛婉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 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裘艳红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骆依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564000" y="836640"/>
          <a:ext cx="3024000" cy="5600520"/>
        </p:xfrm>
        <a:graphic>
          <a:graphicData uri="http://schemas.openxmlformats.org/drawingml/2006/table">
            <a:tbl>
              <a:tblPr/>
              <a:tblGrid>
                <a:gridCol w="2016000"/>
                <a:gridCol w="100800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依萍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董晨君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章路易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炉航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余炼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俞滢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小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舒晖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33920" y="472428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029200" y="4724280"/>
            <a:ext cx="204480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543800" y="3733920"/>
            <a:ext cx="205740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62120" y="434340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248520" y="5181480"/>
            <a:ext cx="2044440" cy="1676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1295280" y="5257800"/>
            <a:ext cx="204480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2514600" y="5257800"/>
            <a:ext cx="2044800" cy="2209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819520" cy="1714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86400" y="236232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单科班级前十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95280" y="189000"/>
          <a:ext cx="3024360" cy="5922720"/>
        </p:xfrm>
        <a:graphic>
          <a:graphicData uri="http://schemas.openxmlformats.org/drawingml/2006/table">
            <a:tbl>
              <a:tblPr/>
              <a:tblGrid>
                <a:gridCol w="1779480"/>
                <a:gridCol w="1244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施晨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小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盛婉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俞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钱李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丹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依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炉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轶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骆莉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杭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舒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003640" y="260280"/>
          <a:ext cx="3240360" cy="6093000"/>
        </p:xfrm>
        <a:graphic>
          <a:graphicData uri="http://schemas.openxmlformats.org/drawingml/2006/table">
            <a:tbl>
              <a:tblPr/>
              <a:tblGrid>
                <a:gridCol w="1754280"/>
                <a:gridCol w="1486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华晓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杭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丹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董峰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燕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裘嘉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素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谊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袁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152424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55640" y="260280"/>
          <a:ext cx="2881440" cy="6210360"/>
        </p:xfrm>
        <a:graphic>
          <a:graphicData uri="http://schemas.openxmlformats.org/drawingml/2006/table">
            <a:tbl>
              <a:tblPr/>
              <a:tblGrid>
                <a:gridCol w="1660680"/>
                <a:gridCol w="12207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董峰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谊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佳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丹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俞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欧笑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盛云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博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华晓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轶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钱李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148360" y="333360"/>
          <a:ext cx="3097080" cy="6270480"/>
        </p:xfrm>
        <a:graphic>
          <a:graphicData uri="http://schemas.openxmlformats.org/drawingml/2006/table">
            <a:tbl>
              <a:tblPr/>
              <a:tblGrid>
                <a:gridCol w="1549440"/>
                <a:gridCol w="1547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轶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钱李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施晨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谊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董宇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俞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素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佳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盛婉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俞懂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炉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152388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08360" y="1125360"/>
            <a:ext cx="1523880" cy="367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81080" y="22860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2421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234936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31417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257040"/>
          <a:ext cx="3095640" cy="5200920"/>
        </p:xfrm>
        <a:graphic>
          <a:graphicData uri="http://schemas.openxmlformats.org/drawingml/2006/table">
            <a:tbl>
              <a:tblPr/>
              <a:tblGrid>
                <a:gridCol w="1871640"/>
                <a:gridCol w="12240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俞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欧笑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俞懂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佳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谊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素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轶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闻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508720" y="765000"/>
          <a:ext cx="2879640" cy="577872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凌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闻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海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董宇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董晨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炉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盛羚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卢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丹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俞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508720" y="206280"/>
          <a:ext cx="2879640" cy="57780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15920"/>
            <a:ext cx="89996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由考试成绩可以看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对来说，我班学生理科成绩较差。尤其是数学，许多同学感到很吃力，甚至听不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偏科现象严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这次考试后，发现很多同学的总分高不了，究其原因，偏科厉害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于各个方面的原因，很多同学都在这些科目中出现“瘸腿”现象，特别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数学、英语、地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一个同学各科都是全班的前茅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尖子生还不够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很多同学答题不够规范，不够仔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2286000"/>
            <a:ext cx="9540720" cy="944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39640" y="33336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老师的感觉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197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部分同学都很努力、勤奋，可成绩却不理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2276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同学学习效率不高，打疲劳战，所以上课效率上不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500280"/>
            <a:ext cx="81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同学只知道苦学习，用很长的时间想一道题，也不问问身边的同学、老师，太要面子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9546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性格中有些悲观，不太爱说话，不爱回答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3280" y="61628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去办公室问题，不主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害怕老师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086600" cy="1050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112536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尊敬的各位家长</a:t>
            </a:r>
            <a:r>
              <a:rPr b="1" i="1" lang="zh-CN" sz="4000" spc="-1" strike="noStrike">
                <a:solidFill>
                  <a:srgbClr val="00cc00"/>
                </a:solidFill>
                <a:latin typeface="Times New Roman"/>
                <a:ea typeface="华文新魏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213372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首先感谢各位家长在百忙之中抽空来参加家长会，协助并参与我们的教育教学工作。希望通过今天的交流能够让各位家长了解孩子两个月来的学习情况，并努力共同帮助、督促孩子们进步，使他（她）们取得更好的成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77960" y="41508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目前我们班级中存在的问题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7240" y="892800"/>
            <a:ext cx="345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没有明确目标，学习缺乏自觉性，没有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良好学习和生活习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15480" y="2132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自信心严重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36000" y="31392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学习方法不科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55600" y="40010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纪律观念淡薄，违反纪律现象偶有发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28480" y="523944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部分学生责任心不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7400" y="222120"/>
            <a:ext cx="4569840" cy="61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半学期班级工作设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抓学风，促班风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家一起努力形成形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好的学习氛围，努力抓数学、外语、地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切注意学生的思想变化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学生给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更多关心和帮助，促使其在学习和思想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能有较大转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切联系家长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校与家长相互沟通，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的学习，生活情况。做到有问题及时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尽量为学生创造一个良好的竞争的学习环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劳逸结合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学生把压力转变成动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愉快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34640" y="41508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与各位家长就以下问题需要达成共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33440" y="16077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爱自己的孩子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48800" y="278064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 加强沟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1240" y="4365000"/>
            <a:ext cx="38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  关注学生学习的过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需要家长一起配合的工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教育、鼓励子女认真刻苦读书，持之以恒，为自己的人生开辟新的希望之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家庭要全力配合。加强同班主任、任课教师的联系。配合学校班主任、任课教师、做好学生的思想工作，起到保障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女需要有一个温暖和谐的家庭。希望家长，以孩子的利益为重，不吵架，哪怕是生意上严重的问题（包括感情问题），也不影响子女学习。周末多陪孩子吃饭，关心她的交往。孩子在家时家长少搓麻将，少娱乐活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既要关心子女的成绩，更要关心子女的思想、生活和学习。生活上要关心、爱护，保证身体健康；思想上要排扰解难，保证集中精力；学习上要积极鼓励。要观察子女微小的变化（如穿着、花费、交流、交往等），加强教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子女严格要求，要积极配合学校做好子女的教育工作。不过分保护、不过分干涉、不过分期待。手机小灵通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P3MP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问题；同学之间的关系处理问题；遵守校纪校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保良好的复习迎考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违纪情节严重的，学校将严肃处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920" y="227628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周末或假期，子女如有外出，家长必须知去哪里，干什么去，跟谁去的，什么时候回来，家长一定要关注子女在校外的行为，因为小孩的约束能力和辨析能力还需要家长的把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近期甲流在社会上十分猖獗，家长要教育子女多穿衣服，开窗通风，锻炼身体，不到人多聚集的地方去，防止感冒。同时一旦有这种情况产生，希望家长配合学校积极采取措施，孩子的身体要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066680" y="2895480"/>
            <a:ext cx="7010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赠给家长！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00040" y="789480"/>
            <a:ext cx="5813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批评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谴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鼓励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自信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忍耐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耐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表扬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感激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接受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爱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分享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慷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真诚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头脑平静地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70720" y="-87840"/>
            <a:ext cx="1003320" cy="289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华文彩云"/>
              </a:rPr>
              <a:t>赠家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10508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3880" y="609480"/>
            <a:ext cx="7010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676520" y="4876920"/>
            <a:ext cx="6172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??"/>
              </a:rPr>
              <a:t>一起帮助孩子更好学习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??"/>
              </a:rPr>
              <a:t>使之顺利进入理想大学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57480" y="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00"/>
                </a:solidFill>
                <a:latin typeface="Times New Roman"/>
              </a:rPr>
              <a:t>共同的心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086600" cy="1050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50920" y="1197000"/>
            <a:ext cx="8424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孩子——家长一生的财富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086600" cy="1050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95520" y="919800"/>
            <a:ext cx="6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要确定这样一个主题？原因有三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34000" y="1699200"/>
            <a:ext cx="33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很多家长还没有这种意识，把送孩子上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成一种简单的义务，读完高中就算尽到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己的义务了，缺乏投资意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90960" y="3427920"/>
            <a:ext cx="5358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部分家长有这种意识，但片面认为，只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让孩子上了大学，孩子才能成为自己的财富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只关心孩子的学习成绩，对孩子的心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展和思想变化则关心不多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086600" cy="1050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51560" y="158472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孩子的学习成绩不是很好，所以也没指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孩子上大学，只要呆在学校不出事就行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就多赚点钱，保证孩子以后饿不着就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086600" cy="1050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33800" y="907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要说孩子是家长一生的财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3240" y="1556280"/>
            <a:ext cx="131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果你的孩子既孝敬父母，又学习成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很好，您的后半生一定很幸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51440" y="2537280"/>
            <a:ext cx="334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果孩子成绩不是很好，但很孝敬父母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您的后半生也有依靠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99480" y="3572640"/>
            <a:ext cx="383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果孩子成绩很好，但不孝敬父母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您的后半生可能无依无靠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63800" y="4436280"/>
            <a:ext cx="13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果孩子成绩不好，又不孝敬父母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您的后半生肯定没指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086600" cy="1050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57960" y="10515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家长要有投资意识，既要金钱投资，还要感情投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2560" y="1844640"/>
            <a:ext cx="90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在升学和就业压力不断增大的当今社会背景之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孩子们拥有一个健康的心理和强健的体魄，也许比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孩子拥有知识本身更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3429000"/>
            <a:ext cx="572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人才人才，先做人，然后才能成才。孩子们在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校既是学知识，更要学做人；如果能够养成良好的行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习惯，如孝敬父母、遵规守纪、善良、有爱心、有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念、热爱劳动等，将来进入社会后，一定能够自立自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086600" cy="1050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1360" y="906840"/>
            <a:ext cx="554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、对孩子的要求太高，怎样努力也达不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于没有要求；对孩子的要求太低，缺乏压力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力，也等于没有要求。因此家长对孩子的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必须切合他们的实际，是通过努力可以达到的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家长同志们也不能过早地为孩子找到出路，让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们失去追求更高发展的动力与压力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086600" cy="105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62040" y="1195920"/>
            <a:ext cx="5627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、授人以鱼，不如授人以渔。意思是说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给他鱼吃，不如给他一张渔网，教会他打渔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领。现在家长们都忙着赚钱，赚大钱，却忘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一个问题：如果孩子没有教育好，不仅没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知识，反而走上歪路邪道，您赚再多的钱，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何用？最好的做法是不是这样——钱要赚，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更要教育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2:32:3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04:33Z</dcterms:modified>
  <cp:revision>162</cp:revision>
  <dc:subject>主题班会课件(分28大类): http://shop62905894.taobao.com</dc:subject>
  <dc:title>主题班会课件(分28大类): http://shop62905894.taobao.com</dc:title>
</cp:coreProperties>
</file>