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22.wmf" ContentType="image/x-wmf"/>
  <Override PartName="/ppt/media/image8.wmf" ContentType="image/x-wmf"/>
  <Override PartName="/ppt/media/image5.gif" ContentType="image/gif"/>
  <Override PartName="/ppt/media/image4.png" ContentType="image/png"/>
  <Override PartName="/ppt/media/image1.gif" ContentType="image/gif"/>
  <Override PartName="/ppt/media/image7.wmf" ContentType="image/x-wmf"/>
  <Override PartName="/ppt/media/image6.jpeg" ContentType="image/jpeg"/>
  <Override PartName="/ppt/media/image10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15.gif" ContentType="image/gif"/>
  <Override PartName="/ppt/media/image20.png" ContentType="image/png"/>
  <Override PartName="/ppt/media/image3.png" ContentType="image/png"/>
  <Override PartName="/ppt/media/image17.png" ContentType="image/png"/>
  <Override PartName="/ppt/media/image14.gif" ContentType="image/gif"/>
  <Override PartName="/ppt/media/image2.gif" ContentType="image/gif"/>
  <Override PartName="/ppt/media/image11.png" ContentType="image/png"/>
  <Override PartName="/ppt/media/image16.jpeg" ContentType="image/jpeg"/>
  <Override PartName="/ppt/media/image13.gif" ContentType="image/gif"/>
  <Override PartName="/ppt/media/chimes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AB4F-3CED-402C-9447-4876E941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30D-1EAD-4863-9E67-BCC1FD63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E4DE-4889-4751-BB46-72EED51C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F7E-E6C6-4301-94CC-C307228D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3AA3-53FA-4C00-9C16-8E644419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39D-3507-4F45-9B0A-9F7AAA37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D70-92DC-4938-BC9A-BB325B8D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235-8B41-40AD-A8B2-587E2C37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01D-FE0F-45DE-829E-AC68DB48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9D4-170D-4872-AA59-1E851956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5BE-782A-420C-AEE1-97A696A2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F21-6D27-4365-A041-4131E651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E4D6-8423-4CA9-9F24-D3DF8CAF32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383C-287A-439D-8272-B071932EE7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hyperlink" Target="http://www.ziqu.com/bbs/660100/2/4713.html" TargetMode="External"/><Relationship Id="rId5" Type="http://schemas.openxmlformats.org/officeDocument/2006/relationships/image" Target="../media/image14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hyperlink" Target="http://www.ziqu.com/bbs/660100/2/4713.html" TargetMode="External"/><Relationship Id="rId14" Type="http://schemas.openxmlformats.org/officeDocument/2006/relationships/image" Target="../media/image14.gif"/><Relationship Id="rId15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&#38899;&#20048;/&#21160;&#30011;&#38899;&#20048;/&#38646;&#28857;&#20048;&#38431;-&#30456;&#20449;&#33258;&#24049;.swf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010280" y="4800600"/>
            <a:ext cx="1143000" cy="952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热烈欢迎各位家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00200" y="533520"/>
            <a:ext cx="3657600" cy="21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热烈欢迎各位家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8816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者：张中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14600" y="2895480"/>
            <a:ext cx="4648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高二期末家长会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EEAD3-8004-482F-BF9B-165B891FD1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895480" y="277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11480" y="241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87880" y="21337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实现既定目标者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1640" y="4428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光荣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72C58-A5FA-49BF-B066-5C8492873202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95480" y="277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11480" y="241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2205000"/>
            <a:ext cx="6889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三好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59120" y="40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79200"/>
            <a:ext cx="41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光荣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CBADE-E4CD-4A92-A6B2-56F6C5252586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895480" y="277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11480" y="241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84960" y="213372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期末考班级进步显著者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03840" y="40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光荣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361A4-3854-4865-AD50-17A27C337107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057400"/>
            <a:ext cx="9144000" cy="430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62651" dir="1851721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685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家长交流几个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EDA4C-14DC-45E9-86B3-55B372C27C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838080" y="1371600"/>
            <a:ext cx="2028960" cy="482400"/>
            <a:chOff x="838080" y="1371600"/>
            <a:chExt cx="2028960" cy="482400"/>
          </a:xfrm>
        </p:grpSpPr>
        <p:sp>
          <p:nvSpPr>
            <p:cNvPr id="130" name=""/>
            <p:cNvSpPr/>
            <p:nvPr/>
          </p:nvSpPr>
          <p:spPr>
            <a:xfrm>
              <a:off x="957600" y="164952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8080" y="137160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2afb2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838080" y="3581280"/>
            <a:ext cx="2028960" cy="482400"/>
            <a:chOff x="838080" y="3581280"/>
            <a:chExt cx="2028960" cy="482400"/>
          </a:xfrm>
        </p:grpSpPr>
        <p:sp>
          <p:nvSpPr>
            <p:cNvPr id="133" name=""/>
            <p:cNvSpPr/>
            <p:nvPr/>
          </p:nvSpPr>
          <p:spPr>
            <a:xfrm>
              <a:off x="957600" y="3859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581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007878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坚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62120" y="2362320"/>
            <a:ext cx="2028600" cy="482040"/>
            <a:chOff x="762120" y="2362320"/>
            <a:chExt cx="2028600" cy="482040"/>
          </a:xfrm>
        </p:grpSpPr>
        <p:sp>
          <p:nvSpPr>
            <p:cNvPr id="136" name=""/>
            <p:cNvSpPr/>
            <p:nvPr/>
          </p:nvSpPr>
          <p:spPr>
            <a:xfrm>
              <a:off x="881640" y="263988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120" y="236232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78a00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信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838080" y="4648320"/>
            <a:ext cx="2028960" cy="482040"/>
            <a:chOff x="838080" y="4648320"/>
            <a:chExt cx="2028960" cy="482040"/>
          </a:xfrm>
        </p:grpSpPr>
        <p:sp>
          <p:nvSpPr>
            <p:cNvPr id="139" name=""/>
            <p:cNvSpPr/>
            <p:nvPr/>
          </p:nvSpPr>
          <p:spPr>
            <a:xfrm>
              <a:off x="957600" y="49258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464832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282878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方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679920" y="836640"/>
            <a:ext cx="1323720" cy="1320840"/>
            <a:chOff x="3679920" y="836640"/>
            <a:chExt cx="1323720" cy="1320840"/>
          </a:xfrm>
        </p:grpSpPr>
        <p:grpSp>
          <p:nvGrpSpPr>
            <p:cNvPr id="142" name=""/>
            <p:cNvGrpSpPr/>
            <p:nvPr/>
          </p:nvGrpSpPr>
          <p:grpSpPr>
            <a:xfrm>
              <a:off x="3679920" y="836640"/>
              <a:ext cx="1323720" cy="1320840"/>
              <a:chOff x="3679920" y="836640"/>
              <a:chExt cx="1323720" cy="1320840"/>
            </a:xfrm>
          </p:grpSpPr>
          <p:sp>
            <p:nvSpPr>
              <p:cNvPr id="143" name=""/>
              <p:cNvSpPr/>
              <p:nvPr/>
            </p:nvSpPr>
            <p:spPr>
              <a:xfrm>
                <a:off x="3679920" y="83664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714480" y="86328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766680" y="915480"/>
                <a:ext cx="115848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01600" y="94212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816360" y="95904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836520" y="981720"/>
              <a:ext cx="1025640" cy="1026720"/>
            </a:xfrm>
            <a:prstGeom prst="ellipse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909960" y="1044720"/>
            <a:ext cx="879480" cy="885240"/>
            <a:chOff x="3909960" y="1044720"/>
            <a:chExt cx="879480" cy="885240"/>
          </a:xfrm>
        </p:grpSpPr>
        <p:sp>
          <p:nvSpPr>
            <p:cNvPr id="150" name=""/>
            <p:cNvSpPr/>
            <p:nvPr/>
          </p:nvSpPr>
          <p:spPr>
            <a:xfrm>
              <a:off x="3909960" y="1044720"/>
              <a:ext cx="879480" cy="879480"/>
            </a:xfrm>
            <a:prstGeom prst="ellipse">
              <a:avLst/>
            </a:prstGeom>
            <a:noFill/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52760" y="1044720"/>
              <a:ext cx="0" cy="873360"/>
            </a:xfrm>
            <a:prstGeom prst="line">
              <a:avLst/>
            </a:prstGeom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09960" y="148140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11800" y="1050480"/>
              <a:ext cx="182520" cy="8676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13720" y="1056600"/>
              <a:ext cx="197640" cy="873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4279680" y="140904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 rot="16200000">
              <a:off x="4287600" y="902520"/>
              <a:ext cx="11412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025880" y="128592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播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79920" y="2523960"/>
            <a:ext cx="1323720" cy="1320840"/>
            <a:chOff x="3679920" y="2523960"/>
            <a:chExt cx="1323720" cy="1320840"/>
          </a:xfrm>
        </p:grpSpPr>
        <p:grpSp>
          <p:nvGrpSpPr>
            <p:cNvPr id="159" name=""/>
            <p:cNvGrpSpPr/>
            <p:nvPr/>
          </p:nvGrpSpPr>
          <p:grpSpPr>
            <a:xfrm>
              <a:off x="3679920" y="2523960"/>
              <a:ext cx="1323720" cy="1320840"/>
              <a:chOff x="3679920" y="2523960"/>
              <a:chExt cx="1323720" cy="1320840"/>
            </a:xfrm>
          </p:grpSpPr>
          <p:sp>
            <p:nvSpPr>
              <p:cNvPr id="160" name=""/>
              <p:cNvSpPr/>
              <p:nvPr/>
            </p:nvSpPr>
            <p:spPr>
              <a:xfrm>
                <a:off x="3679920" y="252396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714480" y="255060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66680" y="2602800"/>
                <a:ext cx="115848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801600" y="262944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816360" y="264636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836520" y="2669040"/>
              <a:ext cx="1025640" cy="1026720"/>
            </a:xfrm>
            <a:prstGeom prst="ellipse">
              <a:avLst/>
            </a:prstGeom>
            <a:gradFill rotWithShape="0">
              <a:gsLst>
                <a:gs pos="0">
                  <a:srgbClr val="171746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894120" y="2732040"/>
            <a:ext cx="879480" cy="885600"/>
            <a:chOff x="3894120" y="2732040"/>
            <a:chExt cx="879480" cy="885600"/>
          </a:xfrm>
        </p:grpSpPr>
        <p:sp>
          <p:nvSpPr>
            <p:cNvPr id="167" name=""/>
            <p:cNvSpPr/>
            <p:nvPr/>
          </p:nvSpPr>
          <p:spPr>
            <a:xfrm>
              <a:off x="3894120" y="273204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36920" y="273204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94120" y="316872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95960" y="273780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97880" y="274392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4263840" y="309636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6200000">
              <a:off x="4271760" y="2590200"/>
              <a:ext cx="11412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025880" y="297324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耕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679920" y="4202280"/>
            <a:ext cx="1323720" cy="1320480"/>
            <a:chOff x="3679920" y="4202280"/>
            <a:chExt cx="1323720" cy="1320480"/>
          </a:xfrm>
        </p:grpSpPr>
        <p:grpSp>
          <p:nvGrpSpPr>
            <p:cNvPr id="176" name=""/>
            <p:cNvGrpSpPr/>
            <p:nvPr/>
          </p:nvGrpSpPr>
          <p:grpSpPr>
            <a:xfrm>
              <a:off x="3679920" y="4202280"/>
              <a:ext cx="1323720" cy="1320480"/>
              <a:chOff x="3679920" y="4202280"/>
              <a:chExt cx="1323720" cy="1320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679920" y="4202280"/>
                <a:ext cx="1323720" cy="1320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14480" y="4228920"/>
                <a:ext cx="1262160" cy="126720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766680" y="4281120"/>
                <a:ext cx="1158480" cy="11628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01600" y="430776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816360" y="432468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3836520" y="4347360"/>
              <a:ext cx="1025640" cy="10263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894120" y="4410000"/>
            <a:ext cx="879480" cy="885600"/>
            <a:chOff x="3894120" y="4410000"/>
            <a:chExt cx="879480" cy="885600"/>
          </a:xfrm>
        </p:grpSpPr>
        <p:sp>
          <p:nvSpPr>
            <p:cNvPr id="184" name=""/>
            <p:cNvSpPr/>
            <p:nvPr/>
          </p:nvSpPr>
          <p:spPr>
            <a:xfrm>
              <a:off x="3894120" y="441000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36920" y="441000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94120" y="484668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95960" y="441576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97880" y="442188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5400000">
              <a:off x="4263840" y="477432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16200000">
              <a:off x="4271760" y="4268160"/>
              <a:ext cx="11412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025880" y="465120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收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084720" y="692280"/>
            <a:ext cx="1704960" cy="2028240"/>
            <a:chOff x="6084720" y="692280"/>
            <a:chExt cx="1704960" cy="2028240"/>
          </a:xfrm>
        </p:grpSpPr>
        <p:sp>
          <p:nvSpPr>
            <p:cNvPr id="193" name=""/>
            <p:cNvSpPr/>
            <p:nvPr/>
          </p:nvSpPr>
          <p:spPr>
            <a:xfrm rot="20876400">
              <a:off x="6152760" y="1911240"/>
              <a:ext cx="1438200" cy="6663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84720" y="692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05240" y="701640"/>
              <a:ext cx="1665360" cy="1663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22520" y="717480"/>
              <a:ext cx="1584360" cy="15552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14680" y="7617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53920" y="1319040"/>
              <a:ext cx="13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secsi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6095880" y="2895480"/>
            <a:ext cx="2076480" cy="3606840"/>
          </a:xfrm>
          <a:prstGeom prst="rect">
            <a:avLst/>
          </a:prstGeom>
          <a:gradFill rotWithShape="0">
            <a:gsLst>
              <a:gs pos="0">
                <a:srgbClr val="444358"/>
              </a:gs>
              <a:gs pos="100000">
                <a:srgbClr val="9593bf">
                  <a:alpha val="7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86F2D-16B0-4658-8152-8FA0B1288A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95280" y="1828800"/>
            <a:ext cx="87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字典里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对于责任和责任感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它给予了这样的解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责任— 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)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内该做的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没有做好分内的事而应当承担的过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此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两个方面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方面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要去做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另一方面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要做好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685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做个有责任感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54864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带着责任感，制定合理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F5D95-46C4-4EF0-A2D1-9F4702C03F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627280" y="836640"/>
            <a:ext cx="3313080" cy="3600360"/>
          </a:xfrm>
          <a:prstGeom prst="wedgeEllipseCallout">
            <a:avLst>
              <a:gd name="adj1" fmla="val -67490"/>
              <a:gd name="adj2" fmla="val 69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1628640"/>
            <a:ext cx="266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我忘了自己要做什么了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9B8B8-6CA2-4B41-A02F-8D67582FA0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364000" y="2735280"/>
            <a:ext cx="3635640" cy="2133720"/>
          </a:xfrm>
          <a:prstGeom prst="cloudCallout">
            <a:avLst>
              <a:gd name="adj1" fmla="val -46287"/>
              <a:gd name="adj2" fmla="val 7513"/>
            </a:avLst>
          </a:prstGeom>
          <a:solidFill>
            <a:srgbClr val="000000"/>
          </a:solidFill>
          <a:ln cap="rnd"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26028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教会孩子发挥他的想象力，给兔子和乌龟设计第二场甚至第三第四场比赛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3105360" cy="1459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3556080" cy="2482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796000" y="2997360"/>
            <a:ext cx="259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me on, let’s do it again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5084640"/>
            <a:ext cx="21564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0101200">
            <a:off x="4357440" y="4797000"/>
            <a:ext cx="36036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9693800">
            <a:off x="4716000" y="4365360"/>
            <a:ext cx="79236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3038400">
            <a:off x="3926160" y="2997000"/>
            <a:ext cx="144360" cy="144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537200">
            <a:off x="4141440" y="2997000"/>
            <a:ext cx="360360" cy="215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124400">
            <a:off x="4573440" y="3141360"/>
            <a:ext cx="792360" cy="431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8DAC4-60F5-450A-ACBC-977F09F5E4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200" y="0"/>
            <a:ext cx="86868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295280" y="1447920"/>
            <a:ext cx="5334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漂流人生长河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 rot="5400000">
            <a:off x="6514920" y="186696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选择和放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3049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会孩子懂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B9B8D-3460-444E-900E-1C982454EB49}" type="datetime1">
              <a:rPr lang="en-US"/>
              <a:t>07/31/26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55640" y="600120"/>
            <a:ext cx="1123920" cy="942840"/>
            <a:chOff x="755640" y="600120"/>
            <a:chExt cx="1123920" cy="942840"/>
          </a:xfrm>
        </p:grpSpPr>
        <p:sp>
          <p:nvSpPr>
            <p:cNvPr id="222" name=""/>
            <p:cNvSpPr/>
            <p:nvPr/>
          </p:nvSpPr>
          <p:spPr>
            <a:xfrm>
              <a:off x="755640" y="85716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bfbfb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  <a:effectLst>
              <a:outerShdw dist="2556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3160" y="600120"/>
              <a:ext cx="102528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27000" y="947520"/>
              <a:ext cx="403200" cy="49716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1166400" y="779040"/>
              <a:ext cx="30132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973160" y="600120"/>
            <a:ext cx="1123920" cy="942840"/>
            <a:chOff x="1973160" y="600120"/>
            <a:chExt cx="1123920" cy="942840"/>
          </a:xfrm>
        </p:grpSpPr>
        <p:sp>
          <p:nvSpPr>
            <p:cNvPr id="227" name=""/>
            <p:cNvSpPr/>
            <p:nvPr/>
          </p:nvSpPr>
          <p:spPr>
            <a:xfrm>
              <a:off x="1973160" y="85716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bfbfb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  <a:effectLst>
              <a:outerShdw dist="2556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20680" y="600120"/>
              <a:ext cx="102528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44520" y="947520"/>
              <a:ext cx="403200" cy="49716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384280" y="779040"/>
              <a:ext cx="30132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5640" y="1406520"/>
            <a:ext cx="1123920" cy="942840"/>
            <a:chOff x="755640" y="1406520"/>
            <a:chExt cx="1123920" cy="942840"/>
          </a:xfrm>
        </p:grpSpPr>
        <p:sp>
          <p:nvSpPr>
            <p:cNvPr id="232" name=""/>
            <p:cNvSpPr/>
            <p:nvPr/>
          </p:nvSpPr>
          <p:spPr>
            <a:xfrm>
              <a:off x="755640" y="166356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bfbfb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  <a:effectLst>
              <a:outerShdw dist="2556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03160" y="1406520"/>
              <a:ext cx="102528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27000" y="1753920"/>
              <a:ext cx="403200" cy="49716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166400" y="1585800"/>
              <a:ext cx="30132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973160" y="1406520"/>
            <a:ext cx="1123920" cy="942840"/>
            <a:chOff x="1973160" y="1406520"/>
            <a:chExt cx="1123920" cy="942840"/>
          </a:xfrm>
        </p:grpSpPr>
        <p:sp>
          <p:nvSpPr>
            <p:cNvPr id="237" name=""/>
            <p:cNvSpPr/>
            <p:nvPr/>
          </p:nvSpPr>
          <p:spPr>
            <a:xfrm>
              <a:off x="1973160" y="166356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bfbfb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  <a:effectLst>
              <a:outerShdw dist="2556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20680" y="1406520"/>
              <a:ext cx="102528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44520" y="1753920"/>
              <a:ext cx="403200" cy="49716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84280" y="1585800"/>
              <a:ext cx="30132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148360" y="476280"/>
            <a:ext cx="2818800" cy="2819160"/>
            <a:chOff x="5148360" y="476280"/>
            <a:chExt cx="2818800" cy="2819160"/>
          </a:xfrm>
        </p:grpSpPr>
        <p:grpSp>
          <p:nvGrpSpPr>
            <p:cNvPr id="242" name=""/>
            <p:cNvGrpSpPr/>
            <p:nvPr/>
          </p:nvGrpSpPr>
          <p:grpSpPr>
            <a:xfrm>
              <a:off x="5983920" y="476280"/>
              <a:ext cx="1147320" cy="938520"/>
              <a:chOff x="5983920" y="476280"/>
              <a:chExt cx="1147320" cy="93852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5983920" y="476280"/>
                <a:ext cx="1147320" cy="938520"/>
                <a:chOff x="5983920" y="476280"/>
                <a:chExt cx="1147320" cy="9385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993280" y="49212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983920" y="47628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050520" y="531720"/>
                  <a:ext cx="1000440" cy="811800"/>
                </a:xfrm>
                <a:prstGeom prst="hexagon">
                  <a:avLst>
                    <a:gd name="adj" fmla="val 30809"/>
                    <a:gd name="vf" fmla="val 115470"/>
                  </a:avLst>
                </a:prstGeom>
                <a:gradFill rotWithShape="0">
                  <a:gsLst>
                    <a:gs pos="0">
                      <a:srgbClr val="2614aa"/>
                    </a:gs>
                    <a:gs pos="100000">
                      <a:srgbClr val="7262ec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6231600" y="7398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5148360" y="944280"/>
              <a:ext cx="1148040" cy="938520"/>
              <a:chOff x="5148360" y="944280"/>
              <a:chExt cx="1148040" cy="93852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5148360" y="944280"/>
                <a:ext cx="1148040" cy="938520"/>
                <a:chOff x="5148360" y="944280"/>
                <a:chExt cx="1148040" cy="9385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57720" y="960120"/>
                  <a:ext cx="1138680" cy="922680"/>
                </a:xfrm>
                <a:prstGeom prst="hexagon">
                  <a:avLst>
                    <a:gd name="adj" fmla="val 3085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148360" y="944280"/>
                  <a:ext cx="1138680" cy="922680"/>
                </a:xfrm>
                <a:prstGeom prst="hexagon">
                  <a:avLst>
                    <a:gd name="adj" fmla="val 308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214960" y="999720"/>
                  <a:ext cx="1000800" cy="811800"/>
                </a:xfrm>
                <a:prstGeom prst="hexagon">
                  <a:avLst>
                    <a:gd name="adj" fmla="val 30820"/>
                    <a:gd name="vf" fmla="val 115470"/>
                  </a:avLst>
                </a:prstGeom>
                <a:gradFill rotWithShape="0">
                  <a:gsLst>
                    <a:gs pos="0">
                      <a:srgbClr val="115d16"/>
                    </a:gs>
                    <a:gs pos="100000">
                      <a:srgbClr val="24b443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"/>
              <p:cNvSpPr/>
              <p:nvPr/>
            </p:nvSpPr>
            <p:spPr>
              <a:xfrm>
                <a:off x="5403240" y="12016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5983920" y="1415160"/>
              <a:ext cx="1147680" cy="938520"/>
              <a:chOff x="5983920" y="1415160"/>
              <a:chExt cx="1147680" cy="9385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5983920" y="1415160"/>
                <a:ext cx="1147680" cy="938520"/>
                <a:chOff x="5983920" y="1415160"/>
                <a:chExt cx="1147680" cy="9385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993640" y="143100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983920" y="141516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050520" y="1470600"/>
                  <a:ext cx="1000080" cy="811800"/>
                </a:xfrm>
                <a:prstGeom prst="hexagon">
                  <a:avLst>
                    <a:gd name="adj" fmla="val 30798"/>
                    <a:gd name="vf" fmla="val 115470"/>
                  </a:avLst>
                </a:prstGeom>
                <a:gradFill rotWithShape="0">
                  <a:gsLst>
                    <a:gs pos="0">
                      <a:srgbClr val="844820"/>
                    </a:gs>
                    <a:gs pos="100000">
                      <a:srgbClr val="cc7032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6212160" y="16833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818760" y="944280"/>
              <a:ext cx="1148040" cy="938520"/>
              <a:chOff x="6818760" y="944280"/>
              <a:chExt cx="1148040" cy="93852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6818760" y="944280"/>
                <a:ext cx="1148040" cy="938520"/>
                <a:chOff x="6818760" y="944280"/>
                <a:chExt cx="1148040" cy="9385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828120" y="960120"/>
                  <a:ext cx="1138680" cy="922680"/>
                </a:xfrm>
                <a:prstGeom prst="hexagon">
                  <a:avLst>
                    <a:gd name="adj" fmla="val 3085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818760" y="944280"/>
                  <a:ext cx="1138680" cy="922680"/>
                </a:xfrm>
                <a:prstGeom prst="hexagon">
                  <a:avLst>
                    <a:gd name="adj" fmla="val 308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885360" y="999720"/>
                  <a:ext cx="1000800" cy="811800"/>
                </a:xfrm>
                <a:prstGeom prst="hexagon">
                  <a:avLst>
                    <a:gd name="adj" fmla="val 30820"/>
                    <a:gd name="vf" fmla="val 115470"/>
                  </a:avLst>
                </a:prstGeom>
                <a:gradFill rotWithShape="0">
                  <a:gsLst>
                    <a:gs pos="0">
                      <a:srgbClr val="85b9c3"/>
                    </a:gs>
                    <a:gs pos="100000">
                      <a:srgbClr val="3d5559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7073640" y="12142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818760" y="1886040"/>
              <a:ext cx="1148400" cy="938520"/>
              <a:chOff x="6818760" y="1886040"/>
              <a:chExt cx="1148400" cy="93852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818760" y="1886040"/>
                <a:ext cx="1148400" cy="938520"/>
                <a:chOff x="6818760" y="1886040"/>
                <a:chExt cx="1148400" cy="938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828480" y="1901880"/>
                  <a:ext cx="1138680" cy="922680"/>
                </a:xfrm>
                <a:prstGeom prst="hexagon">
                  <a:avLst>
                    <a:gd name="adj" fmla="val 3085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818760" y="1886040"/>
                  <a:ext cx="1138680" cy="922680"/>
                </a:xfrm>
                <a:prstGeom prst="hexagon">
                  <a:avLst>
                    <a:gd name="adj" fmla="val 308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85360" y="1941480"/>
                  <a:ext cx="1000800" cy="811800"/>
                </a:xfrm>
                <a:prstGeom prst="hexagon">
                  <a:avLst>
                    <a:gd name="adj" fmla="val 30820"/>
                    <a:gd name="vf" fmla="val 115470"/>
                  </a:avLst>
                </a:prstGeom>
                <a:gradFill rotWithShape="0">
                  <a:gsLst>
                    <a:gs pos="0">
                      <a:srgbClr val="4dc9b1"/>
                    </a:gs>
                    <a:gs pos="100000">
                      <a:srgbClr val="235c51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7088760" y="2187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148360" y="1886040"/>
              <a:ext cx="1148400" cy="938520"/>
              <a:chOff x="5148360" y="1886040"/>
              <a:chExt cx="1148400" cy="9385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5148360" y="1886040"/>
                <a:ext cx="1148400" cy="938520"/>
                <a:chOff x="5148360" y="1886040"/>
                <a:chExt cx="1148400" cy="9385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158080" y="1901880"/>
                  <a:ext cx="1138680" cy="922680"/>
                </a:xfrm>
                <a:prstGeom prst="hexagon">
                  <a:avLst>
                    <a:gd name="adj" fmla="val 3085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148360" y="1886040"/>
                  <a:ext cx="1138680" cy="922680"/>
                </a:xfrm>
                <a:prstGeom prst="hexagon">
                  <a:avLst>
                    <a:gd name="adj" fmla="val 308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214960" y="1941480"/>
                  <a:ext cx="1000800" cy="811800"/>
                </a:xfrm>
                <a:prstGeom prst="hexagon">
                  <a:avLst>
                    <a:gd name="adj" fmla="val 30820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5403240" y="21412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5983920" y="2356920"/>
              <a:ext cx="1147680" cy="938520"/>
              <a:chOff x="5983920" y="2356920"/>
              <a:chExt cx="1147680" cy="93852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5983920" y="2356920"/>
                <a:ext cx="1147680" cy="938520"/>
                <a:chOff x="5983920" y="2356920"/>
                <a:chExt cx="1147680" cy="9385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993640" y="237276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983920" y="235692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050520" y="2412360"/>
                  <a:ext cx="1000080" cy="811800"/>
                </a:xfrm>
                <a:prstGeom prst="hexagon">
                  <a:avLst>
                    <a:gd name="adj" fmla="val 30798"/>
                    <a:gd name="vf" fmla="val 115470"/>
                  </a:avLst>
                </a:prstGeom>
                <a:gradFill rotWithShape="0">
                  <a:gsLst>
                    <a:gs pos="0">
                      <a:srgbClr val="bfaa4f"/>
                    </a:gs>
                    <a:gs pos="100000">
                      <a:srgbClr val="584e24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6234480" y="26269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6588000" y="5734080"/>
            <a:ext cx="555840" cy="688680"/>
            <a:chOff x="6588000" y="5734080"/>
            <a:chExt cx="555840" cy="688680"/>
          </a:xfrm>
        </p:grpSpPr>
        <p:sp>
          <p:nvSpPr>
            <p:cNvPr id="285" name=""/>
            <p:cNvSpPr/>
            <p:nvPr/>
          </p:nvSpPr>
          <p:spPr>
            <a:xfrm>
              <a:off x="6792840" y="5734080"/>
              <a:ext cx="145440" cy="141840"/>
            </a:xfrm>
            <a:prstGeom prst="ellipse">
              <a:avLst/>
            </a:pr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88000" y="5754600"/>
              <a:ext cx="555840" cy="66816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787640" y="5518080"/>
            <a:ext cx="641160" cy="942840"/>
            <a:chOff x="4787640" y="5518080"/>
            <a:chExt cx="641160" cy="942840"/>
          </a:xfrm>
        </p:grpSpPr>
        <p:sp>
          <p:nvSpPr>
            <p:cNvPr id="288" name=""/>
            <p:cNvSpPr/>
            <p:nvPr/>
          </p:nvSpPr>
          <p:spPr>
            <a:xfrm flipH="1">
              <a:off x="5019480" y="5518080"/>
              <a:ext cx="172800" cy="196560"/>
            </a:xfrm>
            <a:prstGeom prst="ellipse">
              <a:avLst/>
            </a:prstGeom>
            <a:gradFill rotWithShape="0">
              <a:gsLst>
                <a:gs pos="0">
                  <a:srgbClr val="53a5ff"/>
                </a:gs>
                <a:gs pos="100000">
                  <a:srgbClr val="478d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4787280" y="5709960"/>
              <a:ext cx="641160" cy="7509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3a5ff"/>
                </a:gs>
                <a:gs pos="100000">
                  <a:srgbClr val="478d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651640" y="5518080"/>
            <a:ext cx="612720" cy="901800"/>
            <a:chOff x="5651640" y="5518080"/>
            <a:chExt cx="612720" cy="901800"/>
          </a:xfrm>
        </p:grpSpPr>
        <p:sp>
          <p:nvSpPr>
            <p:cNvPr id="291" name=""/>
            <p:cNvSpPr/>
            <p:nvPr/>
          </p:nvSpPr>
          <p:spPr>
            <a:xfrm>
              <a:off x="5651640" y="5699160"/>
              <a:ext cx="612720" cy="72072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db658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78440" y="5518080"/>
              <a:ext cx="162000" cy="185760"/>
            </a:xfrm>
            <a:prstGeom prst="ellipse">
              <a:avLst/>
            </a:prstGeom>
            <a:gradFill rotWithShape="0">
              <a:gsLst>
                <a:gs pos="0">
                  <a:srgbClr val="fdb658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403280" y="2852640"/>
            <a:ext cx="1842840" cy="1843200"/>
            <a:chOff x="1403280" y="2852640"/>
            <a:chExt cx="1842840" cy="1843200"/>
          </a:xfrm>
        </p:grpSpPr>
        <p:sp>
          <p:nvSpPr>
            <p:cNvPr id="294" name=""/>
            <p:cNvSpPr/>
            <p:nvPr/>
          </p:nvSpPr>
          <p:spPr>
            <a:xfrm>
              <a:off x="1403280" y="2852640"/>
              <a:ext cx="1842840" cy="1843200"/>
            </a:xfrm>
            <a:prstGeom prst="diamond">
              <a:avLst/>
            </a:prstGeom>
            <a:solidFill>
              <a:srgbClr val="08926b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a83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95400" y="2889360"/>
              <a:ext cx="85716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9f5c4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1888920" y="4208400"/>
              <a:ext cx="857160" cy="432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34331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643040" y="3286080"/>
            <a:ext cx="13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学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168640" y="3936960"/>
            <a:ext cx="567720" cy="453960"/>
            <a:chOff x="2168640" y="3936960"/>
            <a:chExt cx="567720" cy="453960"/>
          </a:xfrm>
        </p:grpSpPr>
        <p:sp>
          <p:nvSpPr>
            <p:cNvPr id="299" name=""/>
            <p:cNvSpPr/>
            <p:nvPr/>
          </p:nvSpPr>
          <p:spPr>
            <a:xfrm>
              <a:off x="2580120" y="3936960"/>
              <a:ext cx="156240" cy="15732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89600" y="4025520"/>
              <a:ext cx="367200" cy="3070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89600" y="3936960"/>
              <a:ext cx="306720" cy="31896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50080" y="4078080"/>
              <a:ext cx="378000" cy="25452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96720" y="4163040"/>
              <a:ext cx="216720" cy="2196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68640" y="4346640"/>
              <a:ext cx="52200" cy="4428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000000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207520" y="4251600"/>
              <a:ext cx="88560" cy="96840"/>
            </a:xfrm>
            <a:prstGeom prst="line">
              <a:avLst/>
            </a:prstGeom>
            <a:ln w="936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219400" y="4329000"/>
              <a:ext cx="134280" cy="45360"/>
            </a:xfrm>
            <a:prstGeom prst="line">
              <a:avLst/>
            </a:prstGeom>
            <a:ln w="936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507200">
              <a:off x="2636640" y="3989160"/>
              <a:ext cx="57960" cy="36000"/>
            </a:xfrm>
            <a:prstGeom prst="ellipse">
              <a:avLst/>
            </a:prstGeom>
            <a:solidFill>
              <a:srgbClr val="ffffff">
                <a:alpha val="26000"/>
              </a:srgbClr>
            </a:solidFill>
            <a:ln w="9360">
              <a:solidFill>
                <a:srgbClr val="0000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33440" y="3817800"/>
            <a:ext cx="1842840" cy="1843200"/>
            <a:chOff x="433440" y="3817800"/>
            <a:chExt cx="1842840" cy="1843200"/>
          </a:xfrm>
        </p:grpSpPr>
        <p:sp>
          <p:nvSpPr>
            <p:cNvPr id="309" name=""/>
            <p:cNvSpPr/>
            <p:nvPr/>
          </p:nvSpPr>
          <p:spPr>
            <a:xfrm>
              <a:off x="433440" y="3817800"/>
              <a:ext cx="1842840" cy="1843200"/>
            </a:xfrm>
            <a:prstGeom prst="diamond">
              <a:avLst/>
            </a:prstGeom>
            <a:solidFill>
              <a:srgbClr val="085092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a83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25560" y="3854520"/>
              <a:ext cx="85716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ce6ef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919080" y="5173560"/>
              <a:ext cx="857160" cy="432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32443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392200" y="3851280"/>
            <a:ext cx="1828440" cy="1800000"/>
            <a:chOff x="2392200" y="3851280"/>
            <a:chExt cx="1828440" cy="1800000"/>
          </a:xfrm>
        </p:grpSpPr>
        <p:sp>
          <p:nvSpPr>
            <p:cNvPr id="313" name=""/>
            <p:cNvSpPr/>
            <p:nvPr/>
          </p:nvSpPr>
          <p:spPr>
            <a:xfrm>
              <a:off x="2392200" y="3851280"/>
              <a:ext cx="1828440" cy="1800000"/>
            </a:xfrm>
            <a:prstGeom prst="diamond">
              <a:avLst/>
            </a:prstGeom>
            <a:solidFill>
              <a:srgbClr val="5a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a83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68840" y="3888000"/>
              <a:ext cx="875160" cy="4453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0ead1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2874960" y="5175000"/>
              <a:ext cx="848520" cy="421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294303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768240" y="42879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学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85960" y="4255920"/>
            <a:ext cx="12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社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89200" y="5627520"/>
            <a:ext cx="10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127160" y="4975200"/>
            <a:ext cx="393840" cy="397080"/>
            <a:chOff x="1127160" y="4975200"/>
            <a:chExt cx="393840" cy="397080"/>
          </a:xfrm>
        </p:grpSpPr>
        <p:sp>
          <p:nvSpPr>
            <p:cNvPr id="320" name=""/>
            <p:cNvSpPr/>
            <p:nvPr/>
          </p:nvSpPr>
          <p:spPr>
            <a:xfrm>
              <a:off x="1127160" y="4975200"/>
              <a:ext cx="393840" cy="394560"/>
            </a:xfrm>
            <a:prstGeom prst="ellipse">
              <a:avLst/>
            </a:prstGeom>
            <a:noFill/>
            <a:ln w="190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25520" y="4975200"/>
              <a:ext cx="0" cy="391680"/>
            </a:xfrm>
            <a:prstGeom prst="line">
              <a:avLst/>
            </a:prstGeom>
            <a:ln w="190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27160" y="5171040"/>
              <a:ext cx="393840" cy="0"/>
            </a:xfrm>
            <a:prstGeom prst="line">
              <a:avLst/>
            </a:prstGeom>
            <a:ln w="190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51800" y="4977720"/>
              <a:ext cx="81720" cy="3891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8240" y="4980600"/>
              <a:ext cx="88560" cy="39168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5400000">
              <a:off x="1292040" y="5138280"/>
              <a:ext cx="51120" cy="2934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 rot="16200000">
              <a:off x="1296360" y="4911840"/>
              <a:ext cx="51120" cy="2937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005280" y="4938840"/>
            <a:ext cx="603000" cy="384120"/>
            <a:chOff x="3005280" y="4938840"/>
            <a:chExt cx="603000" cy="384120"/>
          </a:xfrm>
        </p:grpSpPr>
        <p:grpSp>
          <p:nvGrpSpPr>
            <p:cNvPr id="328" name=""/>
            <p:cNvGrpSpPr/>
            <p:nvPr/>
          </p:nvGrpSpPr>
          <p:grpSpPr>
            <a:xfrm>
              <a:off x="3005280" y="4938840"/>
              <a:ext cx="603000" cy="384120"/>
              <a:chOff x="3005280" y="4938840"/>
              <a:chExt cx="603000" cy="384120"/>
            </a:xfrm>
          </p:grpSpPr>
          <p:sp>
            <p:nvSpPr>
              <p:cNvPr id="329" name=""/>
              <p:cNvSpPr/>
              <p:nvPr/>
            </p:nvSpPr>
            <p:spPr>
              <a:xfrm>
                <a:off x="3005280" y="4938840"/>
                <a:ext cx="603000" cy="384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00">
                  <a:alpha val="24000"/>
                </a:srgbClr>
              </a:solidFill>
              <a:ln w="1908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34320" y="5101560"/>
                <a:ext cx="263880" cy="21024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030840" y="5069160"/>
                <a:ext cx="310320" cy="168480"/>
              </a:xfrm>
              <a:prstGeom prst="line">
                <a:avLst/>
              </a:prstGeom>
              <a:ln w="19080">
                <a:solidFill>
                  <a:srgbClr val="ffffff">
                    <a:alpha val="3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428640" y="5224320"/>
              <a:ext cx="59040" cy="540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>
                <a:alpha val="24000"/>
              </a:srgbClr>
            </a:solidFill>
            <a:ln w="19080">
              <a:solidFill>
                <a:srgbClr val="000000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130480" y="5178600"/>
            <a:ext cx="358560" cy="390240"/>
            <a:chOff x="2130480" y="5178600"/>
            <a:chExt cx="358560" cy="390240"/>
          </a:xfrm>
        </p:grpSpPr>
        <p:sp>
          <p:nvSpPr>
            <p:cNvPr id="334" name=""/>
            <p:cNvSpPr/>
            <p:nvPr/>
          </p:nvSpPr>
          <p:spPr>
            <a:xfrm>
              <a:off x="2273040" y="5178600"/>
              <a:ext cx="58680" cy="56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84840" y="5333040"/>
              <a:ext cx="83160" cy="7992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41080" y="5272560"/>
              <a:ext cx="61920" cy="594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209320" y="552708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26960" y="5412600"/>
              <a:ext cx="0" cy="11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257560" y="5315400"/>
              <a:ext cx="92880" cy="2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2316240" y="5225040"/>
              <a:ext cx="36360" cy="4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45480" y="523152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5000" y="5392800"/>
              <a:ext cx="49680" cy="4752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4640" y="5331600"/>
              <a:ext cx="15120" cy="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2403000" y="5249880"/>
              <a:ext cx="46080" cy="39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0480" y="5269320"/>
              <a:ext cx="4320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55680" y="5306400"/>
              <a:ext cx="3672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2329920" y="5426640"/>
              <a:ext cx="67320" cy="1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00040" y="542808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24240" y="5434560"/>
              <a:ext cx="15120" cy="1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31080" y="545760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488960" y="4808520"/>
            <a:ext cx="1739880" cy="1736640"/>
            <a:chOff x="1488960" y="4808520"/>
            <a:chExt cx="1739880" cy="1736640"/>
          </a:xfrm>
        </p:grpSpPr>
        <p:sp>
          <p:nvSpPr>
            <p:cNvPr id="352" name=""/>
            <p:cNvSpPr/>
            <p:nvPr/>
          </p:nvSpPr>
          <p:spPr>
            <a:xfrm>
              <a:off x="1488960" y="4808520"/>
              <a:ext cx="1739880" cy="1736640"/>
            </a:xfrm>
            <a:prstGeom prst="diamond">
              <a:avLst/>
            </a:prstGeom>
            <a:solidFill>
              <a:srgbClr val="95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a83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53360" y="4843080"/>
              <a:ext cx="808920" cy="406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4e4c3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1947240" y="6085800"/>
              <a:ext cx="808920" cy="406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44303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906560" y="5313240"/>
            <a:ext cx="9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家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205720" y="5851440"/>
            <a:ext cx="483120" cy="378000"/>
            <a:chOff x="2205720" y="5851440"/>
            <a:chExt cx="483120" cy="378000"/>
          </a:xfrm>
        </p:grpSpPr>
        <p:sp>
          <p:nvSpPr>
            <p:cNvPr id="357" name=""/>
            <p:cNvSpPr/>
            <p:nvPr/>
          </p:nvSpPr>
          <p:spPr>
            <a:xfrm rot="1584000">
              <a:off x="2260080" y="5915520"/>
              <a:ext cx="182520" cy="288000"/>
            </a:xfrm>
            <a:custGeom>
              <a:avLst/>
              <a:gdLst/>
              <a:ahLst/>
              <a:rect l="l" t="t" r="r" b="b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noFill/>
            <a:ln w="19080">
              <a:solidFill>
                <a:srgbClr val="ffffff">
                  <a:alpha val="5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00760" y="5956560"/>
              <a:ext cx="163440" cy="80640"/>
            </a:xfrm>
            <a:prstGeom prst="line">
              <a:avLst/>
            </a:prstGeom>
            <a:ln w="19080">
              <a:solidFill>
                <a:srgbClr val="000000">
                  <a:alpha val="5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2384280" y="5931720"/>
              <a:ext cx="33120" cy="66240"/>
            </a:xfrm>
            <a:prstGeom prst="line">
              <a:avLst/>
            </a:prstGeom>
            <a:ln w="19080">
              <a:solidFill>
                <a:srgbClr val="000000">
                  <a:alpha val="5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15240" y="5851440"/>
              <a:ext cx="273600" cy="196920"/>
            </a:xfrm>
            <a:custGeom>
              <a:avLst/>
              <a:gdLst/>
              <a:ahLst/>
              <a:rect l="l" t="t" r="r" b="b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19080">
              <a:solidFill>
                <a:srgbClr val="000000">
                  <a:alpha val="5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7093080" y="3500280"/>
            <a:ext cx="790560" cy="1976400"/>
            <a:chOff x="7093080" y="3500280"/>
            <a:chExt cx="790560" cy="1976400"/>
          </a:xfrm>
        </p:grpSpPr>
        <p:sp>
          <p:nvSpPr>
            <p:cNvPr id="362" name=""/>
            <p:cNvSpPr/>
            <p:nvPr/>
          </p:nvSpPr>
          <p:spPr>
            <a:xfrm>
              <a:off x="7285320" y="350028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93080" y="394632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8007480" y="3500280"/>
            <a:ext cx="790560" cy="1976400"/>
            <a:chOff x="8007480" y="3500280"/>
            <a:chExt cx="790560" cy="1976400"/>
          </a:xfrm>
        </p:grpSpPr>
        <p:sp>
          <p:nvSpPr>
            <p:cNvPr id="365" name=""/>
            <p:cNvSpPr/>
            <p:nvPr/>
          </p:nvSpPr>
          <p:spPr>
            <a:xfrm>
              <a:off x="8199720" y="350028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07480" y="394632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371600" y="10666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信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CB62F-D33B-403B-8AE1-27AD69E9FA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999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999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005252"/>
              </a:gs>
              <a:gs pos="50000">
                <a:srgbClr val="009999"/>
              </a:gs>
              <a:gs pos="100000">
                <a:srgbClr val="0052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009999">
                  <a:alpha val="0"/>
                </a:srgbClr>
              </a:gs>
              <a:gs pos="100000">
                <a:srgbClr val="00606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cc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cc0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526d00"/>
              </a:gs>
              <a:gs pos="50000">
                <a:srgbClr val="99cc00"/>
              </a:gs>
              <a:gs pos="100000">
                <a:srgbClr val="526d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514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6081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219320" y="2666880"/>
            <a:ext cx="1503360" cy="1511280"/>
            <a:chOff x="1219320" y="2666880"/>
            <a:chExt cx="1503360" cy="1511280"/>
          </a:xfrm>
        </p:grpSpPr>
        <p:sp>
          <p:nvSpPr>
            <p:cNvPr id="59" name=""/>
            <p:cNvSpPr/>
            <p:nvPr/>
          </p:nvSpPr>
          <p:spPr>
            <a:xfrm>
              <a:off x="1219320" y="266688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38040" y="267516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53880" y="268956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35600" y="272844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be0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64787a"/>
              </a:gs>
              <a:gs pos="50000">
                <a:srgbClr val="bbe0e3"/>
              </a:gs>
              <a:gs pos="100000">
                <a:srgbClr val="64787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768d8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733920" y="2666880"/>
            <a:ext cx="1503360" cy="1511280"/>
            <a:chOff x="3733920" y="2666880"/>
            <a:chExt cx="1503360" cy="1511280"/>
          </a:xfrm>
        </p:grpSpPr>
        <p:sp>
          <p:nvSpPr>
            <p:cNvPr id="69" name=""/>
            <p:cNvSpPr/>
            <p:nvPr/>
          </p:nvSpPr>
          <p:spPr>
            <a:xfrm>
              <a:off x="3733920" y="266688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52640" y="267516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68480" y="268956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50200" y="272844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74" name="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91360" y="2686320"/>
              <a:ext cx="14688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371600" y="3181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期中后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00120" y="3181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期末成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81800" y="3218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家长交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48320-6F88-4CD5-996F-353F10A8E1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71640" y="3212640"/>
            <a:ext cx="2520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行楷"/>
              </a:rPr>
              <a:t>今天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：</a:t>
            </a:r>
            <a:br>
              <a:rPr sz="44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我们站在同一起跑线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1181160" cy="8571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5940360" y="3357720"/>
            <a:ext cx="1181160" cy="8571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4140360" y="260280"/>
            <a:ext cx="1180800" cy="8571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6877080" y="4941720"/>
            <a:ext cx="1181160" cy="8575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4500720" y="907920"/>
            <a:ext cx="1657080" cy="10224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6"/>
          <a:stretch/>
        </p:blipFill>
        <p:spPr>
          <a:xfrm>
            <a:off x="5364000" y="2492280"/>
            <a:ext cx="1586160" cy="9781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6300720" y="4149720"/>
            <a:ext cx="1513080" cy="9320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8"/>
          <a:stretch/>
        </p:blipFill>
        <p:spPr>
          <a:xfrm>
            <a:off x="7236000" y="5589720"/>
            <a:ext cx="1657080" cy="1020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995640" y="476280"/>
            <a:ext cx="3529080" cy="638172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292720" y="5661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43640" y="33336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164360" y="249228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95640" y="112536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067280" y="321300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97040" y="70358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26920" y="21337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677000" y="4076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93080" y="54936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88000" y="8366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677000" y="126828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37EA7-98F0-4655-BB03-7AC225A29EC5}" type="datetime1">
              <a:rPr lang="en-US"/>
              <a:t>07/31/26</a:t>
            </a:fld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mingb161.gif (6652 bytes)"/>
          <p:cNvPicPr/>
          <p:nvPr/>
        </p:nvPicPr>
        <p:blipFill>
          <a:blip r:embed="rId1"/>
          <a:stretch/>
        </p:blipFill>
        <p:spPr>
          <a:xfrm>
            <a:off x="0" y="0"/>
            <a:ext cx="1992240" cy="16668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我正在到达成功的途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 rot="411600">
            <a:off x="8316720" y="587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2421000"/>
            <a:ext cx="1176480" cy="11761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258920" y="220500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052720" y="141300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5280" y="2852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237440" y="292428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1280" y="443700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21440" y="5877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661080" y="1628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29080" y="15559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84360" y="33559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84360" y="2637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708360" y="494028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65800" y="4653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43280" y="400356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258920" y="573408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6"/>
          <a:stretch/>
        </p:blipFill>
        <p:spPr>
          <a:xfrm>
            <a:off x="7380360" y="83664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7"/>
          <a:stretch/>
        </p:blipFill>
        <p:spPr>
          <a:xfrm>
            <a:off x="1692360" y="436572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8"/>
          <a:stretch/>
        </p:blipFill>
        <p:spPr>
          <a:xfrm rot="1111800">
            <a:off x="5292720" y="530028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9"/>
          <a:stretch/>
        </p:blipFill>
        <p:spPr>
          <a:xfrm>
            <a:off x="6516720" y="220500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10"/>
          <a:stretch/>
        </p:blipFill>
        <p:spPr>
          <a:xfrm rot="1181400">
            <a:off x="5866920" y="4005360"/>
            <a:ext cx="1187640" cy="11872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1"/>
          <a:stretch/>
        </p:blipFill>
        <p:spPr>
          <a:xfrm rot="1466400">
            <a:off x="7667280" y="364500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2"/>
          <a:stretch/>
        </p:blipFill>
        <p:spPr>
          <a:xfrm rot="1519800">
            <a:off x="3276360" y="3789000"/>
            <a:ext cx="1187280" cy="118728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684360" y="765000"/>
            <a:ext cx="539640" cy="360360"/>
            <a:chOff x="684360" y="765000"/>
            <a:chExt cx="539640" cy="360360"/>
          </a:xfrm>
        </p:grpSpPr>
        <p:sp>
          <p:nvSpPr>
            <p:cNvPr id="416" name=""/>
            <p:cNvSpPr/>
            <p:nvPr/>
          </p:nvSpPr>
          <p:spPr>
            <a:xfrm>
              <a:off x="719280" y="765000"/>
              <a:ext cx="468360" cy="3603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46440 h 360360"/>
                <a:gd name="textAreaBottom" fmla="*/ 3139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4360" y="76500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00"/>
                  </a:solidFill>
                  <a:latin typeface="Arial"/>
                </a:rPr>
                <a:t>成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771640" y="5681520"/>
            <a:ext cx="1176480" cy="11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E83AE-6447-4B10-B697-6055DF05CC3D}" type="datetime1">
              <a:rPr lang="en-US"/>
              <a:t>07/31/26</a:t>
            </a:fld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13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隶书"/>
              </a:rPr>
              <a:t>但，成功，离我们还很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D34C9-80A4-4AB2-9D54-AF3E8A5223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在到达成功的终点之前，</a:t>
            </a:r>
            <a:br>
              <a:rPr sz="4400"/>
            </a:b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我们要一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 flipH="1">
            <a:off x="826560" y="2133720"/>
            <a:ext cx="1116360" cy="6858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 flipH="1">
            <a:off x="5940360" y="1557360"/>
            <a:ext cx="2160720" cy="13050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 flipH="1">
            <a:off x="1331640" y="4797360"/>
            <a:ext cx="1152360" cy="6858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 flipH="1">
            <a:off x="7092720" y="4365720"/>
            <a:ext cx="1081080" cy="6858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 flipH="1">
            <a:off x="1116000" y="3233880"/>
            <a:ext cx="1728720" cy="8334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6"/>
          <a:stretch/>
        </p:blipFill>
        <p:spPr>
          <a:xfrm flipH="1">
            <a:off x="3203640" y="1844640"/>
            <a:ext cx="1800000" cy="10717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7"/>
          <a:stretch/>
        </p:blipFill>
        <p:spPr>
          <a:xfrm flipH="1">
            <a:off x="4932360" y="4869000"/>
            <a:ext cx="1944720" cy="1096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276720" y="342900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奋力奔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03280" y="55166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35640" y="285264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885080" y="5661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8"/>
          <a:stretch/>
        </p:blipFill>
        <p:spPr>
          <a:xfrm flipH="1">
            <a:off x="6804000" y="2997360"/>
            <a:ext cx="2016000" cy="10350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9"/>
          <a:stretch/>
        </p:blipFill>
        <p:spPr>
          <a:xfrm flipH="1">
            <a:off x="2843280" y="4508640"/>
            <a:ext cx="1800000" cy="965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547640" y="6021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学习就应该像一只快乐的小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24C3D-BB9A-4C98-BCAE-34A0CB6086F8}" type="datetime1">
              <a:rPr lang="en-US"/>
              <a:t>07/31/26</a:t>
            </a:fld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13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虽然，成功，离我们还很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43586-0CCB-4A72-A9B7-FD91D614E4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828720" y="981000"/>
            <a:ext cx="784692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多少次挥汗如雨  伤痛曾填满记忆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只因为始终相信  去拼搏才能胜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总是在鼓舞自己  要成功就得努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热血在赛场飞腾  巨人在东方升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相信自己  你将赢得胜利创造奇迹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相信自己  梦想在你手中这是你的天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相信自己  你我将超越极限超越自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相信自己  当这一切过去你们将是第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相信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66920" y="115920"/>
            <a:ext cx="417672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"/>
              </a:rPr>
              <a:t>相  信  自  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772400" y="63244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8406"/>
                </a:moveTo>
                <a:lnTo>
                  <a:pt x="19007" y="8406"/>
                </a:lnTo>
                <a:lnTo>
                  <a:pt x="23428" y="3794"/>
                </a:lnTo>
                <a:lnTo>
                  <a:pt x="23428" y="17806"/>
                </a:lnTo>
                <a:lnTo>
                  <a:pt x="19007" y="13194"/>
                </a:lnTo>
                <a:lnTo>
                  <a:pt x="14577" y="13194"/>
                </a:lnTo>
                <a:close/>
              </a:path>
              <a:path fill="darken" w="43166" h="21600">
                <a:moveTo>
                  <a:pt x="25082" y="10800"/>
                </a:moveTo>
                <a:lnTo>
                  <a:pt x="28590" y="10800"/>
                </a:lnTo>
              </a:path>
              <a:path fill="darken" w="43166" h="21600">
                <a:moveTo>
                  <a:pt x="25082" y="8406"/>
                </a:moveTo>
                <a:lnTo>
                  <a:pt x="28590" y="5639"/>
                </a:lnTo>
              </a:path>
              <a:path fill="darken" w="43166" h="21600">
                <a:moveTo>
                  <a:pt x="25082" y="13194"/>
                </a:moveTo>
                <a:lnTo>
                  <a:pt x="28590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FD542-31FD-47C4-ADCA-ADB3376FE370}" type="datetime1">
              <a:rPr lang="en-US"/>
              <a:t>07/31/26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6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2124000" y="4869000"/>
            <a:ext cx="5334120" cy="1371600"/>
            <a:chOff x="2124000" y="4869000"/>
            <a:chExt cx="5334120" cy="1371600"/>
          </a:xfrm>
        </p:grpSpPr>
        <p:grpSp>
          <p:nvGrpSpPr>
            <p:cNvPr id="440" name=""/>
            <p:cNvGrpSpPr/>
            <p:nvPr/>
          </p:nvGrpSpPr>
          <p:grpSpPr>
            <a:xfrm>
              <a:off x="2124000" y="4869000"/>
              <a:ext cx="5334120" cy="1371600"/>
              <a:chOff x="2124000" y="4869000"/>
              <a:chExt cx="5334120" cy="1371600"/>
            </a:xfrm>
          </p:grpSpPr>
          <p:sp>
            <p:nvSpPr>
              <p:cNvPr id="441" name=""/>
              <p:cNvSpPr/>
              <p:nvPr/>
            </p:nvSpPr>
            <p:spPr>
              <a:xfrm>
                <a:off x="2124000" y="5173560"/>
                <a:ext cx="5334120" cy="1067040"/>
              </a:xfrm>
              <a:custGeom>
                <a:avLst/>
                <a:gdLst/>
                <a:ahLst/>
                <a:rect l="l" t="t" r="r" b="b"/>
                <a:pathLst>
                  <a:path w="2202" h="529">
                    <a:moveTo>
                      <a:pt x="0" y="528"/>
                    </a:moveTo>
                    <a:lnTo>
                      <a:pt x="717" y="1"/>
                    </a:lnTo>
                    <a:lnTo>
                      <a:pt x="1440" y="0"/>
                    </a:lnTo>
                    <a:lnTo>
                      <a:pt x="2202" y="529"/>
                    </a:lnTo>
                    <a:lnTo>
                      <a:pt x="48" y="528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7cc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3343320" y="4869000"/>
                <a:ext cx="3123720" cy="1371600"/>
                <a:chOff x="3343320" y="4869000"/>
                <a:chExt cx="3123720" cy="1371600"/>
              </a:xfrm>
            </p:grpSpPr>
            <p:sp>
              <p:nvSpPr>
                <p:cNvPr id="443" name=""/>
                <p:cNvSpPr/>
                <p:nvPr/>
              </p:nvSpPr>
              <p:spPr>
                <a:xfrm flipV="1">
                  <a:off x="3343320" y="5097240"/>
                  <a:ext cx="838080" cy="1143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4257720" y="4869000"/>
                  <a:ext cx="152280" cy="1371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V="1">
                  <a:off x="4943520" y="4944600"/>
                  <a:ext cx="0" cy="1295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H="1" flipV="1">
                  <a:off x="5248440" y="5020920"/>
                  <a:ext cx="457200" cy="1219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 flipV="1">
                  <a:off x="5476680" y="5097240"/>
                  <a:ext cx="990360" cy="1143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8" name=""/>
            <p:cNvSpPr/>
            <p:nvPr/>
          </p:nvSpPr>
          <p:spPr>
            <a:xfrm>
              <a:off x="2733840" y="5859360"/>
              <a:ext cx="4114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191040" y="5554800"/>
              <a:ext cx="3200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95600" y="5326200"/>
              <a:ext cx="2590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50920" y="1841400"/>
            <a:ext cx="2628360" cy="2091960"/>
            <a:chOff x="250920" y="1841400"/>
            <a:chExt cx="2628360" cy="2091960"/>
          </a:xfrm>
        </p:grpSpPr>
        <p:sp>
          <p:nvSpPr>
            <p:cNvPr id="452" name=""/>
            <p:cNvSpPr/>
            <p:nvPr/>
          </p:nvSpPr>
          <p:spPr>
            <a:xfrm>
              <a:off x="250920" y="1841400"/>
              <a:ext cx="2628360" cy="2091960"/>
            </a:xfrm>
            <a:prstGeom prst="blockArc">
              <a:avLst>
                <a:gd name="adj1" fmla="val 0"/>
                <a:gd name="adj2" fmla="val 10800000"/>
                <a:gd name="adj3" fmla="val 47065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00486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0920" y="26848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75c7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 flipH="1">
            <a:off x="1849320" y="20160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ebd9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03960" y="1365120"/>
            <a:ext cx="1394280" cy="1633680"/>
            <a:chOff x="903960" y="1365120"/>
            <a:chExt cx="1394280" cy="1633680"/>
          </a:xfrm>
        </p:grpSpPr>
        <p:sp>
          <p:nvSpPr>
            <p:cNvPr id="456" name=""/>
            <p:cNvSpPr/>
            <p:nvPr/>
          </p:nvSpPr>
          <p:spPr>
            <a:xfrm rot="291600">
              <a:off x="1489680" y="1378440"/>
              <a:ext cx="331920" cy="324000"/>
            </a:xfrm>
            <a:prstGeom prst="ellipse">
              <a:avLst/>
            </a:prstGeom>
            <a:solidFill>
              <a:srgbClr val="fee3a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291600">
              <a:off x="966240" y="14230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ee3ac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471600" y="20304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ebd9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02160" y="1366920"/>
            <a:ext cx="963360" cy="828720"/>
          </a:xfrm>
          <a:prstGeom prst="cube">
            <a:avLst>
              <a:gd name="adj" fmla="val 768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489560" y="1752480"/>
            <a:ext cx="2419200" cy="44316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99cc00"/>
              </a:gs>
              <a:gs pos="100000">
                <a:srgbClr val="5571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489560" y="1368360"/>
            <a:ext cx="1333440" cy="44280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009999"/>
              </a:gs>
              <a:gs pos="100000">
                <a:srgbClr val="0073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3873600" y="1514520"/>
            <a:ext cx="331560" cy="333360"/>
            <a:chOff x="3873600" y="1514520"/>
            <a:chExt cx="331560" cy="333360"/>
          </a:xfrm>
        </p:grpSpPr>
        <p:sp>
          <p:nvSpPr>
            <p:cNvPr id="463" name=""/>
            <p:cNvSpPr/>
            <p:nvPr/>
          </p:nvSpPr>
          <p:spPr>
            <a:xfrm>
              <a:off x="3873600" y="1514520"/>
              <a:ext cx="331560" cy="33120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0640" y="1514520"/>
              <a:ext cx="0" cy="329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73600" y="1679040"/>
              <a:ext cx="33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62960" y="1516680"/>
              <a:ext cx="68760" cy="32652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0280" y="1518840"/>
              <a:ext cx="74520" cy="32904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5400000">
              <a:off x="4012920" y="1651320"/>
              <a:ext cx="42840" cy="2469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 rot="16200000">
              <a:off x="4015800" y="1460160"/>
              <a:ext cx="42840" cy="2473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3602160" y="2425680"/>
            <a:ext cx="963360" cy="827280"/>
          </a:xfrm>
          <a:prstGeom prst="cube">
            <a:avLst>
              <a:gd name="adj" fmla="val 768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489560" y="2809800"/>
            <a:ext cx="4248000" cy="44316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99cc00"/>
              </a:gs>
              <a:gs pos="100000">
                <a:srgbClr val="5571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489560" y="2425680"/>
            <a:ext cx="3871800" cy="44280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009999"/>
              </a:gs>
              <a:gs pos="100000">
                <a:srgbClr val="0073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602160" y="3511440"/>
            <a:ext cx="963360" cy="828720"/>
          </a:xfrm>
          <a:prstGeom prst="cube">
            <a:avLst>
              <a:gd name="adj" fmla="val 768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489560" y="3897360"/>
            <a:ext cx="1042920" cy="44280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99cc00"/>
              </a:gs>
              <a:gs pos="100000">
                <a:srgbClr val="5571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489560" y="3513240"/>
            <a:ext cx="3311280" cy="44280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009999"/>
              </a:gs>
              <a:gs pos="100000">
                <a:srgbClr val="0073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825720" y="2606760"/>
            <a:ext cx="392400" cy="337680"/>
            <a:chOff x="3825720" y="2606760"/>
            <a:chExt cx="392400" cy="337680"/>
          </a:xfrm>
        </p:grpSpPr>
        <p:sp>
          <p:nvSpPr>
            <p:cNvPr id="477" name=""/>
            <p:cNvSpPr/>
            <p:nvPr/>
          </p:nvSpPr>
          <p:spPr>
            <a:xfrm>
              <a:off x="3905640" y="2606760"/>
              <a:ext cx="234720" cy="235800"/>
            </a:xfrm>
            <a:custGeom>
              <a:avLst/>
              <a:gdLst>
                <a:gd name="textAreaLeft" fmla="*/ 3960 w 234720"/>
                <a:gd name="textAreaRight" fmla="*/ 230760 w 234720"/>
                <a:gd name="textAreaTop" fmla="*/ 3960 h 235800"/>
                <a:gd name="textAreaBottom" fmla="*/ 231840 h 235800"/>
              </a:gdLst>
              <a:ahLst/>
              <a:rect l="textAreaLeft" t="textAreaTop" r="textAreaRight" b="textAreaBottom"/>
              <a:pathLst>
                <a:path w="21600" h="21699">
                  <a:moveTo>
                    <a:pt x="1350" y="0"/>
                  </a:moveTo>
                  <a:arcTo wR="1350" hR="1350" stAng="16200000" swAng="-5400000"/>
                  <a:lnTo>
                    <a:pt x="0" y="20349"/>
                  </a:lnTo>
                  <a:arcTo wR="1350" hR="1350" stAng="10800000" swAng="-5400000"/>
                  <a:lnTo>
                    <a:pt x="20250" y="21699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25720" y="2840040"/>
              <a:ext cx="392400" cy="1044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4101480" y="2892240"/>
              <a:ext cx="601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3984120" y="2680200"/>
              <a:ext cx="97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4021920" y="2715120"/>
              <a:ext cx="59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4039200" y="2781000"/>
              <a:ext cx="424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3873600" y="3689280"/>
            <a:ext cx="325440" cy="32400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05760" y="191448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05760" y="297036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605760" y="406080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024520" y="141300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107040" y="1795320"/>
            <a:ext cx="8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453440" y="247500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939080" y="287028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988320" y="3570120"/>
            <a:ext cx="8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735440" y="3941640"/>
            <a:ext cx="8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220968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66680" y="1905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5FC73-74DB-4624-8516-5FC030C8E5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920" y="4076640"/>
            <a:ext cx="6840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叫痛苦？   什么叫幸福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96520" y="509256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经历残酷的高考，你又如何去体会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00000" y="549360"/>
            <a:ext cx="755964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在学生的周记和作文里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不少同学在那里大叫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痛苦 煎熬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0EF18-21F9-4961-9BDC-B9AC1591CA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685800" y="3716280"/>
            <a:ext cx="80629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现在的欢乐比起高考成功带来的后的幸福，那又算得了什么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268280"/>
            <a:ext cx="806292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现在的痛苦比起高考失败后的痛苦，那算得了什么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A50E2-A2F0-4294-AA55-D1F7689E94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我相信这样的一个现实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FF922-BEA1-46BD-9FF8-0C63479EF9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3000" y="2362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1371600"/>
            <a:ext cx="7391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一、确定目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认真分析每次考试成绩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给学生提供详细的分析资料，让学生认清形势，明确下一步奋斗目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4891D-DEB5-478E-B951-D64A84C68642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696000" cy="59101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828720" y="60919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困难之时就是离成功不远之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DA5C4-F0AB-4AEE-A427-44890BECF51A}" type="datetime1">
              <a:rPr lang="en-US"/>
              <a:t>07/31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468360" y="2349360"/>
            <a:ext cx="66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隶书"/>
              </a:rPr>
              <a:t>坚持下去，才能成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A5736-8F18-4D70-8490-8CBD0D7F0557}" type="datetime1">
              <a:rPr lang="en-US"/>
              <a:t>07/31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72880" y="404640"/>
            <a:ext cx="1263960" cy="1714680"/>
          </a:xfrm>
          <a:custGeom>
            <a:avLst/>
            <a:gdLst>
              <a:gd name="textAreaLeft" fmla="*/ 0 w 1263960"/>
              <a:gd name="textAreaRight" fmla="*/ 1264320 w 126396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4" y="0"/>
                </a:lnTo>
                <a:lnTo>
                  <a:pt x="21600" y="10800"/>
                </a:lnTo>
                <a:lnTo>
                  <a:pt x="1877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476360" y="404640"/>
            <a:ext cx="7203960" cy="1714680"/>
          </a:xfrm>
          <a:custGeom>
            <a:avLst/>
            <a:gdLst/>
            <a:ahLst/>
            <a:rect l="l" t="t" r="r" b="b"/>
            <a:pathLst>
              <a:path w="4538" h="1080">
                <a:moveTo>
                  <a:pt x="4538" y="0"/>
                </a:moveTo>
                <a:lnTo>
                  <a:pt x="0" y="0"/>
                </a:lnTo>
                <a:lnTo>
                  <a:pt x="105" y="541"/>
                </a:lnTo>
                <a:lnTo>
                  <a:pt x="0" y="1080"/>
                </a:lnTo>
                <a:lnTo>
                  <a:pt x="4538" y="1080"/>
                </a:lnTo>
                <a:lnTo>
                  <a:pt x="453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124080" y="3886200"/>
            <a:ext cx="2895840" cy="1219320"/>
          </a:xfrm>
          <a:custGeom>
            <a:avLst/>
            <a:gdLst>
              <a:gd name="textAreaLeft" fmla="*/ 0 w 2895840"/>
              <a:gd name="textAreaRight" fmla="*/ 2896200 w 289584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6" y="0"/>
                </a:lnTo>
                <a:lnTo>
                  <a:pt x="21600" y="10800"/>
                </a:lnTo>
                <a:lnTo>
                  <a:pt x="20676" y="21600"/>
                </a:lnTo>
                <a:lnTo>
                  <a:pt x="0" y="21600"/>
                </a:lnTo>
                <a:lnTo>
                  <a:pt x="924" y="108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3886200"/>
            <a:ext cx="2514600" cy="114300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91" y="0"/>
                </a:lnTo>
                <a:lnTo>
                  <a:pt x="21600" y="10800"/>
                </a:lnTo>
                <a:lnTo>
                  <a:pt x="206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352680" y="4495680"/>
            <a:ext cx="168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cc3300"/>
                </a:solidFill>
                <a:uFillTx/>
                <a:latin typeface="Arial"/>
              </a:rPr>
              <a:t>非智力因素</a:t>
            </a: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12840" y="4386240"/>
            <a:ext cx="227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cc3300"/>
                </a:solidFill>
                <a:uFillTx/>
                <a:latin typeface="Arial"/>
              </a:rPr>
              <a:t>智力因素</a:t>
            </a: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70~80%</a:t>
            </a: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48320" y="449568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20~30%</a:t>
            </a: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24200" y="6048360"/>
            <a:ext cx="1690560" cy="549360"/>
          </a:xfrm>
          <a:custGeom>
            <a:avLst/>
            <a:gdLst>
              <a:gd name="textAreaLeft" fmla="*/ 0 w 1690560"/>
              <a:gd name="textAreaRight" fmla="*/ 1690920 w 169056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6" y="0"/>
                </a:lnTo>
                <a:lnTo>
                  <a:pt x="21600" y="10800"/>
                </a:lnTo>
                <a:lnTo>
                  <a:pt x="20676" y="21600"/>
                </a:lnTo>
                <a:lnTo>
                  <a:pt x="0" y="21600"/>
                </a:lnTo>
                <a:lnTo>
                  <a:pt x="924" y="10800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117880" y="6172200"/>
            <a:ext cx="146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意志、毅力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19240" y="6048360"/>
            <a:ext cx="1688760" cy="549360"/>
          </a:xfrm>
          <a:custGeom>
            <a:avLst/>
            <a:gdLst>
              <a:gd name="textAreaLeft" fmla="*/ 0 w 1688760"/>
              <a:gd name="textAreaRight" fmla="*/ 1689120 w 168876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91" y="0"/>
                </a:lnTo>
                <a:lnTo>
                  <a:pt x="21600" y="10800"/>
                </a:lnTo>
                <a:lnTo>
                  <a:pt x="20691" y="21600"/>
                </a:lnTo>
                <a:lnTo>
                  <a:pt x="0" y="21600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3760" y="6186600"/>
            <a:ext cx="149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理想、目标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32040" y="6048360"/>
            <a:ext cx="1690920" cy="549360"/>
          </a:xfrm>
          <a:custGeom>
            <a:avLst/>
            <a:gdLst>
              <a:gd name="textAreaLeft" fmla="*/ 0 w 1690920"/>
              <a:gd name="textAreaRight" fmla="*/ 1691280 w 169092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6" y="0"/>
                </a:lnTo>
                <a:lnTo>
                  <a:pt x="21600" y="10800"/>
                </a:lnTo>
                <a:lnTo>
                  <a:pt x="20676" y="21600"/>
                </a:lnTo>
                <a:lnTo>
                  <a:pt x="0" y="21600"/>
                </a:lnTo>
                <a:lnTo>
                  <a:pt x="924" y="10800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33920" y="617220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兴趣、责任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338800" y="6048360"/>
            <a:ext cx="1690560" cy="549360"/>
          </a:xfrm>
          <a:custGeom>
            <a:avLst/>
            <a:gdLst>
              <a:gd name="textAreaLeft" fmla="*/ 0 w 1690560"/>
              <a:gd name="textAreaRight" fmla="*/ 1690920 w 169056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6" y="0"/>
                </a:lnTo>
                <a:lnTo>
                  <a:pt x="21600" y="10800"/>
                </a:lnTo>
                <a:lnTo>
                  <a:pt x="20676" y="21600"/>
                </a:lnTo>
                <a:lnTo>
                  <a:pt x="0" y="21600"/>
                </a:lnTo>
                <a:lnTo>
                  <a:pt x="924" y="10800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532480" y="6186600"/>
            <a:ext cx="155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纪律、方法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047000" y="6048360"/>
            <a:ext cx="1690560" cy="549360"/>
          </a:xfrm>
          <a:custGeom>
            <a:avLst/>
            <a:gdLst>
              <a:gd name="textAreaLeft" fmla="*/ 0 w 1690560"/>
              <a:gd name="textAreaRight" fmla="*/ 1690920 w 169056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6" y="0"/>
                </a:lnTo>
                <a:lnTo>
                  <a:pt x="21600" y="10800"/>
                </a:lnTo>
                <a:lnTo>
                  <a:pt x="20676" y="21600"/>
                </a:lnTo>
                <a:lnTo>
                  <a:pt x="0" y="21600"/>
                </a:lnTo>
                <a:lnTo>
                  <a:pt x="924" y="10800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240680" y="618660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人际、家境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2200" y="4145040"/>
            <a:ext cx="225360" cy="225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76720" y="4191120"/>
            <a:ext cx="225360" cy="225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2200" y="5919840"/>
            <a:ext cx="225360" cy="225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71800" y="5919840"/>
            <a:ext cx="225360" cy="225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794040" y="5919840"/>
            <a:ext cx="227160" cy="225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491080" y="5919840"/>
            <a:ext cx="225360" cy="225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188120" y="5919840"/>
            <a:ext cx="225360" cy="225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20520" y="8604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影响学习成绩的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523880" y="3429000"/>
            <a:ext cx="3812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2590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记忆能力、理解能力、分析能力、运用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67080" y="5181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F8A28-C8BC-4D74-A288-779390DBEF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332000" y="2276640"/>
            <a:ext cx="5543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心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心态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认真对待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善于提出问题，解决疑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掌握解题方法，懂得利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到举一反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3269A-4A71-4DAE-8883-3199C61D78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1981080" y="457200"/>
            <a:ext cx="5410080" cy="664920"/>
            <a:chOff x="1981080" y="457200"/>
            <a:chExt cx="5410080" cy="664920"/>
          </a:xfrm>
        </p:grpSpPr>
        <p:grpSp>
          <p:nvGrpSpPr>
            <p:cNvPr id="536" name=""/>
            <p:cNvGrpSpPr/>
            <p:nvPr/>
          </p:nvGrpSpPr>
          <p:grpSpPr>
            <a:xfrm>
              <a:off x="1981080" y="457200"/>
              <a:ext cx="761760" cy="664920"/>
              <a:chOff x="1981080" y="457200"/>
              <a:chExt cx="761760" cy="664920"/>
            </a:xfrm>
          </p:grpSpPr>
          <p:sp>
            <p:nvSpPr>
              <p:cNvPr id="537" name=""/>
              <p:cNvSpPr/>
              <p:nvPr/>
            </p:nvSpPr>
            <p:spPr>
              <a:xfrm>
                <a:off x="1987200" y="4683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981080" y="4572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025360" y="49644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7174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2590560" y="1066680"/>
              <a:ext cx="480060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047840" y="59220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在学习中发掘自己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79800" y="555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979640" y="1463760"/>
            <a:ext cx="5410080" cy="664920"/>
            <a:chOff x="1979640" y="1463760"/>
            <a:chExt cx="5410080" cy="664920"/>
          </a:xfrm>
        </p:grpSpPr>
        <p:grpSp>
          <p:nvGrpSpPr>
            <p:cNvPr id="544" name=""/>
            <p:cNvGrpSpPr/>
            <p:nvPr/>
          </p:nvGrpSpPr>
          <p:grpSpPr>
            <a:xfrm>
              <a:off x="1979640" y="1463760"/>
              <a:ext cx="761400" cy="664920"/>
              <a:chOff x="1979640" y="1463760"/>
              <a:chExt cx="761400" cy="664920"/>
            </a:xfrm>
          </p:grpSpPr>
          <p:sp>
            <p:nvSpPr>
              <p:cNvPr id="545" name=""/>
              <p:cNvSpPr/>
              <p:nvPr/>
            </p:nvSpPr>
            <p:spPr>
              <a:xfrm>
                <a:off x="1985760" y="1474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979640" y="1463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023920" y="150300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2589120" y="2073240"/>
              <a:ext cx="480060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67400" y="1598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把握先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178360" y="1562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979640" y="2355840"/>
            <a:ext cx="5410080" cy="665280"/>
            <a:chOff x="1979640" y="2355840"/>
            <a:chExt cx="5410080" cy="665280"/>
          </a:xfrm>
        </p:grpSpPr>
        <p:grpSp>
          <p:nvGrpSpPr>
            <p:cNvPr id="552" name=""/>
            <p:cNvGrpSpPr/>
            <p:nvPr/>
          </p:nvGrpSpPr>
          <p:grpSpPr>
            <a:xfrm>
              <a:off x="1979640" y="2355840"/>
              <a:ext cx="761760" cy="665280"/>
              <a:chOff x="1979640" y="2355840"/>
              <a:chExt cx="761760" cy="665280"/>
            </a:xfrm>
          </p:grpSpPr>
          <p:sp>
            <p:nvSpPr>
              <p:cNvPr id="553" name=""/>
              <p:cNvSpPr/>
              <p:nvPr/>
            </p:nvSpPr>
            <p:spPr>
              <a:xfrm>
                <a:off x="1985760" y="2367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979640" y="23558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023920" y="2395080"/>
                <a:ext cx="663840" cy="575280"/>
              </a:xfrm>
              <a:prstGeom prst="hexagon">
                <a:avLst>
                  <a:gd name="adj" fmla="val 28849"/>
                  <a:gd name="vf" fmla="val 115470"/>
                </a:avLst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7174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2589120" y="2965320"/>
              <a:ext cx="480060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00320" y="249084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想法、行动快人一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7836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981080" y="3276720"/>
            <a:ext cx="5410080" cy="664920"/>
            <a:chOff x="1981080" y="3276720"/>
            <a:chExt cx="5410080" cy="664920"/>
          </a:xfrm>
        </p:grpSpPr>
        <p:grpSp>
          <p:nvGrpSpPr>
            <p:cNvPr id="560" name=""/>
            <p:cNvGrpSpPr/>
            <p:nvPr/>
          </p:nvGrpSpPr>
          <p:grpSpPr>
            <a:xfrm>
              <a:off x="1981080" y="3276720"/>
              <a:ext cx="761400" cy="664920"/>
              <a:chOff x="1981080" y="3276720"/>
              <a:chExt cx="761400" cy="664920"/>
            </a:xfrm>
          </p:grpSpPr>
          <p:sp>
            <p:nvSpPr>
              <p:cNvPr id="561" name=""/>
              <p:cNvSpPr/>
              <p:nvPr/>
            </p:nvSpPr>
            <p:spPr>
              <a:xfrm>
                <a:off x="1987200" y="3287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981080" y="3276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25360" y="331596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2590560" y="3885840"/>
              <a:ext cx="480060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22400" y="34113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重积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79800" y="3374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AEF36-3D83-4262-9DF0-860258B278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827840" cy="299088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4038480" y="2438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学习当奋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981080" y="152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生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6212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成功无捷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BE60C-FF10-4F7B-922C-F1E997A5C3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266840" y="4762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405240" y="1700280"/>
            <a:ext cx="293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导假日的安排，让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度过方面有表意意的假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子女要有一定的要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压力不要太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824560" y="266688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家长要培养孩子的处事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56760" y="4038480"/>
            <a:ext cx="62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要学会欣赏孩子，要善于发现他们的闪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，及时给予鼓励，以增强他们的自信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93920" y="54864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 txBox="1"/>
          <p:nvPr/>
        </p:nvSpPr>
        <p:spPr>
          <a:xfrm>
            <a:off x="826920" y="692280"/>
            <a:ext cx="324036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3399"/>
                </a:solidFill>
                <a:latin typeface="汉仪圆叠体简"/>
              </a:rPr>
              <a:t>几点建议：</a:t>
            </a:r>
            <a:endParaRPr b="0" lang="en-US" sz="4800" spc="1" strike="noStrike">
              <a:ln w="9360">
                <a:solidFill>
                  <a:srgbClr val="cc0000"/>
                </a:solidFill>
                <a:miter/>
              </a:ln>
              <a:solidFill>
                <a:srgbClr val="333399"/>
              </a:solidFill>
              <a:latin typeface="汉仪圆叠体简"/>
              <a:ea typeface="汉仪圆叠体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CABF3-15D2-42BA-B484-82B25FC939AA}" type="datetime1">
              <a:rPr lang="en-US"/>
              <a:t>07/31/26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250920" y="13716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抓好子女在家的行为习惯。如良好的休息、科学的安排学习、适量的家务劳动（劳动是教育人的较好方式，只有劳动，他才懂得来之不易，懂得珍惜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79280" y="327672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孩子面前做好表率，身教重于言教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空的时候能多跑跑书店，买几本参考书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04920" y="43434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鼓励子女适当参加公益活动，如多参加社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践劳动，培养为他人，为社会服务的良好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E3CC4-2E93-43AC-B05E-4156DC99717B}" type="datetime1">
              <a:rPr lang="en-US"/>
              <a:t>07/31/26</a:t>
            </a:fld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2362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080" y="736560"/>
            <a:ext cx="739152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建立激励机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组织数学、英语的辅导班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教师一对一跟踪学生成绩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在班级形成学习竞争小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开展竞赛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使学生学有目标，行有榜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9A155-D49C-4C60-96A9-18004A1A9C4D}" type="datetime1">
              <a:rPr lang="en-US"/>
              <a:t>07/31/26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2362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700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32000" y="1341360"/>
            <a:ext cx="661356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三、强化纪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纪律是学习的保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为此，建立以班干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科代表的管理机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早读午读坚持朗诵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抓好作业收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优化班级纪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BC0A1-876A-4D93-AD08-7546B23526C1}" type="datetime1">
              <a:rPr lang="en-US"/>
              <a:t>07/31/26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2362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81080" y="-27000"/>
            <a:ext cx="9396360" cy="6885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42920" y="147780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四、规范学生的行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学校开展“创优月”活动，给他们营造形成良好行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习惯、学习习惯的氛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AF242-35BF-4980-9055-11C733E13749}" type="datetime1">
              <a:rPr lang="en-US"/>
              <a:t>07/31/26</a:t>
            </a:fld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95480" y="277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11480" y="241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49520" y="2133720"/>
            <a:ext cx="74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第一次月考班级前十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79200"/>
            <a:ext cx="326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光荣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642C9-918A-4114-9B48-F513FBB29CD5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95480" y="277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11480" y="241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57040" y="2666880"/>
            <a:ext cx="29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次月考班级前十名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71840" y="11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79200"/>
            <a:ext cx="326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光荣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B86E2-6031-4184-8276-03D15B7B5A1B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895480" y="277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11480" y="241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5960" y="234936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期末考班级前十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71840" y="33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光荣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5CD5D-73F8-46BF-812B-C9FDAF1F8E11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52:45Z</dcterms:modified>
  <cp:revision>10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