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9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4.jpeg" ContentType="image/jpeg"/>
  <Override PartName="/ppt/media/image12.jpeg" ContentType="image/jpeg"/>
  <Override PartName="/ppt/media/image11.png" ContentType="image/png"/>
  <Override PartName="/ppt/media/image1.jpeg" ContentType="image/jpeg"/>
  <Override PartName="/ppt/media/LASER.WAV" ContentType="audio/x-wav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6.jpeg" ContentType="image/jpeg"/>
  <Override PartName="/ppt/media/image13.gif" ContentType="image/gif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自定义放映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726-8C45-4F25-A2C0-5E40B2E6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625-77CF-4755-98C3-B06F38D1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802-5601-4D82-AAF1-86EED822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085-5D75-4B86-8231-5F717142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81D-A791-41EE-A8C7-6876C85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C5C-2CD2-4282-9226-4714B74E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AFC-6DCF-4622-8444-ECFB66A6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081-AEA5-419B-97F8-C3F41951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9BF-E65B-47E5-8001-C6DE8A10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9A5-1767-440C-AD12-A0F025A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5CF-92F7-4253-BE9A-31EF9B0B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E8B-DEB8-420D-ABA6-AEDA0FD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2C28-8D55-40BF-B16E-7EF444B35C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wmf"/><Relationship Id="rId3" Type="http://schemas.openxmlformats.org/officeDocument/2006/relationships/audio" Target="../media/LASE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zh-CN" sz="6600" spc="-1" strike="noStrike">
                <a:solidFill>
                  <a:srgbClr val="0000cc"/>
                </a:solidFill>
                <a:latin typeface="黑体"/>
                <a:ea typeface="黑体"/>
              </a:rPr>
              <a:t>高二（</a:t>
            </a:r>
            <a:r>
              <a:rPr b="0" lang="zh-CN" sz="6600" spc="-1" strike="noStrike">
                <a:solidFill>
                  <a:srgbClr val="0000cc"/>
                </a:solidFill>
                <a:latin typeface="黑体"/>
                <a:ea typeface="黑体"/>
              </a:rPr>
              <a:t>11</a:t>
            </a:r>
            <a:r>
              <a:rPr b="0" lang="zh-CN" sz="6600" spc="-1" strike="noStrike">
                <a:solidFill>
                  <a:srgbClr val="0000cc"/>
                </a:solidFill>
                <a:latin typeface="黑体"/>
                <a:ea typeface="黑体"/>
              </a:rPr>
              <a:t>）班家长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英语前五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郝俊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郝明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王宪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段  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李  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3679920" cy="1509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成绩进步较大的同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Arial"/>
                <a:ea typeface="隶书"/>
              </a:rPr>
              <a:t>刘昊东        田永政       刘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Arial"/>
                <a:ea typeface="隶书"/>
              </a:rPr>
              <a:t>刘畅            郝俊飞       赵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Arial"/>
                <a:ea typeface="隶书"/>
              </a:rPr>
              <a:t>郝明娟         郭鑫          李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Arial"/>
                <a:ea typeface="隶书"/>
              </a:rPr>
              <a:t>李姣            吕宽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学校作息时间安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午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上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-----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放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午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上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------5:  30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放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周六全天安排上课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星期天下午上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1989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有部分同学对学习没有足够的自信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5653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有部分同学没有明确的目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213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有部分同学存在科目严重不平衡现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860640"/>
            <a:ext cx="92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有部分同学缺乏学习自觉性、自我约束力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179280" y="44197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??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部分同学学习基础薄弱和无良好的学习行为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造成学习困难的一个主要原因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67280" y="5257800"/>
            <a:ext cx="3059280" cy="129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4000" y="333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隶书"/>
              </a:rPr>
              <a:t>由考试可以看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隶书"/>
              <a:ea typeface="华文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36520"/>
            <a:ext cx="9144000" cy="709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47880" y="274320"/>
            <a:ext cx="6176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时家长应注意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773360"/>
            <a:ext cx="784836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十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在外留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回家很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带同学住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打电话时间长，次数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受伤回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超消费要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超出友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成绩突然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穿奇装异服，爱好打扮，沉默寡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老是玩电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88000" y="4149720"/>
            <a:ext cx="388296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-13842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希望家长配合的事项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2840" y="112536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尽量保证每天与孩子的及时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2349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(1)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了解在校学习以及与同学相处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99736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(2)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掌握思想动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5084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(5)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把握其身体状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4365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(4)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生活上严格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645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(3)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客观分析孩子的成绩，多关注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27280" y="260280"/>
            <a:ext cx="461952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希望家长配合的事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7440" y="220680"/>
            <a:ext cx="8709120" cy="641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92360" y="189000"/>
            <a:ext cx="7238880" cy="65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给家长的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尊重孩子的人格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信任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关心孩子学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与之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时多鼓励孩子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讲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督促孩子养成良好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在外上网吧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外谨慎交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配合学校教育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强与老师联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持孩子参加有益的社会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22520" y="1125360"/>
            <a:ext cx="42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孩子生活在批评之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就学会谴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3800" y="1844640"/>
            <a:ext cx="42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孩子生活在鼓励之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就学会自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3800" y="2637000"/>
            <a:ext cx="42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孩子生活在讽刺之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就学会自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6880" y="3357720"/>
            <a:ext cx="42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孩子生活在表扬之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就学会感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3800" y="4149720"/>
            <a:ext cx="42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孩子生活在恐惧之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就学会忧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1840" y="486900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孩子生活在认可之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就学会自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26920" y="1989000"/>
            <a:ext cx="7201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家长代表发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447920" y="1055520"/>
            <a:ext cx="557208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让我们共同携双手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琥珀"/>
              </a:rPr>
              <a:t>会议主要内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7553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一、会议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二、班级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1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、班级管理理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、月考考试情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、教师配备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、学生组成情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、收费情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、星六星期天上课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三、给家长的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四、今后工作设想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952880" y="41911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Arial"/>
                <a:ea typeface="隶书"/>
              </a:rPr>
              <a:t>再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会议目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	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	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	</a:t>
            </a: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华文新魏"/>
              </a:rPr>
              <a:t>让我们架起心灵沟通的桥梁，为孩子们的健康成长共商教育教学大计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隶书"/>
              </a:rPr>
              <a:t>班级情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隶书"/>
              </a:rPr>
              <a:t>班级管理理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严格要求，自主管理，健康成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希望每个人都有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11196720" cy="7506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044720" y="-360"/>
            <a:ext cx="1101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班级学生组成情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912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本班共有学生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56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，男生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，女生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跑校生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，住校生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（男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，女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）。进入高二时前三百名有两人，现在经过几次考试进入前三百名的学生有五人，而且成绩比较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总分前十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刘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郝俊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赵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刘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郝明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郭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李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张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鲁小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黄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zh-CN" sz="6000" spc="-1" strike="noStrike">
                <a:solidFill>
                  <a:srgbClr val="0000cc"/>
                </a:solidFill>
                <a:latin typeface="Arial"/>
                <a:ea typeface="华文行楷"/>
              </a:rPr>
              <a:t>语文前五名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</a:t>
            </a:r>
            <a:r>
              <a:rPr b="0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郝明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张   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刘    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白   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王宪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数学前五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刘    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郝俊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   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韩晓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郭   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赵    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2:54:2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50:59Z</dcterms:modified>
  <cp:revision>23</cp:revision>
  <dc:subject>主题班会课件(分28大类): http://shop62905894.taobao.com</dc:subject>
  <dc:title>主题班会课件(分28大类): http://shop62905894.taobao.com</dc:title>
</cp:coreProperties>
</file>