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ror.wav" ContentType="audio/x-wav"/>
  <Override PartName="/ppt/media/image2.gif" ContentType="image/gif"/>
  <Override PartName="/ppt/media/image3.jpeg" ContentType="image/jpeg"/>
  <Override PartName="/ppt/media/Clicked.WAV" ContentType="audio/x-wav"/>
  <Override PartName="/ppt/media/image4.gif" ContentType="image/gif"/>
  <Override PartName="/ppt/media/%E9%92%A2%E7%90%B4.wav" ContentType="audio/x-wav"/>
  <Override PartName="/ppt/media/type.wav" ContentType="audio/x-wav"/>
  <Override PartName="/ppt/media/Failed.WAV" ContentType="audio/x-wav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2FD-4039-475E-9BC2-EF4AF07A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0A9-B5BC-4030-8CC3-A3F9A1C7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94C-02A0-481D-9764-DF3BD66B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606-6867-4F23-9D16-3EC05047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ACF3-C98B-452B-9FC0-AA52AE9E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7C6C-44F2-4575-933F-32657FE9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ED1F-525B-4F6B-ABBC-8B3A1567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A0E8-2A2B-497B-8929-920F1D58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51E5-673C-476B-B6DE-32FC4958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BC0E-1CA2-48EA-97C8-260AF7E5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1400-33BB-445A-975D-3FA37BD2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F25-1823-4027-8F66-AF82ACFC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43EE-1A73-424F-A25C-6173E794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1E5A-6DC1-49B9-8CA4-AA002776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7784-53BD-422C-B7D1-200649FD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9D29-3E1C-4D2C-BF44-214C11C3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511D-753F-456B-8039-5E1C0521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4C1-E07A-4D69-8BC6-5234E10A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7D0-1EAF-49C8-916D-C4B324DB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B40-CD3E-405A-8B78-4A67BDFF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9A8-5117-4FB9-9F08-E0CA991A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D37-A8BC-41B9-B286-15330EEF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23E-42D4-4B18-A801-76ED3B0C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B22-AC77-4F82-8ED1-D766C27D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5BA8-0DC6-42CF-A425-E26C573BD8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1416-884C-47D9-B549-B3B93A88B3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s5u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audio" Target="../media/Clicke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r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38050;&#29748;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ailed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e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197000"/>
            <a:ext cx="5105520" cy="728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523880" y="2728800"/>
            <a:ext cx="6400800" cy="13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欢迎各位家长光临指导我们的工作！</a:t>
            </a:r>
            <a:endParaRPr b="1" lang="en-US" sz="2400" spc="1" strike="noStrike">
              <a:ln w="3492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4941720"/>
            <a:ext cx="49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高二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××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班家长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19640" y="2852640"/>
            <a:ext cx="39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421000"/>
            <a:ext cx="781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1680" y="164628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关注孩子的理想目标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关注孩子的学习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30686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关注孩子的细微变化帮助孩子度过“危险”时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292640"/>
            <a:ext cx="42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关注孩子的伙伴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57360" y="5030640"/>
            <a:ext cx="31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关注孩子书包的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67480" y="5410080"/>
            <a:ext cx="1238400" cy="1047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42920" y="836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家长的五个关注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licke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7636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项征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758680"/>
            <a:ext cx="83167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语言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爱说谎话，黑话，脏话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及喜欢说话时带有江湖气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穿着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太过于时髦，暴露，喜欢擅改衣服，穿制服时特别将胸前两个扣子解开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外貌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发型怪异，身上有刺青，常有外伤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行为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较为标新立异，行为诡异，不敢让家人知道，常长时间反锁自己房门，且神色紧张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态度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易于动怒，情绪极端变化，常与家人赌气或自暴自弃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Error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19280" y="765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项征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773360"/>
            <a:ext cx="8280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作息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早出晚归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常无端数日不归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晚上外出去向不交代清楚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物品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有不良刊物、药物、香烟酒类，甚至不明巨款或当票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8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课业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成绩一落千丈，经常迟到早退、逃学、读书时间骤减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交友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有社会人士的朋友，电话、有朋友也不敢介绍给家人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习惯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有吸烟喝酒习惯，用钱需求量突增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孩子变坏前的</a:t>
            </a:r>
            <a:r>
              <a:rPr b="1" lang="en-US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项征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636640"/>
            <a:ext cx="81421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  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cc"/>
                </a:solidFill>
                <a:latin typeface="汉仪圆叠体简"/>
              </a:rPr>
              <a:t>给家长的几点建议</a:t>
            </a:r>
            <a:endParaRPr b="0" lang="en-US" sz="4800" spc="1" strike="noStrike">
              <a:ln w="9360">
                <a:solidFill>
                  <a:srgbClr val="cc0000"/>
                </a:solidFill>
                <a:miter/>
              </a:ln>
              <a:solidFill>
                <a:srgbClr val="3333cc"/>
              </a:solidFill>
              <a:latin typeface="汉仪圆叠体简"/>
              <a:ea typeface="汉仪圆叠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628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常和班主任进行信息交流，家庭教育和学校教育的和谐配合，会产生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+1≻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效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306864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让孩子：</a:t>
            </a:r>
            <a:r>
              <a:rPr b="1" lang="zh-CN" sz="3200" spc="-1" strike="noStrike">
                <a:solidFill>
                  <a:srgbClr val="ff3399"/>
                </a:solidFill>
                <a:latin typeface="华文楷体"/>
                <a:ea typeface="华文楷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3000" y="4005360"/>
            <a:ext cx="8001000" cy="1787760"/>
            <a:chOff x="1143000" y="4005360"/>
            <a:chExt cx="8001000" cy="1787760"/>
          </a:xfrm>
        </p:grpSpPr>
        <p:sp>
          <p:nvSpPr>
            <p:cNvPr id="141" name=""/>
            <p:cNvSpPr/>
            <p:nvPr/>
          </p:nvSpPr>
          <p:spPr>
            <a:xfrm>
              <a:off x="1143000" y="4005360"/>
              <a:ext cx="800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感受慈母的爱心，学会做人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3000" y="4608720"/>
              <a:ext cx="800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体验父辈的艰辛，学会做事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43000" y="5211720"/>
              <a:ext cx="800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接受优质的教育，受益终身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11280" y="981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要尽量控制孩子的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零用钱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回家的时间，时刻了解学生的动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假期里一定要做好监管的职责，保证学生每天四到六个学习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141720"/>
            <a:ext cx="83516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每天给孩子创造良好的学习环境，多鼓励孩子，多与孩子一同学习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希望家长在假期这段时间内督促孩子多看书，少看电视，尽量不要上网打游戏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%E9%92%A2%E7%90%B4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413000"/>
            <a:ext cx="8820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要把手机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MP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等东西给子女带来学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习方面，关心学生每一天的学习情况，督促学生晚上在家独立完成各科家庭作业，作业签字，并进行适当的复习和预习。对于学有余力的学生，安排适当的课外习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平时与班主任、任课老师多多联系，沟通，共同教育好您的孩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Failed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9640" y="177336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华文楷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楷体"/>
              </a:rPr>
              <a:t>工作再忙也要抽点时间来多了解孩子在校的表现和学习成绩情况。因为孩子只有一个呀，我们的一切工作难道不是为了孩子将来的美好前途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533520"/>
            <a:ext cx="8136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77800" y="1063800"/>
            <a:ext cx="818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Verdana"/>
                <a:ea typeface="华文行楷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4292640"/>
            <a:ext cx="7416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别忘了，</a:t>
            </a:r>
            <a:r>
              <a:rPr b="1" lang="zh-CN" sz="5400" spc="-1" strike="noStrike">
                <a:solidFill>
                  <a:srgbClr val="0000ff"/>
                </a:solidFill>
                <a:latin typeface="Verdana"/>
                <a:ea typeface="华文楷体"/>
              </a:rPr>
              <a:t>常过来看看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692360" y="2060640"/>
            <a:ext cx="6264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33600" y="54936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华文行楷"/>
              </a:rPr>
              <a:t>此次家长会的主要内容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42920" y="1557360"/>
            <a:ext cx="6781680" cy="3807720"/>
            <a:chOff x="1042920" y="1557360"/>
            <a:chExt cx="6781680" cy="3807720"/>
          </a:xfrm>
        </p:grpSpPr>
        <p:sp>
          <p:nvSpPr>
            <p:cNvPr id="87" name=""/>
            <p:cNvSpPr/>
            <p:nvPr/>
          </p:nvSpPr>
          <p:spPr>
            <a:xfrm>
              <a:off x="1042920" y="1557360"/>
              <a:ext cx="67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1.</a:t>
              </a:r>
              <a:r>
                <a:rPr b="1" lang="zh-CN" sz="36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介绍本班的基本情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2920" y="2311200"/>
              <a:ext cx="609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2.</a:t>
              </a:r>
              <a:r>
                <a:rPr b="1" lang="zh-CN" sz="36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历次考试的相关情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64800" y="3114360"/>
              <a:ext cx="342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3.</a:t>
              </a:r>
              <a:r>
                <a:rPr b="1" lang="zh-CN" sz="36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为班级做出贡献的学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9120" y="3943080"/>
              <a:ext cx="42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4.</a:t>
              </a:r>
              <a:r>
                <a:rPr b="1" lang="zh-CN" sz="36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学生家长应该关注的五个问题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42920" y="4722480"/>
              <a:ext cx="525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5.</a:t>
              </a:r>
              <a:r>
                <a:rPr b="1" lang="zh-CN" sz="36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孩子变坏的</a:t>
              </a:r>
              <a:r>
                <a:rPr b="1" lang="en-US" sz="36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10</a:t>
              </a:r>
              <a:r>
                <a:rPr b="1" lang="zh-CN" sz="36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个征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042920" y="55468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6.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对家长的几点建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7280" y="2492280"/>
            <a:ext cx="7201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大家！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268360" y="4653000"/>
            <a:ext cx="3888000" cy="2449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967120" y="35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89840" y="1109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祝您在新的一年阖家欢乐，工作顺利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79640" y="105264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班级情况介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高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×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班是由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×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名同学组成的一个特长班。其中音乐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×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，美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×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55640" y="4149720"/>
            <a:ext cx="8686800" cy="1466640"/>
            <a:chOff x="755640" y="4149720"/>
            <a:chExt cx="8686800" cy="1466640"/>
          </a:xfrm>
        </p:grpSpPr>
        <p:sp>
          <p:nvSpPr>
            <p:cNvPr id="96" name=""/>
            <p:cNvSpPr/>
            <p:nvPr/>
          </p:nvSpPr>
          <p:spPr>
            <a:xfrm>
              <a:off x="1593720" y="4149720"/>
              <a:ext cx="78487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5640" y="5036760"/>
              <a:ext cx="8610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11280" y="41497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今年我校高三美术考生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7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，本科过线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69228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班集体的好坏直接影响到每个学生的成长，优良的班风和学风是搞好学习的保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此我们首先狠抓班风和学风建设，组建和培养班、团干部，加强自习课纪律的管理和检查，班级实行全员管理，人人参入都是主人，发现问题及时解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班级作息时间进行合理安排，做到早上、中午和晚上经常到班检查。对于不良倾向及时进行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年来的的实践证明，我班绝大多数同学已适应了高二阶段紧张而充实的学习生活，优良的班风和学风也已基本形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67880" y="765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历次考试的相关情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38080" y="1733400"/>
            <a:ext cx="5943600" cy="3790800"/>
            <a:chOff x="838080" y="1733400"/>
            <a:chExt cx="5943600" cy="3790800"/>
          </a:xfrm>
        </p:grpSpPr>
        <p:sp>
          <p:nvSpPr>
            <p:cNvPr id="102" name=""/>
            <p:cNvSpPr/>
            <p:nvPr/>
          </p:nvSpPr>
          <p:spPr>
            <a:xfrm>
              <a:off x="838080" y="1733400"/>
              <a:ext cx="5943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2712960"/>
              <a:ext cx="5943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768480"/>
              <a:ext cx="4952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4822560"/>
              <a:ext cx="4952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7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620640"/>
            <a:ext cx="619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成绩优异的同学</a:t>
            </a: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1773360"/>
            <a:ext cx="78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×××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429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进步较大的同学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221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24000" y="9079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正确看待成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19162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肯定所有学生的努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29242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保持和提高名次不容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37893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进步和退步是暂时的、相对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4724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不以成绩论英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32000" y="836640"/>
            <a:ext cx="58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感谢班干部们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213372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3645000"/>
            <a:ext cx="58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感谢课代表们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4581360"/>
            <a:ext cx="770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206064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校教育离不开正确家庭教育的配合，一分耕耘，一分收获。倘若没有良好，正确合理的家庭教育配合，再好的师资和学校都不可能产生好的教育效果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家长主动监督、检查作业、预习、复习工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765000"/>
            <a:ext cx="56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家庭配合很关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licke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1:31:0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3T21:05:16Z</dcterms:modified>
  <cp:revision>122</cp:revision>
  <dc:subject>主题班会课件(分28大类): http://shop62905894.taobao.com</dc:subject>
  <dc:title>主题班会课件(分28大类): http://shop62905894.taobao.com</dc:title>
</cp:coreProperties>
</file>