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gif" ContentType="image/gif"/>
  <Override PartName="/ppt/media/image18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0D3-75A2-4380-AD51-5D8AC9AE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86E-3C9F-4BFF-8DA5-8E105519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FC3E-478C-4BE3-B9F5-F74ACF8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6659D-101E-4FDA-9C79-41A3B5FD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1189A-0BBE-4B8E-8992-7B06347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712A-DD70-4242-B08A-0656130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2AEE-E3B1-47F0-913A-3DB0D3E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6F49-A308-4175-A358-AA42E2C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4E80E-0CED-4D10-87B7-5A37486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C271-4365-4EAD-B045-C8A91435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4966-0070-42DD-8669-7C8373E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D59B6-660D-4FA2-857D-DCF5BD0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656-9340-49B4-AA77-7C57E368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6A0F-37B1-48C5-82F0-578E627F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FBB16-5386-4401-B7B2-B3B9EC3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FB568-5364-4EA2-965E-14BE1A6A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4560-CFC3-41DF-A82F-94FD8F9A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D586D-E3C0-48B7-A61F-68F640A2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79E34-A22A-4D42-AAF1-B1E2A5A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DB1D-5A60-4DAC-945C-8390288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DF54E-C39A-4E01-973C-D5D7914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0153-3937-4ED8-8044-DCB123D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2B2C8-F80E-4AF6-B997-93E31A49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2CF-CADB-46DE-9A67-3288AF2B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6236A-1A4F-41A4-BB7C-894D325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26783-A872-4572-947D-9790E53C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9722A-D354-47B2-9AC5-95A25BF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57EBD-47BA-4BB1-B6B8-F8F7721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ADF8A-FCC2-4E3C-9F54-C541205E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C85B8-94E5-4BDE-95DE-F37BCD9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EFDA0-8D60-4C9D-AB74-F8F2886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A306A-FF53-4964-B297-DB5C745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3303-32ED-406F-AE50-9BACD3C2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431A3-3701-4776-8D5E-DB0B8BD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FA8-92B5-4711-AEEC-A37192C9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1E421-1295-4D2A-A55B-4B256E71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8B44-CC17-40B9-BCDB-20097CA7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F06A4-6569-4EDD-B1DE-7AD32C77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6CFD4-A963-4D7C-B7C7-8653E986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03352-93A8-4F1E-A047-8C31131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FDC61-6E25-4691-B80D-286A1EB8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D0BD6-F43B-4764-A712-BD83C22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7CBE-59B0-4986-B794-236D82C9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818E6-904B-4277-8691-854FFEE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B6D60-0F76-4A7A-9893-33E4F74C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A36-C513-464C-AB66-0C6BD9A8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48CE-1B6A-4125-9C6B-309B8F5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8E86-78CA-4027-9AC5-4ACB3FB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76C57-8C3E-4801-AF8C-03FE458F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DEC4D-38D9-4594-BFE0-EC37D28A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FA9A2-FC3E-4379-8F62-44FA1724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580-0F03-474A-A850-9102BB5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4A4E-A3E5-476D-83A1-9BCF501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F5D-8C53-4462-9CF5-9B8F55D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A18-0603-4D78-BBA5-E7F45D8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2319-AEEE-42E4-BA0D-001962F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5A7-1C4A-456D-A6A9-DCD600B8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81D-C7A3-4729-B52F-C8D07C1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C76-073B-4F4B-8680-0D842A3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351B-2B81-4F9B-AAC7-4BD1DE6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0FFE-438C-4804-AC39-F10B1339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F37-923D-4C63-9840-74E0C2F6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6A16-60C0-4790-A65F-008BC560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C37C-3CD5-4E30-AFE0-47F5590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111D-32A5-4997-A304-DB09C37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D372-21F2-4AAB-A732-6A4402BC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263D-34F5-4615-BB07-DB66109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0AB-792D-401E-83D8-248C9FA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6786-9707-4EFC-970E-7C76258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B941-1D57-4C98-ACD6-C669A69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070C-F5FF-441A-92BA-E678EF7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5939-A2E8-408C-A28D-BBBE052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EE9A-2278-47DF-AE0F-914A341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8915-E12C-4666-8A99-9849D0D6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F6F1-1381-40BC-977B-E5FFF2CB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CA7-28DC-4781-B4FB-84A6B6AE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237E-943A-493A-A78E-2CBBF84D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B7C-8874-4E7A-B2C2-13D85FAD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CA35-D040-44DC-9CFB-53BF9036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1674-C127-4D4A-87FA-E2DAAD0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2137-C551-49A2-B21F-62816AA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5309-32AB-437A-88F3-02CC4050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B66D-E5A3-450C-ADD5-313B9FEA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ED37-8EDB-4EE5-BC8F-118A334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AD5C-5552-4789-8AC7-61CD401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50AE-96A1-4BD9-89D9-5AB8573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9B39-6CF7-4AC0-888D-8C60CA4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09DA-5634-46D9-82ED-D89B1D8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06F-9A49-47E5-98AF-F95B6FB5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2957-435F-4499-95D8-9436ACD9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D287-1DE2-4817-BA61-5CC3E5C9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F2F1-C812-4FA7-BE46-C533C6EB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4C05-0654-4A04-B49A-28D5055B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6AFE-FCD1-4637-BE69-1C60DBBA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E7ED-AA06-46F1-B3DC-A15887A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9A72C-702E-488C-A02C-69824D42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E330-44D8-4115-9494-AB79ADE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AF96-3D48-443C-8867-4458763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2864-4E4A-4C73-8AF1-9D5BCEAC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F69-11A5-4562-B636-4E02512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11D7-2626-4CC2-A063-CB1C0034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EE8E-D654-41D1-9DC8-1A015D77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1511-A45A-4242-AED2-C3A8D71A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8803-59B6-4296-A6A7-0F665662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1F0E-6096-4A07-A8C2-1DCA876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8C9E-8A2D-409F-8A8A-4CBBD6C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9922-5484-429D-AB0D-97EDEE2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8472-F3AD-49DF-8DF0-D161CE0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14F5-1C5C-4E85-8630-A6ABDA6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8068-66DF-4671-B2EC-831C392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7BF-270F-484F-9DEF-34A2CD2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D5366-D858-47ED-8210-35A81F1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507F-FFE5-4ECA-866E-D1C714B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0C45-B993-47D5-9759-104F2BB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6A18-DD86-4A66-B88B-C3B4321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4A13-EB6B-47CF-839A-5BAA82A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A722E-E134-4A2A-B24E-EF067BF1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A324-5812-4A76-9A74-81359BEE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ED097-6E89-486D-9D55-D929B3E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CDBE-E3DD-49DE-9E04-EB5AC1C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8BCB-98AE-45DA-998F-60DE1A9E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940-0810-4285-A888-B935CA5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53D1-2E8E-4BC5-92E5-36BD2445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C6BD-33EE-4D70-9324-D3E70E8B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CA98-1D72-40FA-A9E2-C7ED0FA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29AA-B77D-485D-A54F-7597B62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1228-01DC-4AFC-ADB2-E791F96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9038-F4DA-4230-BCB3-F186B0C7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D355-60DB-4C3E-9482-471CF045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53D0-2C2A-43F4-B45D-05C879E9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D84A5-1315-4D6C-ACCE-18D76EB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7E55-323C-47DC-87FE-30CD80E9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78B9-EF28-4B51-9536-09E08DCE0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08E-BA1B-4E00-9260-F62E928578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0F48-468C-4D1D-BCD7-782EE134F5C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9FA-61E0-43AE-85FB-E3E92D7D1FA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E270-2F3E-453C-9C9C-71453C044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83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97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136980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8"/>
          </p:nvPr>
        </p:nvSpPr>
        <p:spPr>
          <a:xfrm>
            <a:off x="380808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9"/>
          </p:nvPr>
        </p:nvSpPr>
        <p:spPr>
          <a:xfrm>
            <a:off x="723744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385-7E32-4C78-96B1-32AECC22F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147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161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2AD-32BC-441A-8F6D-5963FD6B20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238-60B6-42C8-A335-BB621540044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5EC-18C7-4AE3-B156-63BD7A15FB1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493-AA9B-4945-8D78-84923D32F1F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790-8302-461D-AABF-ACAE935B1E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1042920" y="1341360"/>
            <a:ext cx="7305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5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24560" y="37339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高二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（１０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班家校联系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759636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6403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下面是你的骄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校奖学金获得者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裘天龙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县）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朱亮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)359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县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市优秀班干部：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王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下面是你的骄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好学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茅雪利    裘天龙    夏贵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秀班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秀丽     徐太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秀团干：叶杏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秀团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邱蒙娜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积极分子：金越湘  郭志强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积极分子：周海平    余梦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卫生积极分子：王英     谢倩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育积极分子：周凯     李娇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娱积极分子：戴天福   柯笑笑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秀寝室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许娇  汤建华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下面是你的骄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960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学习成绩优秀的同学有：茅雪莉、裘天龙、夏贵峰、周海平、谢倩倩、王英、余梦莹 、朱亮、李娇霞、杨蒙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225520" y="2997360"/>
            <a:ext cx="546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次阶段考中成绩较上学期期末进步较大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有：谢倩倩、李娇霞、郭志强、邱蒙娜、许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薇、禇小娇、叶嘉雯、张天翔和周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22840" y="4508640"/>
            <a:ext cx="52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高二进班名次相比较，名次进步最大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有蔡文萍、范统一、禇小娇、张天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84200" y="39060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存在的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94400" y="12682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部分学生的学习方法不对，导致成绩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1178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部分学生自信心严重不足，有悲观失望情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87800" y="2781360"/>
            <a:ext cx="627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少数学生学习目的不明确，整日无所事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碌碌无为。个别特殊学生的有些行为甚至影响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同学的学习和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187280" y="407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比较突出的问题是偏科现象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46530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093080" y="4005360"/>
            <a:ext cx="2050920" cy="23032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2556000" y="530064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有则改之，无则加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476360" y="3189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下阶段采取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75400" y="1197000"/>
            <a:ext cx="3167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加强思想教育工作，增强学生的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和成才欲望，充分利用课堂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会时间给同学们加油鼓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58920" y="342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管理，加强纪律性，增强时间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429264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向偏科现象较严重的同学介绍好的学习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219320" y="228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了更好的促进学生发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需要请家长配合的事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76520" y="1905120"/>
            <a:ext cx="72165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协助学校落实学生行为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头发、挂件、校牌、手机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切实解决学生心理问题， 树立信心，轻装上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以身作则，在家庭中培养良好学习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加强家校联系，多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控制孩子的零花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61960" y="59500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多关注孩子周末的生活和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7236000" y="1197000"/>
            <a:ext cx="1223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332000" y="371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我们了解的情况，发现家长在教育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以下几个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华文琥珀"/>
              </a:rPr>
              <a:t>误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93040" y="1484280"/>
            <a:ext cx="19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过分保护，给学生造成心理压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学生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常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76320" y="2421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只满足孩子物质上的需要，而不关心孩子其他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97560" y="3500280"/>
            <a:ext cx="5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期望值过高，超过了孩子实际水平，这样容易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伤孩子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36760" y="436572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孩子的身体倍加呵护，却忽视了孩子的心理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436760" y="494172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注重言传身教，孩子容易出现一些不良倾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87480" y="52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cc99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00cc99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266840" y="476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39280" y="765000"/>
            <a:ext cx="487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长最好能经常与学校、老师取得联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学校对学生的要求，学生在校的各方面表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极配合学校做好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76760" y="198900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长要培养孩子的处事能力，要让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己管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05160" y="299736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注重对孩子学习习惯和学习能力的培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学生形成良好的学习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97880" y="407664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，及时给予鼓励，以增强他们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979640" y="5300640"/>
            <a:ext cx="17272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83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５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11280" y="227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６、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360" y="414972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７．抓好子女在家的行为习惯。如良好的休息、科学的安排学习、适量的家务劳动（劳动是教育人的较好方式，只有劳动，他才懂得来之不易，懂得珍惜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6021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404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1413000"/>
            <a:ext cx="648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家长会召开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班级基本情况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阶段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存在的问题及下一阶段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需要家长配合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家长教育的误区探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给家长的一些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个别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感谢您的指导，孩子的进步是我们共同的心愿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62028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没有整个社会首先是家庭的高度教育素养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3520" y="5486040"/>
            <a:ext cx="7086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教育必须要有家庭教育的配合，家庭教育既是学校教育的基础，又是学校教育的延续与升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58920" y="49417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350028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ahoma"/>
              </a:rPr>
              <a:t>家长是孩子的第一任教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ahoma"/>
              </a:rPr>
              <a:t>家庭是孩子的天然学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96360" y="472428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611280" y="105264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在家庭与学校之间架起一座金色的桥梁，使学校教育与家庭教育有机地结合起来，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则是连结家庭教育与学校教育的纽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11280" y="1700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60e32"/>
                </a:solidFill>
                <a:latin typeface="华文楷体"/>
                <a:ea typeface="华文楷体"/>
              </a:rPr>
              <a:t>班级基本情况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924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高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(10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班共有学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人，其中男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人，女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楷体"/>
              </a:rPr>
              <a:t>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男生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个寝室，分别住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4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寝室。女生分两个寝室，分别住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1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2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寝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095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193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476280"/>
            <a:ext cx="568944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教师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语文——张海平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８６７６３２５８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数学——王英选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９６８５７２９５８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英语——许亚萍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９６８５９５０１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物理——廖春雨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８１９６３３６３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化学——王照群（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１３８６８５９１３３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生物——厉瑞芳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９６８５７６３８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政治——齐娅芳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（１３９６８５７８３０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564000" cy="32418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55640" y="907920"/>
            <a:ext cx="489744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长：许晓桦、王秀丽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团支书：叶杏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副班长：徐太益、干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委员：郭志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宣传委员：柯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织委员：汤建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推普委员：许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活委员：王英、谢倩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体育委员（男）：周凯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体育委员（女）：李娇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艺委员：戴天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73988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干部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092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课代表和寝室长名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语文课代表：叶杏萍         数学课代表：金越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英语课代表：余梦莹         物理课代表：周海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政治课代表：刘双毅         生物课代表：许飘霞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化学课代表：夏贵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2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寝室长：奚先智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寝室长：陈汪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5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寝室长：周海平、金越湘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寝室长：蔡文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寝室长：汤建华、许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0:18Z</dcterms:modified>
  <cp:revision>32</cp:revision>
  <dc:subject>主题班会课件(分28大类): http://shop62905894.taobao.com</dc:subject>
  <dc:title>主题班会课件(分28大类): http://shop62905894.taobao.com</dc:title>
</cp:coreProperties>
</file>