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D56-7658-4BB3-81CF-AE9C4415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052-86A3-4021-A1A4-96D6D9C1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CE3-32EE-4D0C-A540-C5E42F00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4D2-2489-49CB-9F51-12E5DD90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8F4-EE84-4709-8150-735623EA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A4F-EB4D-4C95-B8FE-DFA3FEA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944-9993-4B80-A0C1-7F33DE5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876-C041-4B46-B8DF-25F57237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A12-53FD-4315-95FA-64874208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31C-E4F9-4488-BB7C-2BC3B6AB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39A-F1B8-482D-B8BA-3DC7B65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C36-2460-4B41-BDD3-C0EB324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C26-DF23-446F-9346-A34D60CC1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4000" y="4653000"/>
            <a:ext cx="7559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隶书"/>
                <a:ea typeface="隶书"/>
              </a:rPr>
              <a:t>——</a:t>
            </a:r>
            <a:r>
              <a:rPr b="1" lang="zh-CN" sz="4800" spc="-1" strike="noStrike">
                <a:solidFill>
                  <a:srgbClr val="00cc00"/>
                </a:solidFill>
                <a:latin typeface="华文新魏"/>
                <a:ea typeface="华文新魏"/>
              </a:rPr>
              <a:t>高二</a:t>
            </a:r>
            <a:r>
              <a:rPr b="1" lang="zh-CN" sz="4800" spc="-1" strike="noStrike">
                <a:solidFill>
                  <a:srgbClr val="00cc00"/>
                </a:solidFill>
                <a:latin typeface="华文新魏"/>
                <a:ea typeface="华文新魏"/>
              </a:rPr>
              <a:t>(7)</a:t>
            </a:r>
            <a:r>
              <a:rPr b="1" lang="zh-CN" sz="4800" spc="-1" strike="noStrike">
                <a:solidFill>
                  <a:srgbClr val="00cc00"/>
                </a:solidFill>
                <a:latin typeface="华文新魏"/>
                <a:ea typeface="华文新魏"/>
              </a:rPr>
              <a:t>班学生家长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765000"/>
            <a:ext cx="7417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家长，您好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7667640" y="6021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8406"/>
                </a:moveTo>
                <a:lnTo>
                  <a:pt x="9756" y="8406"/>
                </a:lnTo>
                <a:lnTo>
                  <a:pt x="14177" y="3794"/>
                </a:lnTo>
                <a:lnTo>
                  <a:pt x="14177" y="17806"/>
                </a:lnTo>
                <a:lnTo>
                  <a:pt x="9756" y="13194"/>
                </a:lnTo>
                <a:lnTo>
                  <a:pt x="5325" y="13194"/>
                </a:lnTo>
                <a:close/>
              </a:path>
              <a:path fill="darken" w="24664" h="21600">
                <a:moveTo>
                  <a:pt x="15831" y="10800"/>
                </a:moveTo>
                <a:lnTo>
                  <a:pt x="19338" y="10800"/>
                </a:lnTo>
              </a:path>
              <a:path fill="darken" w="24664" h="21600">
                <a:moveTo>
                  <a:pt x="15831" y="8406"/>
                </a:moveTo>
                <a:lnTo>
                  <a:pt x="19338" y="5639"/>
                </a:lnTo>
              </a:path>
              <a:path fill="darken" w="24664" h="21600">
                <a:moveTo>
                  <a:pt x="15831" y="13194"/>
                </a:moveTo>
                <a:lnTo>
                  <a:pt x="1933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260280"/>
            <a:ext cx="65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我们的班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67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班委干部名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团 支 书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陈珍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班    长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任江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副 班 长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孔海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委员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朱澄燕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宣传委员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孔莉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劳动委员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黄秋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活委员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承  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娱委员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孔丹慧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体育委员：</a:t>
            </a: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孙佳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70520"/>
            <a:ext cx="374328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各学科代表名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文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邱   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学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王    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语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王丹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费荣亮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物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陈豪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学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刘菊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政治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黄雪芸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史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孔余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理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庞燕燕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信息：</a:t>
            </a:r>
            <a:r>
              <a:rPr b="0" lang="zh-CN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许志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62064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高二年级 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双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合成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784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高二年级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432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名学生中，选修科目达双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者，全年级共有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130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人，这其中达双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且必修四门学科达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4C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者只有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86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人，而且这中间还有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39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人的语数外总分在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300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分以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33336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一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物生班 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双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合成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6920" y="1773360"/>
          <a:ext cx="7583400" cy="4111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60600"/>
                <a:gridCol w="1487520"/>
                <a:gridCol w="14871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别班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选修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物理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选修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生物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双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门总分﹥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二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二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高二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42920" y="1773360"/>
            <a:ext cx="1513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476280"/>
            <a:ext cx="84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二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高二（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）班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双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合成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4360" y="1844640"/>
          <a:ext cx="7993080" cy="4210200"/>
        </p:xfrm>
        <a:graphic>
          <a:graphicData uri="http://schemas.openxmlformats.org/drawingml/2006/table">
            <a:tbl>
              <a:tblPr/>
              <a:tblGrid>
                <a:gridCol w="2232000"/>
                <a:gridCol w="576108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双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朱澄燕、孔海冬、任江源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承曦、孔超、包凯峰、陈豪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丹丹、孔余生、黄雪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费荣亮、孔丹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双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  荣、居芳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三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期中考试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年级前一百名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87280" y="1197000"/>
          <a:ext cx="7272360" cy="5322960"/>
        </p:xfrm>
        <a:graphic>
          <a:graphicData uri="http://schemas.openxmlformats.org/drawingml/2006/table">
            <a:tbl>
              <a:tblPr/>
              <a:tblGrid>
                <a:gridCol w="1455840"/>
                <a:gridCol w="2009880"/>
                <a:gridCol w="1832040"/>
                <a:gridCol w="1974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华文隶书"/>
                        </a:rPr>
                        <a:t>班级名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年级名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珍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5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丹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5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庞燕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4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邱  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3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澄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3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  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3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余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3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海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2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任江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2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费荣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2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许志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2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承  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2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333360"/>
            <a:ext cx="813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四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期中考试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单科前十名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32000" y="1341360"/>
          <a:ext cx="6048360" cy="5035680"/>
        </p:xfrm>
        <a:graphic>
          <a:graphicData uri="http://schemas.openxmlformats.org/drawingml/2006/table">
            <a:tbl>
              <a:tblPr/>
              <a:tblGrid>
                <a:gridCol w="2089080"/>
                <a:gridCol w="1905120"/>
                <a:gridCol w="20541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外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珍珍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珍珍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丹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庞燕燕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丹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庞燕燕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丹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澄燕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珍珍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邱  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  红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邱  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余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海冬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任江源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任江源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许志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澄燕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丹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杨  荣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  红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周  婷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黄雪芸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费荣亮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包永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包凯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余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琼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费荣亮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承  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四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续 期中考试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单科前十名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484280"/>
          <a:ext cx="7561440" cy="4286160"/>
        </p:xfrm>
        <a:graphic>
          <a:graphicData uri="http://schemas.openxmlformats.org/drawingml/2006/table">
            <a:tbl>
              <a:tblPr/>
              <a:tblGrid>
                <a:gridCol w="1781280"/>
                <a:gridCol w="1890720"/>
                <a:gridCol w="1873440"/>
                <a:gridCol w="2016000"/>
              </a:tblGrid>
              <a:tr h="5936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物  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华文隶书"/>
                        </a:rPr>
                        <a:t>生  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豪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澄燕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豪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任江源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丹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  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丹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莉君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包凯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余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承  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澄燕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黄雪芸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承  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费荣亮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  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周倩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海冬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包凯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孔海冬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邱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许志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549360"/>
            <a:ext cx="86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五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班级与年级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最高分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773360"/>
          <a:ext cx="8856720" cy="3933720"/>
        </p:xfrm>
        <a:graphic>
          <a:graphicData uri="http://schemas.openxmlformats.org/drawingml/2006/table">
            <a:tbl>
              <a:tblPr/>
              <a:tblGrid>
                <a:gridCol w="1495440"/>
                <a:gridCol w="1384560"/>
                <a:gridCol w="1800000"/>
                <a:gridCol w="1513080"/>
                <a:gridCol w="1368360"/>
                <a:gridCol w="1295280"/>
              </a:tblGrid>
              <a:tr h="11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语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数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外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物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生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年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最高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班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最高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珍珍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珍珍、王丹丹、朱澄燕、王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丹丹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豪宇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豪宇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表六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期中考试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必修科目后十名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16000" y="1268280"/>
          <a:ext cx="7056360" cy="5133960"/>
        </p:xfrm>
        <a:graphic>
          <a:graphicData uri="http://schemas.openxmlformats.org/drawingml/2006/table">
            <a:tbl>
              <a:tblPr/>
              <a:tblGrid>
                <a:gridCol w="1763640"/>
                <a:gridCol w="1765440"/>
                <a:gridCol w="1763640"/>
                <a:gridCol w="176364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化  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王  超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杨  荣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王  超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王  超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石宇辉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倪  琳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孔余生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曹梦凯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刘菊林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费军伟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倪  琳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庞燕燕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颜明豪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承  曦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  杰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费军伟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曹梦凯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王  超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  荣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倪  琳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  擎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颜明豪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居芳杰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  荣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居芳杰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居芳杰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薛荣健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许莹莹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杨  荣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雪芸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曹梦凯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  擎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倩炜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薛荣健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孙佳伟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许志刚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任江源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庞燕燕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包凯峰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菊林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60280"/>
            <a:ext cx="76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我们的学生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268280"/>
          <a:ext cx="8424720" cy="5311800"/>
        </p:xfrm>
        <a:graphic>
          <a:graphicData uri="http://schemas.openxmlformats.org/drawingml/2006/table">
            <a:tbl>
              <a:tblPr/>
              <a:tblGrid>
                <a:gridCol w="3311280"/>
                <a:gridCol w="5113440"/>
              </a:tblGrid>
              <a:tr h="15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刻苦认真，成绩优异，可为楷模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珍珍、朱澄燕、任江源、王丹丹、费荣亮、邱　敏、孔丹慧、庞燕燕、承　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学习态度有了更大的改善，成绩有了较大的进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豪宇、黄雪芸、周倩炜、陈琼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基础薄弱，但态度端正，学习成绩正逐步提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包凯峰、孔　超、倪　琳、周　婷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进步尤为明显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孔余生、费军伟、张　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26920" y="1341360"/>
            <a:ext cx="7201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恩未报岂敢懈怠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3645000"/>
            <a:ext cx="72010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梦未圆怎能放弃</a:t>
            </a:r>
            <a:endParaRPr b="0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95280" y="549360"/>
          <a:ext cx="8209080" cy="5938920"/>
        </p:xfrm>
        <a:graphic>
          <a:graphicData uri="http://schemas.openxmlformats.org/drawingml/2006/table">
            <a:tbl>
              <a:tblPr/>
              <a:tblGrid>
                <a:gridCol w="3095640"/>
                <a:gridCol w="5113440"/>
              </a:tblGrid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通过努力，学习成绩有了回升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费国成、许莹莹、薛荣健、孙佳伟、居芳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学习态度有所好转，学习成绩有不同程度的进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石宇辉、杨　荣、叶　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学习兴趣不浓但提升的空间很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晓康、刘菊林、颜明豪、包永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尚未养成良好的学习习惯，学习兴趣有待提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  超、曹梦凯、徐达、黄　 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、成绩趋于下降趋势，退步明显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孔海冬、王　红、黄秋清、许志刚、孔莉君、华海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期中考试暴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28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次期中考试，我们发现班上同学语数外与选修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匹配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高。有些同学在个别学科上有“瘸腿”现象！如今决定高考命运的是语数外三门的总分，任何一门出现失误，都很难有机会弥补。但也绝不能忽视物理，生物两门选修学科，因为它们是决定高考能否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录取本科的前提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考试过程中出现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答题不规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基础知识的掌握还不扎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个别同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对必修学科不够重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成绩背后的问题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351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别同学自以为是，上课不够专心，甚至做一些与学习无关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学生作业马虎，差错较多，选择题乱猜，计算题只写一个答案；讲评过的练习部分学生没有养成及时订正的习惯，导致已做过的练习屡做屡错。到考试时遇到难题不会积极去思考，而是手足无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自习的效率不高，课间之后无法迅速进入学习的状态；自修课上总有人借问题目为名讲闲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时学习懒散，紧张程度不够，临近考试才匆忙复习； 考试心理素质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期中考试之后我们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每门功课的重点关注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各科任老师的联系，对成绩有漏洞的学生给予更多的关注，时时跟踪，尽最大努力使学生在薄弱科目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给家长的几点建议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692280"/>
            <a:ext cx="850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了解子女学习情况，不要只关心学习成绩，而不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关注学习过程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71628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 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二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关心子女的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内心世界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尊重他们的想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981000"/>
            <a:ext cx="82296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 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、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尊重教育规律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给子女营造一个良好的学习氛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720" y="3357720"/>
            <a:ext cx="82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ff33"/>
                </a:solidFill>
                <a:latin typeface="Tahoma"/>
                <a:ea typeface="华文新魏"/>
              </a:rPr>
              <a:t>    </a:t>
            </a: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华文新魏"/>
              </a:rPr>
              <a:t>四、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华文新魏"/>
              </a:rPr>
              <a:t>平时与班主任、任课老师</a:t>
            </a:r>
            <a:r>
              <a:rPr b="0" lang="zh-CN" sz="5400" spc="-1" strike="noStrike">
                <a:solidFill>
                  <a:srgbClr val="333399"/>
                </a:solidFill>
                <a:latin typeface="Tahoma"/>
                <a:ea typeface="华文新魏"/>
              </a:rPr>
              <a:t>多多联系，沟通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华文新魏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华文新魏"/>
              </a:rPr>
              <a:t>进行共同教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5400000">
            <a:off x="-1600560" y="26668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教师一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9907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836640"/>
            <a:ext cx="727236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班主任（语文）：何国荣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5852596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谷远祥老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5961662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刘红霞老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3626237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陈  程老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3861618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天华老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38121114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政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学新校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30136932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理： 许雪妮老师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39152296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史： 吴  艳老师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80128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学： 胡月霞老师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el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38151286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9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首先感谢您在百忙之中抽空来参加此次家长会，关心、帮助、督促贵子女是我们共同的心愿！您的孩子能取得进步，获得全面发展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92280"/>
            <a:ext cx="61214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  <a:ea typeface="黑体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916280"/>
            <a:ext cx="8229600" cy="16570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老师自由交流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964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谷远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年轻有为，管理学生很有方法；教学风格鲜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刘红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华东师范大学硕士研究生，专业英语达八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陈  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课堂教学生动活泼，教学效果显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何天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担任过高三毕业班教学，有丰富的教学经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张学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江阴市政治学科中心组成员，市“教学能手”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何国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常年担任班主任工作，所带班级多次被授予江 阴市级、无锡市级“先进学生集体”称号，“江阴市优秀班主任”、 “无锡市先进德育工作者”、“江阴市师德高尚好园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0464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我们的任课老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164360" y="5805360"/>
            <a:ext cx="1150920" cy="648000"/>
          </a:xfrm>
          <a:prstGeom prst="leftArrow">
            <a:avLst>
              <a:gd name="adj1" fmla="val 50000"/>
              <a:gd name="adj2" fmla="val 444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地实施教育，能够更好教育自己的子女成人与成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4128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484280"/>
            <a:ext cx="8353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办学宗旨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:  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发展为本，和谐树人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;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校   训 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:  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明德尚智、身体力行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;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校   风 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:  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兼容并蓄、求是创新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;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教   风 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:  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教真导善、敬业致远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;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学   风 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:  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弘毅博学，慎思笃行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;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3336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学校简介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1125360"/>
          <a:ext cx="8534520" cy="5217840"/>
        </p:xfrm>
        <a:graphic>
          <a:graphicData uri="http://schemas.openxmlformats.org/drawingml/2006/table">
            <a:tbl>
              <a:tblPr/>
              <a:tblGrid>
                <a:gridCol w="895320"/>
                <a:gridCol w="2876760"/>
                <a:gridCol w="2544480"/>
                <a:gridCol w="2217960"/>
              </a:tblGrid>
              <a:tr h="7207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6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7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8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届学生高考质量数据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入学时总均分名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考总均分名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提升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本二以上进线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当年市局指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目标达成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6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1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68360" y="18900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我们的学校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170000"/>
            <a:ext cx="854064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谷远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师（数学）刘红霞老师（英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陈  程老师（物理）何天华老师（生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胡月霞老师（化学）许雪妮老师（地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学新校长（政治）吴  艳老师（历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何国荣老师（语文，班主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76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我们的任课老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）班有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名同学，男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人，女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人；住宿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人，走读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班级从组建至今已有半年，在这期间，我们的同学和老师通过不断地探讨、交流、沟通、磨合，教学已经步入正轨。进入高二，我们加强了对学生的管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在卫生常规工作方面：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完善了常规卫生工作分工职责，并让每个成员都清楚地认识到，一个团队要进步，要发展，必须从自身做起，尽到自己的责任和义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900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我们的班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96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808080"/>
                </a:solidFill>
                <a:latin typeface="Arial"/>
              </a:rPr>
              <a:t>   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在刚过去的半年中，我们欣喜地看到，我们的努力没有白费，班级在</a:t>
            </a:r>
            <a:r>
              <a:rPr b="1" lang="zh-CN" sz="3400" spc="-1" strike="noStrike">
                <a:solidFill>
                  <a:srgbClr val="cc3300"/>
                </a:solidFill>
                <a:latin typeface="Arial"/>
              </a:rPr>
              <a:t>校园文化艺术节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400" spc="-1" strike="noStrike">
                <a:solidFill>
                  <a:srgbClr val="cc3300"/>
                </a:solidFill>
                <a:latin typeface="Arial"/>
              </a:rPr>
              <a:t>田径运动会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400" spc="-1" strike="noStrike">
                <a:solidFill>
                  <a:srgbClr val="cc3300"/>
                </a:solidFill>
                <a:latin typeface="Arial"/>
              </a:rPr>
              <a:t>常规工作评比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400" spc="-1" strike="noStrike">
                <a:solidFill>
                  <a:srgbClr val="cc3300"/>
                </a:solidFill>
                <a:latin typeface="Arial"/>
              </a:rPr>
              <a:t>历次考试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中都取得了不俗的成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在学习方面：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注重培养学生的自主学习能力，让每个人都能认真自觉地对待学习，以促成良好学习氛围的形成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期中考试后，我们全班进行了民主选举，重新选举了班委干部和各学科代表，充分调动大家的积极性，让更多的同学能参与班集体建设，锻炼和培养自己多方面的能力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592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我们的班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53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04:40Z</dcterms:modified>
  <cp:revision>1</cp:revision>
  <dc:subject>主题班会课件(分28大类): http://shop62905894.taobao.com</dc:subject>
  <dc:title>主题班会课件(分28大类): http://shop62905894.taobao.com</dc:title>
</cp:coreProperties>
</file>