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clap.wav" ContentType="audio/x-wav"/>
  <Override PartName="/ppt/media/image16.jpeg" ContentType="image/jpeg"/>
  <Override PartName="/ppt/media/image9.gif" ContentType="image/gif"/>
  <Override PartName="/ppt/media/image8.gif" ContentType="image/gif"/>
  <Override PartName="/ppt/media/image17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voltage.wav" ContentType="audio/x-wav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FDC-DED0-4A24-B4CA-F1492B20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ED6-B9D3-4102-A983-2B72EA2B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A7C-8A1E-41D9-9F5D-BFDBA05F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EB4-1236-4040-B56D-146414E0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C212-A342-4AB7-AEF2-59A98C6C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78AD-2B77-4172-835E-C52813C4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CBEA-0177-400E-B548-9E58C056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F769-E851-4CBE-B64D-BEB75BAB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D90D-4E76-43CE-897C-604D4D25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259B-4938-42FC-80BD-6F302AE0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F8B7-346B-4FCD-96EA-CDCD09A2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F59-CA39-4CD1-AEC6-1C0AAD1C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6287-E754-4351-9CA1-B861C128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429F-E9E8-40F2-8249-A3A184BB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7E59-0BFE-4BF1-8EB4-3BA5D311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B7C7-7693-4F26-AC00-FED15528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0773-3DDA-4AB2-86AE-13CFA696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632-A7D8-4331-AF00-1B92A00A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F65-C001-4BFB-8C9B-F69A515C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17B-4013-40EA-9847-A3396794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60C-A26F-43EC-B6D8-7C4BD717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F0C-C431-4A50-AC20-18CA9FB7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DA8-77F5-4864-95DA-D7A139C1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E32-4B25-4343-8FB8-DE17873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388F-182B-48CB-8160-2996836A78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7281-9914-4B46-AC41-C440DA2ED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lap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4000" y="2205000"/>
            <a:ext cx="853416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欢迎各位家长光临指导！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2268720" cy="19000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511640" y="3500280"/>
            <a:ext cx="23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双 向 交 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6360" y="4437000"/>
            <a:ext cx="23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沟 通 无 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7380360" y="4508640"/>
            <a:ext cx="1763640" cy="2160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844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本学期期中考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光 荣 榜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0" y="816120"/>
          <a:ext cx="8820000" cy="6041880"/>
        </p:xfrm>
        <a:graphic>
          <a:graphicData uri="http://schemas.openxmlformats.org/drawingml/2006/table">
            <a:tbl>
              <a:tblPr/>
              <a:tblGrid>
                <a:gridCol w="1587600"/>
                <a:gridCol w="2154240"/>
                <a:gridCol w="1693800"/>
                <a:gridCol w="1352520"/>
                <a:gridCol w="2031840"/>
              </a:tblGrid>
              <a:tr h="7020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高二（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6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）班期中总成绩学习标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学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门总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班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门班类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5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6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群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倪志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4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5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顾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3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3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赵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政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3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志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7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8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风喜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9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120315"/>
                          </a:solidFill>
                          <a:latin typeface="宋体"/>
                        </a:rPr>
                        <a:t>26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汤汝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844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本学期期中考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光 荣 榜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250920" y="692280"/>
          <a:ext cx="8641800" cy="5976360"/>
        </p:xfrm>
        <a:graphic>
          <a:graphicData uri="http://schemas.openxmlformats.org/drawingml/2006/table">
            <a:tbl>
              <a:tblPr/>
              <a:tblGrid>
                <a:gridCol w="2554200"/>
                <a:gridCol w="3533400"/>
                <a:gridCol w="2554200"/>
              </a:tblGrid>
              <a:tr h="1031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高二（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6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）班期中语文学习标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学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俊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闻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俊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薛继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顾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赵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倪志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本学期期中考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光 荣 榜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50920" y="647640"/>
          <a:ext cx="8496360" cy="6270840"/>
        </p:xfrm>
        <a:graphic>
          <a:graphicData uri="http://schemas.openxmlformats.org/drawingml/2006/table">
            <a:tbl>
              <a:tblPr/>
              <a:tblGrid>
                <a:gridCol w="2504880"/>
                <a:gridCol w="3486240"/>
                <a:gridCol w="2505240"/>
              </a:tblGrid>
              <a:tr h="581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66cc"/>
                          </a:solidFill>
                          <a:latin typeface="宋体"/>
                        </a:rPr>
                        <a:t>高二（</a:t>
                      </a:r>
                      <a:r>
                        <a:rPr b="1" lang="zh-CN" sz="3200" spc="-1" strike="noStrike">
                          <a:solidFill>
                            <a:srgbClr val="0066cc"/>
                          </a:solidFill>
                          <a:latin typeface="宋体"/>
                        </a:rPr>
                        <a:t>26</a:t>
                      </a:r>
                      <a:r>
                        <a:rPr b="1" lang="zh-CN" sz="3200" spc="-1" strike="noStrike">
                          <a:solidFill>
                            <a:srgbClr val="0066cc"/>
                          </a:solidFill>
                          <a:latin typeface="宋体"/>
                        </a:rPr>
                        <a:t>）班期中数学学习标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学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志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靖振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汤汝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倪志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顾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玉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鲍叶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本学期期中考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光 荣 榜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250920" y="587520"/>
          <a:ext cx="8497800" cy="6270480"/>
        </p:xfrm>
        <a:graphic>
          <a:graphicData uri="http://schemas.openxmlformats.org/drawingml/2006/table">
            <a:tbl>
              <a:tblPr/>
              <a:tblGrid>
                <a:gridCol w="2574720"/>
                <a:gridCol w="3446640"/>
                <a:gridCol w="2476440"/>
              </a:tblGrid>
              <a:tr h="581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高二（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6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）班期中英语学习标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学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赵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安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金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顾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葛加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薛继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本学期期中考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光 荣 榜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95280" y="692280"/>
          <a:ext cx="8424720" cy="5930640"/>
        </p:xfrm>
        <a:graphic>
          <a:graphicData uri="http://schemas.openxmlformats.org/drawingml/2006/table">
            <a:tbl>
              <a:tblPr/>
              <a:tblGrid>
                <a:gridCol w="2479680"/>
                <a:gridCol w="3465360"/>
                <a:gridCol w="2479680"/>
              </a:tblGrid>
              <a:tr h="483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高二（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6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）班期中物理学习标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学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风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俊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汤正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本学期期中考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光 荣 榜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68360" y="587520"/>
          <a:ext cx="8064360" cy="6270480"/>
        </p:xfrm>
        <a:graphic>
          <a:graphicData uri="http://schemas.openxmlformats.org/drawingml/2006/table">
            <a:tbl>
              <a:tblPr/>
              <a:tblGrid>
                <a:gridCol w="2378160"/>
                <a:gridCol w="3308040"/>
                <a:gridCol w="2378160"/>
              </a:tblGrid>
              <a:tr h="581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高二（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6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）班期中化学学习标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学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倪志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胡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俊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薛继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71640" y="2602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文鼎CS长美黑"/>
              </a:rPr>
              <a:t>影响学习成绩的因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29264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成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=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态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~40%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+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习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5~45%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能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5~2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1197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学习态度：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态度决定一切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（努力程度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948360" y="5013360"/>
            <a:ext cx="2195640" cy="1843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24000" y="2708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学习能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记忆能力、理解能力、分析能力、运用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24000" y="1916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学习习惯：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专注程度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决定成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476280"/>
            <a:ext cx="9144000" cy="85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听听家长代表的心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40000"/>
                </a:solidFill>
                <a:latin typeface="Arial"/>
                <a:ea typeface="黑体"/>
              </a:rPr>
              <a:t>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2436840" cy="38102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547640" y="1773360"/>
            <a:ext cx="7377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40000"/>
                </a:solidFill>
                <a:latin typeface="Arial"/>
                <a:ea typeface="黑体"/>
              </a:rPr>
              <a:t>家长代表发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20315"/>
                </a:solidFill>
                <a:latin typeface="Arial"/>
                <a:ea typeface="黑体"/>
              </a:rPr>
              <a:t>李默同学家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2550960"/>
            <a:ext cx="9144000" cy="430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62651" dir="18517212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88930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40000"/>
                </a:solidFill>
                <a:latin typeface="Arial"/>
                <a:ea typeface="黑体"/>
              </a:rPr>
              <a:t>学生代表发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高波同学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（总分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/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数学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/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进步标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95280" y="189000"/>
            <a:ext cx="842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0">
                  <a:solidFill>
                    <a:srgbClr val="99ccff"/>
                  </a:solidFill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今后的打算和措施：</a:t>
            </a:r>
            <a:endParaRPr b="0" lang="en-US" sz="1800" spc="1" strike="noStrike">
              <a:ln cap="sq" w="0">
                <a:solidFill>
                  <a:srgbClr val="99ccff"/>
                </a:solidFill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8360" y="1268280"/>
            <a:ext cx="777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一、将“严格管理”进行到底（请家长协助）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920" y="1989000"/>
            <a:ext cx="655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老师对孩子最大的爱莫过于严格管理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042920" y="2852640"/>
            <a:ext cx="6842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老师对孩子责任心的体现莫过于严格管理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8360" y="4508640"/>
            <a:ext cx="7632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三、好的作风和习惯要坚持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95280" y="3645000"/>
            <a:ext cx="8207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、决胜课堂，制定更高的学习目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40000"/>
                </a:solidFill>
                <a:latin typeface="Arial"/>
              </a:rPr>
              <a:t>请检查桌面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次期中成绩单及喜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期中反思（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并完成家长留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各学科作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家长对学校的建议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江苏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考公示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 txBox="1"/>
          <p:nvPr/>
        </p:nvSpPr>
        <p:spPr>
          <a:xfrm>
            <a:off x="1763640" y="1033560"/>
            <a:ext cx="609624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e40000"/>
                </a:solidFill>
                <a:latin typeface="方正姚体"/>
              </a:rPr>
              <a:t>给家长的几点建议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e40000"/>
              </a:soli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611280" y="42544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注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孩子的伙伴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32194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注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孩子的细微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0200" y="549360"/>
            <a:ext cx="40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注孩子的理想目标和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1280" y="5191200"/>
            <a:ext cx="38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注孩子书包里的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65280" y="1689120"/>
            <a:ext cx="39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注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孩子的学习习惯、作业完成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914400" y="1258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058760" y="1330200"/>
            <a:ext cx="37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切勿对子女施加过大的压力。应以鼓励为主，并对他们在家的行为加以监督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2608200" y="1773360"/>
            <a:ext cx="43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轻松和谐的家庭氛围能够缓和子女的紧张情绪，克服恐惧心理，增强信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50920" y="765000"/>
            <a:ext cx="85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幼圆"/>
                <a:ea typeface="幼圆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幼圆"/>
                <a:ea typeface="幼圆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尽量保证每天与孩子的及时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沟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5280" y="1557360"/>
            <a:ext cx="84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(1)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了解在校学习以及与同学相处的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4000" y="2421000"/>
            <a:ext cx="49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(2)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掌握思想动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5280" y="486900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(5)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把握其身体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4000" y="4076640"/>
            <a:ext cx="49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(4)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生活上严格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36600" y="3284640"/>
            <a:ext cx="88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(3)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客观分析孩子的成绩，多关注学习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132000" y="0"/>
            <a:ext cx="461988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希望家长配合的事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）对孩子的学习要抓紧督促，你们的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关心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是他们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最大的学习动力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。（上网、游戏、电视、窜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24000" y="119700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、指导假日的安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8360" y="19162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对孩子玩电脑游戏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QQ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加以监督和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39640" y="2492280"/>
            <a:ext cx="78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指导孩子假日学习与休息的有机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0920" y="314172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、加强与老师的联系，及时反映孩子的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动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4221000"/>
            <a:ext cx="77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、注意家长形象、营造家庭文化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0920" y="4869000"/>
            <a:ext cx="58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、帮助子女树立远大的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0920" y="558972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6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、配合学校严格要求学生（校服、手机、小灵通、头发、挂件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439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0315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120315"/>
                </a:solidFill>
                <a:latin typeface="Arial"/>
              </a:rPr>
              <a:t>、培养学生吃苦精神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不轻易满足孩子的经济要求，培养他们节约的习惯，控制好零用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不让孩子带贵重物品来校，如手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MP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不轻易地替学生请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577800" y="2844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398920" y="105264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Verdana"/>
                <a:ea typeface="华文隶书"/>
              </a:rPr>
              <a:t>经常联系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3489480" y="1143000"/>
            <a:ext cx="32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1676520"/>
            <a:ext cx="7086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各科教师的联系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" y="258768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9f9fb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毛志红老师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39523720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f9fb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李浩峰老师：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568871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f9fb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   梅老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  131518865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f9fb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物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卢爱玲老师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3511500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f9fb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化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张正飞老师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35115308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" fill="hold"/>
                                        <p:tgtEl>
                                          <p:spTgt spid="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15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75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725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家长对学校的建议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0" y="2219400"/>
            <a:ext cx="5334120" cy="29653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 txBox="1"/>
          <p:nvPr/>
        </p:nvSpPr>
        <p:spPr>
          <a:xfrm>
            <a:off x="576360" y="4795920"/>
            <a:ext cx="7956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一切都是为了孩子！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755640" y="620640"/>
            <a:ext cx="7632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谢谢各位光临</a:t>
            </a:r>
            <a:endParaRPr b="1" lang="en-US" sz="4000" spc="1" strike="noStrike">
              <a:ln w="381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615" name=""/>
          <p:cNvSpPr/>
          <p:nvPr/>
        </p:nvSpPr>
        <p:spPr>
          <a:xfrm>
            <a:off x="3059280" y="422100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66ff33"/>
                </a:solidFill>
                <a:latin typeface="Arial"/>
                <a:ea typeface="华文隶书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5562720" y="3375000"/>
            <a:ext cx="3635280" cy="36352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83059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我们高二年级学生学习三大习惯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76360" y="1125360"/>
            <a:ext cx="56880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专心听讲（专致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独立作业（检查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安静自习（统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0920" y="4581360"/>
            <a:ext cx="85690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请各位家长协助我们让每一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学生迅速养成，助他们成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7236000" y="2997360"/>
            <a:ext cx="1776240" cy="38606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40000"/>
                </a:solidFill>
                <a:latin typeface="Arial"/>
                <a:ea typeface="华文新魏"/>
              </a:rPr>
              <a:t>我们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华文新魏"/>
              </a:rPr>
              <a:t>26</a:t>
            </a:r>
            <a:r>
              <a:rPr b="0" lang="zh-CN" sz="6600" spc="-1" strike="noStrike">
                <a:solidFill>
                  <a:srgbClr val="e40000"/>
                </a:solidFill>
                <a:latin typeface="Arial"/>
                <a:ea typeface="华文新魏"/>
              </a:rPr>
              <a:t>班的班风：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627280" y="1628640"/>
            <a:ext cx="4392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团结互助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勤学善思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争创优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7315200" y="2592360"/>
            <a:ext cx="1577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40000"/>
                </a:solidFill>
                <a:latin typeface="Arial"/>
                <a:ea typeface="华文新魏"/>
              </a:rPr>
              <a:t>我们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华文新魏"/>
              </a:rPr>
              <a:t>26</a:t>
            </a:r>
            <a:r>
              <a:rPr b="0" lang="zh-CN" sz="6600" spc="-1" strike="noStrike">
                <a:solidFill>
                  <a:srgbClr val="e40000"/>
                </a:solidFill>
                <a:latin typeface="Arial"/>
                <a:ea typeface="华文新魏"/>
              </a:rPr>
              <a:t>班的班训：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华文隶书"/>
              </a:rPr>
              <a:t>态度、习惯决定一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华文隶书"/>
              </a:rPr>
              <a:t> 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华文隶书"/>
              </a:rPr>
              <a:t>勤奋、细节决定成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7924680" y="5410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566120" y="3213000"/>
            <a:ext cx="15778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40000"/>
                </a:solidFill>
                <a:latin typeface="Arial"/>
                <a:ea typeface="华文新魏"/>
              </a:rPr>
              <a:t>我们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华文新魏"/>
              </a:rPr>
              <a:t>26</a:t>
            </a:r>
            <a:r>
              <a:rPr b="0" lang="zh-CN" sz="6600" spc="-1" strike="noStrike">
                <a:solidFill>
                  <a:srgbClr val="e40000"/>
                </a:solidFill>
                <a:latin typeface="Arial"/>
                <a:ea typeface="华文新魏"/>
              </a:rPr>
              <a:t>班的精神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48160" y="32464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686560" cy="5805360"/>
          </a:xfrm>
          <a:prstGeom prst="rect">
            <a:avLst/>
          </a:prstGeom>
          <a:ln w="0">
            <a:noFill/>
          </a:ln>
        </p:spPr>
      </p:pic>
      <p:grpSp>
        <p:nvGrpSpPr>
          <p:cNvPr id="526" name=""/>
          <p:cNvGrpSpPr/>
          <p:nvPr/>
        </p:nvGrpSpPr>
        <p:grpSpPr>
          <a:xfrm>
            <a:off x="1619280" y="1052640"/>
            <a:ext cx="5616720" cy="4608360"/>
            <a:chOff x="1619280" y="1052640"/>
            <a:chExt cx="5616720" cy="4608360"/>
          </a:xfrm>
        </p:grpSpPr>
        <p:sp>
          <p:nvSpPr>
            <p:cNvPr id="527" name=""/>
            <p:cNvSpPr/>
            <p:nvPr/>
          </p:nvSpPr>
          <p:spPr>
            <a:xfrm>
              <a:off x="1619280" y="1052640"/>
              <a:ext cx="5616720" cy="43531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2050920" y="1268280"/>
              <a:ext cx="4681800" cy="439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劲</a:t>
              </a:r>
              <a:endPara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556000" y="1844640"/>
            <a:ext cx="6192720" cy="1189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901520" cy="59770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2050920" y="1341360"/>
            <a:ext cx="662472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期中考试总结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本学期期中考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光 荣 榜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324000" y="765000"/>
          <a:ext cx="8497800" cy="5608800"/>
        </p:xfrm>
        <a:graphic>
          <a:graphicData uri="http://schemas.openxmlformats.org/drawingml/2006/table">
            <a:tbl>
              <a:tblPr/>
              <a:tblGrid>
                <a:gridCol w="1311120"/>
                <a:gridCol w="1743120"/>
                <a:gridCol w="1527120"/>
                <a:gridCol w="1293840"/>
                <a:gridCol w="1311120"/>
                <a:gridCol w="1311480"/>
              </a:tblGrid>
              <a:tr h="9576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66cc"/>
                          </a:solidFill>
                          <a:latin typeface="宋体"/>
                        </a:rPr>
                        <a:t>高二（</a:t>
                      </a:r>
                      <a:r>
                        <a:rPr b="1" lang="zh-CN" sz="3200" spc="-1" strike="noStrike">
                          <a:solidFill>
                            <a:srgbClr val="0066cc"/>
                          </a:solidFill>
                          <a:latin typeface="宋体"/>
                        </a:rPr>
                        <a:t>26</a:t>
                      </a:r>
                      <a:r>
                        <a:rPr b="1" lang="zh-CN" sz="3200" spc="-1" strike="noStrike">
                          <a:solidFill>
                            <a:srgbClr val="0066cc"/>
                          </a:solidFill>
                          <a:latin typeface="宋体"/>
                        </a:rPr>
                        <a:t>）班期中进步标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学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门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班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进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衡东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倪志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志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鲍叶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郎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闻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靖振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本学期期中考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光 荣 榜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50920" y="747720"/>
          <a:ext cx="8642160" cy="6110280"/>
        </p:xfrm>
        <a:graphic>
          <a:graphicData uri="http://schemas.openxmlformats.org/drawingml/2006/table">
            <a:tbl>
              <a:tblPr/>
              <a:tblGrid>
                <a:gridCol w="1333440"/>
                <a:gridCol w="1771560"/>
                <a:gridCol w="1552680"/>
                <a:gridCol w="1317600"/>
                <a:gridCol w="1333440"/>
                <a:gridCol w="1333440"/>
              </a:tblGrid>
              <a:tr h="8776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cc"/>
                          </a:solidFill>
                          <a:latin typeface="宋体"/>
                        </a:rPr>
                        <a:t>高二（</a:t>
                      </a:r>
                      <a:r>
                        <a:rPr b="1" lang="zh-CN" sz="3600" spc="-1" strike="noStrike">
                          <a:solidFill>
                            <a:srgbClr val="0066cc"/>
                          </a:solidFill>
                          <a:latin typeface="宋体"/>
                        </a:rPr>
                        <a:t>26</a:t>
                      </a:r>
                      <a:r>
                        <a:rPr b="1" lang="zh-CN" sz="3600" spc="-1" strike="noStrike">
                          <a:solidFill>
                            <a:srgbClr val="0066cc"/>
                          </a:solidFill>
                          <a:latin typeface="宋体"/>
                        </a:rPr>
                        <a:t>）班期中进步标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学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门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班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进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玉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8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美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士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韦默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6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汝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7:30:0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50:37Z</dcterms:modified>
  <cp:revision>122</cp:revision>
  <dc:subject>主题班会课件(分28大类): http://shop62905894.taobao.com</dc:subject>
  <dc:title>主题班会课件(分28大类): http://shop62905894.taobao.com</dc:title>
</cp:coreProperties>
</file>