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gif" ContentType="image/gif"/>
  <Override PartName="/ppt/media/image7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212F-57A0-4EDC-8F3D-0F2491F8B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1C19-2174-45E6-81A1-7DA681506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6C32-75C6-4CFF-A7A9-F0A655278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5B66-5FA4-4EEB-AD62-DDE2A1A77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8668-1752-486A-B01A-0E3030777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2BDFD-6B24-4C98-A5C4-D01923B1D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F965D-8ADF-4E3E-96EA-63C2908C2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212A9-5486-40AF-B26B-9728B586A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6321D-F894-4B76-856F-ECA435423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8560F-8AF1-43F7-B240-BD94657D3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3B88-31D9-49A4-865F-46C2D5F5B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58688-94AE-4BAD-ADAB-196D09011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3FAE2-F4B3-4E89-A65C-B84D68017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B06C3-8F8E-4EA8-9F45-C5FA96BE3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4D5D0-3E81-43E8-BE40-4F07FEB87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EF28C-9007-4485-9191-80741BC48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A9489-BBE2-4A93-B8DF-405C0C9DB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1B248-CBC2-49F2-ACE2-B4617E0DB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C2740-44B7-4EB0-99AB-26350A439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158EB-9BD3-40E4-B0A7-AA7C07E30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78B67-D948-44D8-913C-0F358647C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06C7-A977-4229-BD6B-3805E00DD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51A49-F4B5-43A1-BD64-E9A36B32B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6FE48-19EE-460E-94C1-66AFD57E1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7C7C5-0575-4355-B134-167B4C011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F0B88-0F40-4C35-8C1E-5BB13198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B9CF3-6F65-4739-B54E-D67E41C14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816EF-2D14-4ABA-9AD8-5CD4E892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68AEF-25F5-4521-B49A-F867AE024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C20BD-447F-4606-A63D-4720135F2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A2173-1333-4834-B765-A6F9A9D6F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B710-8CA3-47B4-8B46-3FFBC1F45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9300-580E-404C-B668-8C0184992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C946-0AD3-48C6-BD3A-98AC4552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611D-DF7F-4EAD-92D6-B3BADEE6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E321-939E-498C-AC5A-370CA1784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13920"/>
            <a:ext cx="380880" cy="6543720"/>
            <a:chOff x="0" y="313920"/>
            <a:chExt cx="380880" cy="6543720"/>
          </a:xfrm>
        </p:grpSpPr>
        <p:sp>
          <p:nvSpPr>
            <p:cNvPr id="1" name=""/>
            <p:cNvSpPr/>
            <p:nvPr/>
          </p:nvSpPr>
          <p:spPr>
            <a:xfrm flipH="1" rot="5400000">
              <a:off x="-256680" y="3398760"/>
              <a:ext cx="895320" cy="380160"/>
            </a:xfrm>
            <a:prstGeom prst="parallelogram">
              <a:avLst>
                <a:gd name="adj" fmla="val 124712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 rot="5400000">
              <a:off x="-256680" y="4341600"/>
              <a:ext cx="895320" cy="380160"/>
            </a:xfrm>
            <a:prstGeom prst="parallelogram">
              <a:avLst>
                <a:gd name="adj" fmla="val 124712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rot="5400000">
              <a:off x="-257400" y="5283000"/>
              <a:ext cx="895320" cy="380160"/>
            </a:xfrm>
            <a:prstGeom prst="parallelogram">
              <a:avLst>
                <a:gd name="adj" fmla="val 124712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 rot="5400000">
              <a:off x="-252720" y="6224400"/>
              <a:ext cx="885960" cy="380160"/>
            </a:xfrm>
            <a:prstGeom prst="parallelogram">
              <a:avLst>
                <a:gd name="adj" fmla="val 123408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 rot="5400000">
              <a:off x="-256680" y="571320"/>
              <a:ext cx="895320" cy="380160"/>
            </a:xfrm>
            <a:prstGeom prst="parallelogram">
              <a:avLst>
                <a:gd name="adj" fmla="val 124712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5400000">
              <a:off x="-257400" y="1508040"/>
              <a:ext cx="895320" cy="380160"/>
            </a:xfrm>
            <a:prstGeom prst="parallelogram">
              <a:avLst>
                <a:gd name="adj" fmla="val 124712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-257400" y="2454120"/>
              <a:ext cx="895320" cy="380160"/>
            </a:xfrm>
            <a:prstGeom prst="parallelogram">
              <a:avLst>
                <a:gd name="adj" fmla="val 124712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gradFill rotWithShape="0">
            <a:gsLst>
              <a:gs pos="0">
                <a:srgbClr val="4d4d4d"/>
              </a:gs>
              <a:gs pos="50000">
                <a:srgbClr val="ee941c"/>
              </a:gs>
              <a:gs pos="100000">
                <a:srgbClr val="4d4d4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 flipH="1">
            <a:off x="0" y="0"/>
            <a:ext cx="8825040" cy="228600"/>
          </a:xfrm>
          <a:custGeom>
            <a:avLst/>
            <a:gdLst>
              <a:gd name="textAreaLeft" fmla="*/ 360 w 8825040"/>
              <a:gd name="textAreaRight" fmla="*/ 8825760 w 882504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d4d4d"/>
              </a:gs>
              <a:gs pos="50000">
                <a:srgbClr val="ee941c"/>
              </a:gs>
              <a:gs pos="100000">
                <a:srgbClr val="4d4d4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ee941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679320" y="2128680"/>
            <a:ext cx="190800" cy="46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8839080" y="0"/>
            <a:ext cx="30492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ee941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673200" y="1955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sp>
          <p:nvSpPr>
            <p:cNvPr id="15" name=""/>
            <p:cNvSpPr/>
            <p:nvPr/>
          </p:nvSpPr>
          <p:spPr>
            <a:xfrm rot="16200000">
              <a:off x="-256320" y="3870720"/>
              <a:ext cx="895320" cy="379440"/>
            </a:xfrm>
            <a:prstGeom prst="parallelogram">
              <a:avLst>
                <a:gd name="adj" fmla="val 124949"/>
              </a:avLst>
            </a:prstGeom>
            <a:gradFill rotWithShape="0">
              <a:gsLst>
                <a:gs pos="0">
                  <a:srgbClr val="0099cc"/>
                </a:gs>
                <a:gs pos="100000">
                  <a:srgbClr val="00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rot="16200000">
              <a:off x="-257040" y="4814280"/>
              <a:ext cx="896760" cy="379440"/>
            </a:xfrm>
            <a:prstGeom prst="parallelogram">
              <a:avLst>
                <a:gd name="adj" fmla="val 125149"/>
              </a:avLst>
            </a:prstGeom>
            <a:gradFill rotWithShape="0">
              <a:gsLst>
                <a:gs pos="0">
                  <a:srgbClr val="0099cc"/>
                </a:gs>
                <a:gs pos="100000">
                  <a:srgbClr val="00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6200000">
              <a:off x="-257400" y="5756400"/>
              <a:ext cx="895320" cy="379440"/>
            </a:xfrm>
            <a:prstGeom prst="parallelogram">
              <a:avLst>
                <a:gd name="adj" fmla="val 124949"/>
              </a:avLst>
            </a:prstGeom>
            <a:gradFill rotWithShape="0">
              <a:gsLst>
                <a:gs pos="0">
                  <a:srgbClr val="0099cc"/>
                </a:gs>
                <a:gs pos="100000">
                  <a:srgbClr val="00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6200000">
              <a:off x="-257040" y="1039320"/>
              <a:ext cx="896760" cy="379440"/>
            </a:xfrm>
            <a:prstGeom prst="parallelogram">
              <a:avLst>
                <a:gd name="adj" fmla="val 125149"/>
              </a:avLst>
            </a:prstGeom>
            <a:gradFill rotWithShape="0">
              <a:gsLst>
                <a:gs pos="0">
                  <a:srgbClr val="0099cc"/>
                </a:gs>
                <a:gs pos="100000">
                  <a:srgbClr val="00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6200000">
              <a:off x="-257400" y="1981440"/>
              <a:ext cx="895320" cy="379440"/>
            </a:xfrm>
            <a:prstGeom prst="parallelogram">
              <a:avLst>
                <a:gd name="adj" fmla="val 124949"/>
              </a:avLst>
            </a:prstGeom>
            <a:gradFill rotWithShape="0">
              <a:gsLst>
                <a:gs pos="0">
                  <a:srgbClr val="0099cc"/>
                </a:gs>
                <a:gs pos="100000">
                  <a:srgbClr val="00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6200000">
              <a:off x="-257400" y="2927520"/>
              <a:ext cx="895320" cy="379440"/>
            </a:xfrm>
            <a:prstGeom prst="parallelogram">
              <a:avLst>
                <a:gd name="adj" fmla="val 124949"/>
              </a:avLst>
            </a:prstGeom>
            <a:gradFill rotWithShape="0">
              <a:gsLst>
                <a:gs pos="0">
                  <a:srgbClr val="0099cc"/>
                </a:gs>
                <a:gs pos="100000">
                  <a:srgbClr val="00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800" y="0"/>
              <a:ext cx="37872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0" y="6445080"/>
              <a:ext cx="32544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body"/>
          </p:nvPr>
        </p:nvSpPr>
        <p:spPr>
          <a:xfrm>
            <a:off x="1282680" y="2197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dt" idx="1"/>
          </p:nvPr>
        </p:nvSpPr>
        <p:spPr>
          <a:xfrm>
            <a:off x="1369800" y="64641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ftr" idx="2"/>
          </p:nvPr>
        </p:nvSpPr>
        <p:spPr>
          <a:xfrm>
            <a:off x="3808080" y="64641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sldNum" idx="3"/>
          </p:nvPr>
        </p:nvSpPr>
        <p:spPr>
          <a:xfrm>
            <a:off x="7237440" y="64641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CDA06-02E5-4CBB-B777-79427FE29B0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313920"/>
            <a:ext cx="380880" cy="6543720"/>
            <a:chOff x="0" y="313920"/>
            <a:chExt cx="380880" cy="6543720"/>
          </a:xfrm>
        </p:grpSpPr>
        <p:sp>
          <p:nvSpPr>
            <p:cNvPr id="65" name=""/>
            <p:cNvSpPr/>
            <p:nvPr/>
          </p:nvSpPr>
          <p:spPr>
            <a:xfrm flipH="1" rot="5400000">
              <a:off x="-256680" y="3398760"/>
              <a:ext cx="895320" cy="380160"/>
            </a:xfrm>
            <a:prstGeom prst="parallelogram">
              <a:avLst>
                <a:gd name="adj" fmla="val 124712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rot="5400000">
              <a:off x="-256680" y="4341600"/>
              <a:ext cx="895320" cy="380160"/>
            </a:xfrm>
            <a:prstGeom prst="parallelogram">
              <a:avLst>
                <a:gd name="adj" fmla="val 124712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 rot="5400000">
              <a:off x="-257400" y="5283000"/>
              <a:ext cx="895320" cy="380160"/>
            </a:xfrm>
            <a:prstGeom prst="parallelogram">
              <a:avLst>
                <a:gd name="adj" fmla="val 124712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 rot="5400000">
              <a:off x="-252720" y="6224400"/>
              <a:ext cx="885960" cy="380160"/>
            </a:xfrm>
            <a:prstGeom prst="parallelogram">
              <a:avLst>
                <a:gd name="adj" fmla="val 123408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rot="5400000">
              <a:off x="-256680" y="571320"/>
              <a:ext cx="895320" cy="380160"/>
            </a:xfrm>
            <a:prstGeom prst="parallelogram">
              <a:avLst>
                <a:gd name="adj" fmla="val 124712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rot="5400000">
              <a:off x="-257400" y="1508040"/>
              <a:ext cx="895320" cy="380160"/>
            </a:xfrm>
            <a:prstGeom prst="parallelogram">
              <a:avLst>
                <a:gd name="adj" fmla="val 124712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rot="5400000">
              <a:off x="-257400" y="2454120"/>
              <a:ext cx="895320" cy="380160"/>
            </a:xfrm>
            <a:prstGeom prst="parallelogram">
              <a:avLst>
                <a:gd name="adj" fmla="val 124712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gradFill rotWithShape="0">
            <a:gsLst>
              <a:gs pos="0">
                <a:srgbClr val="4d4d4d"/>
              </a:gs>
              <a:gs pos="50000">
                <a:srgbClr val="ee941c"/>
              </a:gs>
              <a:gs pos="100000">
                <a:srgbClr val="4d4d4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0" y="0"/>
            <a:ext cx="8825040" cy="228600"/>
          </a:xfrm>
          <a:custGeom>
            <a:avLst/>
            <a:gdLst>
              <a:gd name="textAreaLeft" fmla="*/ 360 w 8825040"/>
              <a:gd name="textAreaRight" fmla="*/ 8825760 w 882504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d4d4d"/>
              </a:gs>
              <a:gs pos="50000">
                <a:srgbClr val="ee941c"/>
              </a:gs>
              <a:gs pos="100000">
                <a:srgbClr val="4d4d4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ee941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79320" y="2128680"/>
            <a:ext cx="190800" cy="46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839080" y="0"/>
            <a:ext cx="30492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ee941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73200" y="1955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sp>
          <p:nvSpPr>
            <p:cNvPr id="79" name=""/>
            <p:cNvSpPr/>
            <p:nvPr/>
          </p:nvSpPr>
          <p:spPr>
            <a:xfrm rot="16200000">
              <a:off x="-256320" y="3870720"/>
              <a:ext cx="895320" cy="379440"/>
            </a:xfrm>
            <a:prstGeom prst="parallelogram">
              <a:avLst>
                <a:gd name="adj" fmla="val 124949"/>
              </a:avLst>
            </a:prstGeom>
            <a:gradFill rotWithShape="0">
              <a:gsLst>
                <a:gs pos="0">
                  <a:srgbClr val="0099cc"/>
                </a:gs>
                <a:gs pos="100000">
                  <a:srgbClr val="00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rot="16200000">
              <a:off x="-257040" y="4814280"/>
              <a:ext cx="896760" cy="379440"/>
            </a:xfrm>
            <a:prstGeom prst="parallelogram">
              <a:avLst>
                <a:gd name="adj" fmla="val 125149"/>
              </a:avLst>
            </a:prstGeom>
            <a:gradFill rotWithShape="0">
              <a:gsLst>
                <a:gs pos="0">
                  <a:srgbClr val="0099cc"/>
                </a:gs>
                <a:gs pos="100000">
                  <a:srgbClr val="00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6200000">
              <a:off x="-257400" y="5756400"/>
              <a:ext cx="895320" cy="379440"/>
            </a:xfrm>
            <a:prstGeom prst="parallelogram">
              <a:avLst>
                <a:gd name="adj" fmla="val 124949"/>
              </a:avLst>
            </a:prstGeom>
            <a:gradFill rotWithShape="0">
              <a:gsLst>
                <a:gs pos="0">
                  <a:srgbClr val="0099cc"/>
                </a:gs>
                <a:gs pos="100000">
                  <a:srgbClr val="00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16200000">
              <a:off x="-257040" y="1039320"/>
              <a:ext cx="896760" cy="379440"/>
            </a:xfrm>
            <a:prstGeom prst="parallelogram">
              <a:avLst>
                <a:gd name="adj" fmla="val 125149"/>
              </a:avLst>
            </a:prstGeom>
            <a:gradFill rotWithShape="0">
              <a:gsLst>
                <a:gs pos="0">
                  <a:srgbClr val="0099cc"/>
                </a:gs>
                <a:gs pos="100000">
                  <a:srgbClr val="00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6200000">
              <a:off x="-257400" y="1981440"/>
              <a:ext cx="895320" cy="379440"/>
            </a:xfrm>
            <a:prstGeom prst="parallelogram">
              <a:avLst>
                <a:gd name="adj" fmla="val 124949"/>
              </a:avLst>
            </a:prstGeom>
            <a:gradFill rotWithShape="0">
              <a:gsLst>
                <a:gs pos="0">
                  <a:srgbClr val="0099cc"/>
                </a:gs>
                <a:gs pos="100000">
                  <a:srgbClr val="00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6200000">
              <a:off x="-257400" y="2927520"/>
              <a:ext cx="895320" cy="379440"/>
            </a:xfrm>
            <a:prstGeom prst="parallelogram">
              <a:avLst>
                <a:gd name="adj" fmla="val 124949"/>
              </a:avLst>
            </a:prstGeom>
            <a:gradFill rotWithShape="0">
              <a:gsLst>
                <a:gs pos="0">
                  <a:srgbClr val="0099cc"/>
                </a:gs>
                <a:gs pos="100000">
                  <a:srgbClr val="00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800" y="0"/>
              <a:ext cx="37872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6445080"/>
              <a:ext cx="32544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24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270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284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298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312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326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340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354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356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4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5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6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46C9D-8612-46A8-9392-36D55575515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412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426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dt" idx="7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C6352-E65E-468D-AB19-6D71E330386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576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 txBox="1"/>
          <p:nvPr/>
        </p:nvSpPr>
        <p:spPr>
          <a:xfrm>
            <a:off x="-324000" y="620640"/>
            <a:ext cx="8496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琥珀"/>
              </a:rPr>
              <a:t>热烈欢迎各位家长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琥珀"/>
              </a:rPr>
              <a:t>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琥珀"/>
              <a:ea typeface="华文琥珀"/>
            </a:endParaRPr>
          </a:p>
        </p:txBody>
      </p:sp>
      <p:sp>
        <p:nvSpPr>
          <p:cNvPr id="626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533520" y="289548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95280" y="1125360"/>
            <a:ext cx="8424720" cy="54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班    长：</a:t>
            </a:r>
            <a:r>
              <a:rPr b="1" lang="zh-CN" sz="3600" spc="-1" strike="noStrike">
                <a:solidFill>
                  <a:srgbClr val="3366ff"/>
                </a:solidFill>
                <a:latin typeface="Arial"/>
              </a:rPr>
              <a:t>孙萌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副班长：</a:t>
            </a:r>
            <a:r>
              <a:rPr b="1" lang="zh-CN" sz="3600" spc="-1" strike="noStrike">
                <a:solidFill>
                  <a:srgbClr val="3366ff"/>
                </a:solidFill>
                <a:latin typeface="黑体"/>
                <a:ea typeface="黑体"/>
              </a:rPr>
              <a:t>吴琼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团支书记：</a:t>
            </a:r>
            <a:r>
              <a:rPr b="1" lang="zh-CN" sz="3600" spc="-1" strike="noStrike">
                <a:solidFill>
                  <a:srgbClr val="3366ff"/>
                </a:solidFill>
                <a:latin typeface="Arial"/>
              </a:rPr>
              <a:t>谢梦源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     副书记：</a:t>
            </a:r>
            <a:r>
              <a:rPr b="1" lang="zh-CN" sz="3600" spc="-1" strike="noStrike">
                <a:solidFill>
                  <a:srgbClr val="3366ff"/>
                </a:solidFill>
                <a:latin typeface="Arial"/>
              </a:rPr>
              <a:t>张籁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学习委员：</a:t>
            </a:r>
            <a:r>
              <a:rPr b="1" lang="zh-CN" sz="3600" spc="-1" strike="noStrike">
                <a:solidFill>
                  <a:srgbClr val="3366ff"/>
                </a:solidFill>
                <a:latin typeface="Arial"/>
              </a:rPr>
              <a:t>祁玉明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     纪检委员：</a:t>
            </a:r>
            <a:r>
              <a:rPr b="1" lang="zh-CN" sz="3600" spc="-1" strike="noStrike">
                <a:solidFill>
                  <a:srgbClr val="3366ff"/>
                </a:solidFill>
                <a:latin typeface="Arial"/>
              </a:rPr>
              <a:t>陈建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组织委员：</a:t>
            </a:r>
            <a:r>
              <a:rPr b="1" lang="zh-CN" sz="3600" spc="-1" strike="noStrike">
                <a:solidFill>
                  <a:srgbClr val="3366ff"/>
                </a:solidFill>
                <a:latin typeface="黑体"/>
                <a:ea typeface="黑体"/>
              </a:rPr>
              <a:t>李巍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生活委员：</a:t>
            </a:r>
            <a:r>
              <a:rPr b="1" lang="zh-CN" sz="3600" spc="-1" strike="noStrike">
                <a:solidFill>
                  <a:srgbClr val="3366ff"/>
                </a:solidFill>
                <a:latin typeface="黑体"/>
                <a:ea typeface="黑体"/>
              </a:rPr>
              <a:t>顾峰、马丽军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体育委员：</a:t>
            </a:r>
            <a:r>
              <a:rPr b="1" lang="zh-CN" sz="3600" spc="-1" strike="noStrike">
                <a:solidFill>
                  <a:srgbClr val="3366ff"/>
                </a:solidFill>
                <a:latin typeface="黑体"/>
                <a:ea typeface="黑体"/>
              </a:rPr>
              <a:t>盛廷俊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文艺委员：</a:t>
            </a:r>
            <a:r>
              <a:rPr b="1" lang="zh-CN" sz="3600" spc="-1" strike="noStrike">
                <a:solidFill>
                  <a:srgbClr val="3366ff"/>
                </a:solidFill>
                <a:latin typeface="黑体"/>
                <a:ea typeface="黑体"/>
              </a:rPr>
              <a:t>任思彤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403280" y="260280"/>
            <a:ext cx="712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高一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(20)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班干部名单：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 txBox="1"/>
          <p:nvPr/>
        </p:nvSpPr>
        <p:spPr>
          <a:xfrm>
            <a:off x="468360" y="549360"/>
            <a:ext cx="820908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（３）、期中考试成绩分析</a:t>
            </a:r>
            <a:endParaRPr b="0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51" name=""/>
          <p:cNvSpPr/>
          <p:nvPr/>
        </p:nvSpPr>
        <p:spPr>
          <a:xfrm>
            <a:off x="2050920" y="4581360"/>
            <a:ext cx="58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下面是您的骄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2" name=""/>
          <p:cNvGraphicFramePr/>
          <p:nvPr/>
        </p:nvGraphicFramePr>
        <p:xfrm>
          <a:off x="395280" y="333360"/>
          <a:ext cx="8381880" cy="6356520"/>
        </p:xfrm>
        <a:graphic>
          <a:graphicData uri="http://schemas.openxmlformats.org/drawingml/2006/table">
            <a:tbl>
              <a:tblPr/>
              <a:tblGrid>
                <a:gridCol w="1552680"/>
                <a:gridCol w="2176200"/>
                <a:gridCol w="1548000"/>
                <a:gridCol w="1552680"/>
                <a:gridCol w="1552320"/>
              </a:tblGrid>
              <a:tr h="58140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高一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(20)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班第一次期中年级前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00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名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学号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姓名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总分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华文行楷"/>
                        </a:rPr>
                        <a:t>班次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年名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0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朱昕昕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华文行楷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2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1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祁玉明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华文行楷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3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刘丽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2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华文行楷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3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0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孙叶风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2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华文行楷"/>
                        </a:rPr>
                        <a:t>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39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1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吴琼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2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华文行楷"/>
                        </a:rPr>
                        <a:t>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40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1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李成明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华文行楷"/>
                        </a:rPr>
                        <a:t>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45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0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任思彤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华文行楷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4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盛廷俊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华文行楷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4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0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张茜丽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1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华文行楷"/>
                        </a:rPr>
                        <a:t>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4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3" name=""/>
          <p:cNvGraphicFramePr/>
          <p:nvPr/>
        </p:nvGraphicFramePr>
        <p:xfrm>
          <a:off x="0" y="260280"/>
          <a:ext cx="8839080" cy="5823000"/>
        </p:xfrm>
        <a:graphic>
          <a:graphicData uri="http://schemas.openxmlformats.org/drawingml/2006/table">
            <a:tbl>
              <a:tblPr/>
              <a:tblGrid>
                <a:gridCol w="1052640"/>
                <a:gridCol w="1439640"/>
                <a:gridCol w="1052640"/>
                <a:gridCol w="1047600"/>
                <a:gridCol w="1519200"/>
                <a:gridCol w="1208160"/>
                <a:gridCol w="1519200"/>
              </a:tblGrid>
              <a:tr h="58140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高一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(20)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班第一次期中进步标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学号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姓名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总分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华文行楷"/>
                        </a:rPr>
                        <a:t>班次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期中年名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月年名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进步名次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许超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华文行楷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0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3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0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朱昕昕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华文行楷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2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马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华文行楷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21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0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孙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华文行楷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严钱钱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华文行楷"/>
                        </a:rPr>
                        <a:t>2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2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1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李成明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华文行楷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5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张籁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0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华文行楷"/>
                        </a:rPr>
                        <a:t>1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4" name=""/>
          <p:cNvGraphicFramePr/>
          <p:nvPr/>
        </p:nvGraphicFramePr>
        <p:xfrm>
          <a:off x="298440" y="189000"/>
          <a:ext cx="8540640" cy="6396120"/>
        </p:xfrm>
        <a:graphic>
          <a:graphicData uri="http://schemas.openxmlformats.org/drawingml/2006/table">
            <a:tbl>
              <a:tblPr/>
              <a:tblGrid>
                <a:gridCol w="1003320"/>
                <a:gridCol w="1484280"/>
                <a:gridCol w="993960"/>
                <a:gridCol w="1009440"/>
                <a:gridCol w="1447920"/>
                <a:gridCol w="1154160"/>
                <a:gridCol w="1447560"/>
              </a:tblGrid>
              <a:tr h="58140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高一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(20)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班第一次期中进步标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学号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姓名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总分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华文行楷"/>
                        </a:rPr>
                        <a:t>班次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期中年名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月年名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进步名次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李巍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华文行楷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7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朱达全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0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华文行楷"/>
                        </a:rPr>
                        <a:t>1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徐启通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华文行楷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1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吴琼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2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华文行楷"/>
                        </a:rPr>
                        <a:t>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0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孙立伟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华文行楷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丁建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2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华文行楷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1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宋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华文行楷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任思彤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华文行楷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5" name=""/>
          <p:cNvGraphicFramePr/>
          <p:nvPr/>
        </p:nvGraphicFramePr>
        <p:xfrm>
          <a:off x="0" y="609480"/>
          <a:ext cx="9144000" cy="5802480"/>
        </p:xfrm>
        <a:graphic>
          <a:graphicData uri="http://schemas.openxmlformats.org/drawingml/2006/table">
            <a:tbl>
              <a:tblPr/>
              <a:tblGrid>
                <a:gridCol w="1074600"/>
                <a:gridCol w="1589400"/>
                <a:gridCol w="1074600"/>
                <a:gridCol w="1068480"/>
                <a:gridCol w="1549440"/>
                <a:gridCol w="1238040"/>
                <a:gridCol w="1549440"/>
              </a:tblGrid>
              <a:tr h="58140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高一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(20)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班第一次期中进步标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学号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姓名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总分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华文行楷"/>
                        </a:rPr>
                        <a:t>班次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期中年名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月年名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进步名次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汪安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华文行楷"/>
                        </a:rPr>
                        <a:t>1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马丽军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0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华文行楷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王强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华文行楷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0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史旭飞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华文行楷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黄敏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华文行楷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5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严迎龙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华文行楷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陈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华文行楷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谢青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华文行楷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7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6" name=""/>
          <p:cNvGraphicFramePr/>
          <p:nvPr/>
        </p:nvGraphicFramePr>
        <p:xfrm>
          <a:off x="324000" y="333360"/>
          <a:ext cx="8820000" cy="5943600"/>
        </p:xfrm>
        <a:graphic>
          <a:graphicData uri="http://schemas.openxmlformats.org/drawingml/2006/table">
            <a:tbl>
              <a:tblPr/>
              <a:tblGrid>
                <a:gridCol w="1036440"/>
                <a:gridCol w="1532160"/>
                <a:gridCol w="1036440"/>
                <a:gridCol w="1031760"/>
                <a:gridCol w="1495440"/>
                <a:gridCol w="1192320"/>
                <a:gridCol w="1495440"/>
              </a:tblGrid>
              <a:tr h="66852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高一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(20)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班第一次期中进步标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1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学号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姓名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总分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华文行楷"/>
                        </a:rPr>
                        <a:t>班次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期中年名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月年名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进步名次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刘彬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华文行楷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刘金龙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华文行楷"/>
                        </a:rPr>
                        <a:t>5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2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韩雪贤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华文行楷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5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2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王成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华文行楷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2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朱伟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0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华文行楷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黄迎锋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华文行楷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王林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华文行楷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7" name=""/>
          <p:cNvGraphicFramePr/>
          <p:nvPr/>
        </p:nvGraphicFramePr>
        <p:xfrm>
          <a:off x="298440" y="189000"/>
          <a:ext cx="8540640" cy="5910120"/>
        </p:xfrm>
        <a:graphic>
          <a:graphicData uri="http://schemas.openxmlformats.org/drawingml/2006/table">
            <a:tbl>
              <a:tblPr/>
              <a:tblGrid>
                <a:gridCol w="1947960"/>
                <a:gridCol w="2712960"/>
                <a:gridCol w="1940040"/>
                <a:gridCol w="1939680"/>
              </a:tblGrid>
              <a:tr h="6127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高一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(20)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班第一次期中单项标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7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学号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姓名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语文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名次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0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任思彤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朱达全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浦雄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史旭飞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1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吴琼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0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张茜丽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蒋建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李解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8" name=""/>
          <p:cNvGraphicFramePr/>
          <p:nvPr/>
        </p:nvGraphicFramePr>
        <p:xfrm>
          <a:off x="0" y="0"/>
          <a:ext cx="8864280" cy="6934320"/>
        </p:xfrm>
        <a:graphic>
          <a:graphicData uri="http://schemas.openxmlformats.org/drawingml/2006/table">
            <a:tbl>
              <a:tblPr/>
              <a:tblGrid>
                <a:gridCol w="2018160"/>
                <a:gridCol w="2809800"/>
                <a:gridCol w="2018160"/>
                <a:gridCol w="2018160"/>
              </a:tblGrid>
              <a:tr h="58140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高一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(20)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班第一次期中单项标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学号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姓名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数学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名次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1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李成明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0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黄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盛廷俊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谢青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1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吴琼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0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孙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张籁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0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孙叶风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汪安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0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黄迎锋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9" name=""/>
          <p:cNvGraphicFramePr/>
          <p:nvPr/>
        </p:nvGraphicFramePr>
        <p:xfrm>
          <a:off x="250920" y="34920"/>
          <a:ext cx="8540640" cy="6823080"/>
        </p:xfrm>
        <a:graphic>
          <a:graphicData uri="http://schemas.openxmlformats.org/drawingml/2006/table">
            <a:tbl>
              <a:tblPr/>
              <a:tblGrid>
                <a:gridCol w="1947960"/>
                <a:gridCol w="2697120"/>
                <a:gridCol w="1947960"/>
                <a:gridCol w="1947600"/>
              </a:tblGrid>
              <a:tr h="4899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高一</a:t>
                      </a: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(20)</a:t>
                      </a: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班第一次期中单项标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学号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姓名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英语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名次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0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张茜丽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1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李成明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4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严钱钱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9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19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柏森玲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8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16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张孟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8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4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朱倩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09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孙叶风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0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潘红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0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任思彤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2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盛廷俊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2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王炜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0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朱昕昕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8" name=""/>
          <p:cNvSpPr txBox="1"/>
          <p:nvPr/>
        </p:nvSpPr>
        <p:spPr>
          <a:xfrm>
            <a:off x="990720" y="1371600"/>
            <a:ext cx="7326360" cy="313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同样的心情 一样的期待</a:t>
            </a:r>
            <a:endParaRPr b="1" lang="en-US" sz="5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629" name=""/>
          <p:cNvSpPr/>
          <p:nvPr/>
        </p:nvSpPr>
        <p:spPr>
          <a:xfrm>
            <a:off x="3641760" y="367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0" name=""/>
          <p:cNvGraphicFramePr/>
          <p:nvPr/>
        </p:nvGraphicFramePr>
        <p:xfrm>
          <a:off x="0" y="0"/>
          <a:ext cx="9144000" cy="6727680"/>
        </p:xfrm>
        <a:graphic>
          <a:graphicData uri="http://schemas.openxmlformats.org/drawingml/2006/table">
            <a:tbl>
              <a:tblPr/>
              <a:tblGrid>
                <a:gridCol w="2017800"/>
                <a:gridCol w="2921040"/>
                <a:gridCol w="2103480"/>
                <a:gridCol w="2101680"/>
              </a:tblGrid>
              <a:tr h="5205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高一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(20)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班第一次期中单项标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学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姓名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物理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名次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祁玉明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李巍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谢青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徐启通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朱达全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0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朱昕昕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0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刘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汪安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刘进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2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黄敏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0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孙叶风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1" name=""/>
          <p:cNvGraphicFramePr/>
          <p:nvPr/>
        </p:nvGraphicFramePr>
        <p:xfrm>
          <a:off x="324000" y="34920"/>
          <a:ext cx="8540640" cy="6823080"/>
        </p:xfrm>
        <a:graphic>
          <a:graphicData uri="http://schemas.openxmlformats.org/drawingml/2006/table">
            <a:tbl>
              <a:tblPr/>
              <a:tblGrid>
                <a:gridCol w="1944720"/>
                <a:gridCol w="2705040"/>
                <a:gridCol w="1946160"/>
                <a:gridCol w="1944720"/>
              </a:tblGrid>
              <a:tr h="4899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高一</a:t>
                      </a: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(20)</a:t>
                      </a: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班第一次期中单项标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学号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姓名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化学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名次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37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马新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0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朱昕昕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3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李解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2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谢青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0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刘丽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0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任思彤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1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祁玉明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9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06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黄迎锋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8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29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黄敏杰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6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2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盛廷俊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6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08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孙萌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6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09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孙叶风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6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2" name=""/>
          <p:cNvGraphicFramePr/>
          <p:nvPr/>
        </p:nvGraphicFramePr>
        <p:xfrm>
          <a:off x="324000" y="-76320"/>
          <a:ext cx="8540640" cy="6934320"/>
        </p:xfrm>
        <a:graphic>
          <a:graphicData uri="http://schemas.openxmlformats.org/drawingml/2006/table">
            <a:tbl>
              <a:tblPr/>
              <a:tblGrid>
                <a:gridCol w="1944720"/>
                <a:gridCol w="2705040"/>
                <a:gridCol w="1946160"/>
                <a:gridCol w="1944720"/>
              </a:tblGrid>
              <a:tr h="58140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高一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(20)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班第一次期中单项标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学号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姓名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生物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名次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0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朱昕昕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刘丽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1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祁玉明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盛廷俊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张孟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张籁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朱达全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0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黄迎锋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0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任思彤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0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张茜丽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3" name=""/>
          <p:cNvGraphicFramePr/>
          <p:nvPr/>
        </p:nvGraphicFramePr>
        <p:xfrm>
          <a:off x="0" y="0"/>
          <a:ext cx="8820000" cy="6764400"/>
        </p:xfrm>
        <a:graphic>
          <a:graphicData uri="http://schemas.openxmlformats.org/drawingml/2006/table">
            <a:tbl>
              <a:tblPr/>
              <a:tblGrid>
                <a:gridCol w="2008080"/>
                <a:gridCol w="2793960"/>
                <a:gridCol w="2009880"/>
                <a:gridCol w="2008080"/>
              </a:tblGrid>
              <a:tr h="5205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高一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(20)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班第一次期中单项标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学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姓名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文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名次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0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潘红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张茜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吴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张孟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柏森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朱炜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陈建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王林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韦默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李美静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0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孙叶风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 txBox="1"/>
          <p:nvPr/>
        </p:nvSpPr>
        <p:spPr>
          <a:xfrm>
            <a:off x="971640" y="1413000"/>
            <a:ext cx="7056360" cy="41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（４）、存在的问题及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下一阶段工作思路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/>
          <p:nvPr/>
        </p:nvSpPr>
        <p:spPr>
          <a:xfrm>
            <a:off x="2627280" y="0"/>
            <a:ext cx="532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存在的主要问题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468360" y="62064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部分学生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学习方法不当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  导致成绩不好，也有部分同学想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不劳而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468360" y="191628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部分学生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自信心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严重不足，有悲观失望情绪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468360" y="3213000"/>
            <a:ext cx="8675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少数学生学习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目的不明确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整日无所事事，碌碌无为。个别特殊学生的有些行为甚至影响到其他同学的学习和生活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187280" y="4653000"/>
            <a:ext cx="64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7093080" y="4554360"/>
            <a:ext cx="2050920" cy="2303640"/>
          </a:xfrm>
          <a:prstGeom prst="rect">
            <a:avLst/>
          </a:prstGeom>
          <a:ln w="0">
            <a:noFill/>
          </a:ln>
        </p:spPr>
      </p:pic>
      <p:sp>
        <p:nvSpPr>
          <p:cNvPr id="671" name=""/>
          <p:cNvSpPr txBox="1"/>
          <p:nvPr/>
        </p:nvSpPr>
        <p:spPr>
          <a:xfrm>
            <a:off x="2195640" y="5157720"/>
            <a:ext cx="5111640" cy="126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有则改之，无则加勉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3" dur="2000" fill="hold"/>
                                        <p:tgtEl>
                                          <p:spTgt spid="6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2124000" y="333360"/>
            <a:ext cx="475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下阶段采取的措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250920" y="1125360"/>
            <a:ext cx="8893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加强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思想教育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工作，增强学生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自信心和成才欲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充分利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课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及班会时间给同学们加油鼓劲，激发学生学习热情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250920" y="3068640"/>
            <a:ext cx="82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严格管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加强纪律性，增强时间观念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250920" y="3716280"/>
            <a:ext cx="76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同学之间介绍好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学习经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250920" y="4365720"/>
            <a:ext cx="8353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制定班级奋斗目标：确保前四、力争第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每一个同学根据实际情况，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准确定位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324000" y="5877000"/>
            <a:ext cx="84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66cc"/>
                </a:solidFill>
                <a:latin typeface="Arial"/>
              </a:rPr>
              <a:t>、感恩系列教育：给父母写一封信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 txBox="1"/>
          <p:nvPr/>
        </p:nvSpPr>
        <p:spPr>
          <a:xfrm>
            <a:off x="684360" y="1557360"/>
            <a:ext cx="806436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（５）、需要家长配合的工作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/>
          <p:nvPr/>
        </p:nvSpPr>
        <p:spPr>
          <a:xfrm>
            <a:off x="324000" y="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为了更好的促进学生发展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需要请家长配合的事情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324000" y="1268280"/>
            <a:ext cx="88200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协助学校落实学生行为规范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头发、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挂件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校服校牌、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手机、文曲星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等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切实解决学生心理问题， 树立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信心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，轻装上阵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以身作则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，在家庭中培养良好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学习氛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加强家校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联系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，多沟通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控制孩子的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零花钱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173040" y="6021360"/>
            <a:ext cx="232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多关注孩子周末的生活和学习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走读生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10920" y="1989000"/>
            <a:ext cx="6769080" cy="19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３、为优秀学生颁奖</a:t>
            </a:r>
            <a:br>
              <a:rPr sz="7200"/>
            </a:br>
            <a:endParaRPr b="0" lang="en-US" sz="72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40000"/>
                </a:solidFill>
                <a:latin typeface="Arial"/>
              </a:rPr>
              <a:t>       </a:t>
            </a:r>
            <a:endParaRPr b="0" lang="en-US" sz="4800" spc="-1" strike="noStrike">
              <a:solidFill>
                <a:srgbClr val="e40000"/>
              </a:solidFill>
              <a:latin typeface="Arial"/>
            </a:endParaRPr>
          </a:p>
        </p:txBody>
      </p:sp>
      <p:pic>
        <p:nvPicPr>
          <p:cNvPr id="6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7174080"/>
          </a:xfrm>
          <a:prstGeom prst="rect">
            <a:avLst/>
          </a:prstGeom>
          <a:ln w="0">
            <a:noFill/>
          </a:ln>
        </p:spPr>
      </p:pic>
      <p:sp>
        <p:nvSpPr>
          <p:cNvPr id="633" name=""/>
          <p:cNvSpPr/>
          <p:nvPr/>
        </p:nvSpPr>
        <p:spPr>
          <a:xfrm>
            <a:off x="611280" y="1052640"/>
            <a:ext cx="51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cc"/>
                </a:solidFill>
                <a:latin typeface="Arial"/>
                <a:ea typeface="黑体"/>
              </a:rPr>
              <a:t>在家庭与学校之间架起一座金色的桥梁，使学校教育与家庭教育有机地结合起来，而家长会则是连结家庭教育与学校教育的纽带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30000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500" autoRev="1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12" dur="500" autoRev="1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13" dur="500" autoRev="1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24000" y="2276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66ff"/>
                </a:solidFill>
                <a:latin typeface="Arial"/>
              </a:rPr>
              <a:t>4</a:t>
            </a:r>
            <a:r>
              <a:rPr b="1" lang="zh-CN" sz="7200" spc="-1" strike="noStrike">
                <a:solidFill>
                  <a:srgbClr val="3366ff"/>
                </a:solidFill>
                <a:latin typeface="Arial"/>
              </a:rPr>
              <a:t>、学生代表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朱昕昕</a:t>
            </a:r>
            <a:br>
              <a:rPr sz="7200"/>
            </a:br>
            <a:r>
              <a:rPr b="1" lang="zh-CN" sz="7200" spc="-1" strike="noStrike">
                <a:solidFill>
                  <a:srgbClr val="3366ff"/>
                </a:solidFill>
                <a:latin typeface="Arial"/>
              </a:rPr>
              <a:t>（班级状元）发言</a:t>
            </a:r>
            <a:endParaRPr b="0" lang="en-US" sz="72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324000" y="2707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66ff"/>
                </a:solidFill>
                <a:latin typeface="Arial"/>
              </a:rPr>
              <a:t>５、任课老师代表</a:t>
            </a:r>
            <a:br>
              <a:rPr sz="7200"/>
            </a:br>
            <a:r>
              <a:rPr b="1" lang="zh-CN" sz="7200" spc="-1" strike="noStrike">
                <a:solidFill>
                  <a:srgbClr val="3366ff"/>
                </a:solidFill>
                <a:latin typeface="Arial"/>
              </a:rPr>
              <a:t>程宏咏老师发言</a:t>
            </a:r>
            <a:endParaRPr b="0" lang="en-US" sz="72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366ff"/>
                </a:solidFill>
                <a:latin typeface="Arial"/>
              </a:rPr>
              <a:t>感谢您的指导，孩子的进步是我们</a:t>
            </a:r>
            <a:r>
              <a:rPr b="1" lang="zh-CN" sz="9600" spc="-1" strike="noStrike">
                <a:solidFill>
                  <a:srgbClr val="ff0000"/>
                </a:solidFill>
                <a:latin typeface="Arial"/>
              </a:rPr>
              <a:t>共同的心愿！</a:t>
            </a:r>
            <a:endParaRPr b="0" lang="en-US" sz="96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p:transition spd="slow" advTm="10000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7" name=""/>
          <p:cNvSpPr txBox="1"/>
          <p:nvPr/>
        </p:nvSpPr>
        <p:spPr>
          <a:xfrm>
            <a:off x="1066680" y="1295280"/>
            <a:ext cx="716292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一切为了孩子</a:t>
            </a: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做好孩子的护航使者</a:t>
            </a: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577800" y="990720"/>
            <a:ext cx="8185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660066"/>
                </a:solidFill>
                <a:latin typeface="Verdana"/>
                <a:ea typeface="华文彩云"/>
              </a:rPr>
              <a:t>真诚期待与您的合作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116000" y="3284640"/>
            <a:ext cx="750888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333ff"/>
                </a:solidFill>
                <a:latin typeface="Verdana"/>
                <a:ea typeface="华文隶书"/>
              </a:rPr>
              <a:t>常过来看看！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1203480" y="2666880"/>
            <a:ext cx="646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99"/>
                </a:solidFill>
                <a:latin typeface="Times New Roman"/>
                <a:ea typeface="华文新魏"/>
              </a:rPr>
              <a:t>别忘了：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250920" y="1341360"/>
            <a:ext cx="8675640" cy="38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祝每一个家庭</a:t>
            </a:r>
            <a:r>
              <a:rPr b="1" lang="zh-CN" sz="6600" spc="-1" strike="noStrike">
                <a:solidFill>
                  <a:srgbClr val="ff3399"/>
                </a:solidFill>
                <a:latin typeface="Arial"/>
              </a:rPr>
              <a:t>合家欢乐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！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祝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你们的孩子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lang="zh-CN" sz="5400" spc="-1" strike="noStrike">
                <a:solidFill>
                  <a:srgbClr val="3366ff"/>
                </a:solidFill>
                <a:latin typeface="Arial"/>
              </a:rPr>
              <a:t>我们的学生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Arial"/>
              </a:rPr>
              <a:t>健康成长、考上大学</a:t>
            </a:r>
            <a:r>
              <a:rPr b="1" lang="zh-CN" sz="6600" spc="-1" strike="noStrike">
                <a:solidFill>
                  <a:srgbClr val="ffffff"/>
                </a:solidFill>
                <a:latin typeface="Arial"/>
              </a:rPr>
              <a:t>!!!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4" name=""/>
          <p:cNvSpPr/>
          <p:nvPr/>
        </p:nvSpPr>
        <p:spPr>
          <a:xfrm>
            <a:off x="-468360" y="3860640"/>
            <a:ext cx="939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淮安中学高一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(20)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班　</a:t>
            </a:r>
            <a:r>
              <a:rPr b="0" lang="zh-CN" sz="5400" spc="-1" strike="noStrike">
                <a:solidFill>
                  <a:srgbClr val="ff0000"/>
                </a:solidFill>
                <a:latin typeface="华文行楷"/>
                <a:ea typeface="华文行楷"/>
              </a:rPr>
              <a:t>张正飞   </a:t>
            </a:r>
            <a:r>
              <a:rPr b="0" lang="zh-CN" sz="5400" spc="-1" strike="noStrike">
                <a:solidFill>
                  <a:srgbClr val="ff0000"/>
                </a:solidFill>
                <a:latin typeface="华文行楷"/>
                <a:ea typeface="华文行楷"/>
              </a:rPr>
              <a:t>2006.4</a:t>
            </a:r>
            <a:r>
              <a:rPr b="0" lang="zh-CN" sz="5400" spc="-1" strike="noStrike">
                <a:solidFill>
                  <a:srgbClr val="ff0000"/>
                </a:solidFill>
                <a:latin typeface="华文行楷"/>
                <a:ea typeface="华文行楷"/>
              </a:rPr>
              <a:t>．</a:t>
            </a:r>
            <a:r>
              <a:rPr b="0" lang="zh-CN" sz="5400" spc="-1" strike="noStrike">
                <a:solidFill>
                  <a:srgbClr val="ff0000"/>
                </a:solidFill>
                <a:latin typeface="华文行楷"/>
                <a:ea typeface="华文行楷"/>
              </a:rPr>
              <a:t>23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0" y="1125360"/>
            <a:ext cx="7451640" cy="19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友情提醒：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今天下午正常上自习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94920" y="1628280"/>
            <a:ext cx="7380360" cy="25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3366ff"/>
                </a:solidFill>
                <a:latin typeface="Arial"/>
              </a:rPr>
              <a:t>６、个别交流</a:t>
            </a:r>
            <a:br>
              <a:rPr sz="8800"/>
            </a:br>
            <a:endParaRPr b="0" lang="en-US" sz="88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e40000"/>
                </a:solidFill>
                <a:latin typeface="Arial"/>
              </a:rPr>
              <a:t>请查看</a:t>
            </a:r>
            <a:endParaRPr b="0" lang="en-US" sz="66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高一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班全体同学的誓言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近期我们的学习情况：作业、试卷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学生个人档案：我们的学习成绩、目标、表现情况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心灵的沟通：和父母说心里话，请留言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826920" y="260280"/>
            <a:ext cx="741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高一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２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0)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班家长会议程：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250920" y="1268280"/>
            <a:ext cx="8893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Arial"/>
              </a:rPr>
              <a:t>１、年级电视广播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Arial"/>
              </a:rPr>
              <a:t>２、班级基本情况介绍（由我介绍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Arial"/>
              </a:rPr>
              <a:t>３、为优秀学生颁奖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Arial"/>
              </a:rPr>
              <a:t>４、学生代表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朱昕昕</a:t>
            </a:r>
            <a:r>
              <a:rPr b="1" lang="zh-CN" sz="3600" spc="-1" strike="noStrike">
                <a:solidFill>
                  <a:srgbClr val="3366ff"/>
                </a:solidFill>
                <a:latin typeface="Arial"/>
              </a:rPr>
              <a:t>（班级状元）</a:t>
            </a:r>
            <a:r>
              <a:rPr b="1" lang="zh-CN" sz="4000" spc="-1" strike="noStrike">
                <a:solidFill>
                  <a:srgbClr val="3366ff"/>
                </a:solidFill>
                <a:latin typeface="Arial"/>
              </a:rPr>
              <a:t>发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Arial"/>
              </a:rPr>
              <a:t>５、任课老师代表程宏咏老师发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Arial"/>
              </a:rPr>
              <a:t>６、个别交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4061160" y="2421000"/>
            <a:ext cx="49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１、年级电视广播会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 txBox="1"/>
          <p:nvPr/>
        </p:nvSpPr>
        <p:spPr>
          <a:xfrm>
            <a:off x="684360" y="1700280"/>
            <a:ext cx="784836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２、班级基本情况介绍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/>
          <p:nvPr/>
        </p:nvSpPr>
        <p:spPr>
          <a:xfrm>
            <a:off x="1219320" y="99072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250920" y="0"/>
            <a:ext cx="8569080" cy="66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）教师情况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语文——毛志红（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13952372072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数学——程宏咏（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13815455703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英语——方    贞（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13852256132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物理——卢爱玲（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13033550128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化学——张正飞（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13511530812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生物——王令玲（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13511535860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395280" y="836640"/>
            <a:ext cx="52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（</a:t>
            </a: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）学生情况介绍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0" y="1844640"/>
            <a:ext cx="8820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zh-CN" sz="4000" spc="-1" strike="noStrike">
                <a:solidFill>
                  <a:srgbClr val="e40000"/>
                </a:solidFill>
                <a:latin typeface="楷体_GB2312"/>
                <a:ea typeface="华文楷体"/>
              </a:rPr>
              <a:t>高一</a:t>
            </a:r>
            <a:r>
              <a:rPr b="1" lang="zh-CN" sz="4000" spc="-1" strike="noStrike">
                <a:solidFill>
                  <a:srgbClr val="e40000"/>
                </a:solidFill>
                <a:latin typeface="楷体_GB2312"/>
                <a:ea typeface="华文楷体"/>
              </a:rPr>
              <a:t>(20)</a:t>
            </a:r>
            <a:r>
              <a:rPr b="1" lang="zh-CN" sz="4000" spc="-1" strike="noStrike">
                <a:solidFill>
                  <a:srgbClr val="e40000"/>
                </a:solidFill>
                <a:latin typeface="楷体_GB2312"/>
                <a:ea typeface="华文楷体"/>
              </a:rPr>
              <a:t>班共有学生</a:t>
            </a:r>
            <a:r>
              <a:rPr b="1" lang="zh-CN" sz="4000" spc="-1" strike="noStrike">
                <a:solidFill>
                  <a:srgbClr val="e40000"/>
                </a:solidFill>
                <a:latin typeface="楷体_GB2312"/>
                <a:ea typeface="华文楷体"/>
              </a:rPr>
              <a:t>63</a:t>
            </a:r>
            <a:r>
              <a:rPr b="1" lang="zh-CN" sz="4000" spc="-1" strike="noStrike">
                <a:solidFill>
                  <a:srgbClr val="e40000"/>
                </a:solidFill>
                <a:latin typeface="楷体_GB2312"/>
                <a:ea typeface="华文楷体"/>
              </a:rPr>
              <a:t>人，其中</a:t>
            </a:r>
            <a:r>
              <a:rPr b="1" lang="zh-CN" sz="4000" spc="-1" strike="noStrike">
                <a:solidFill>
                  <a:srgbClr val="3366ff"/>
                </a:solidFill>
                <a:latin typeface="楷体_GB2312"/>
                <a:ea typeface="华文楷体"/>
              </a:rPr>
              <a:t>男生</a:t>
            </a:r>
            <a:r>
              <a:rPr b="1" lang="zh-CN" sz="4000" spc="-1" strike="noStrike">
                <a:solidFill>
                  <a:srgbClr val="e40000"/>
                </a:solidFill>
                <a:latin typeface="楷体_GB2312"/>
                <a:ea typeface="华文楷体"/>
              </a:rPr>
              <a:t>51</a:t>
            </a:r>
            <a:r>
              <a:rPr b="1" lang="zh-CN" sz="4000" spc="-1" strike="noStrike">
                <a:solidFill>
                  <a:srgbClr val="e40000"/>
                </a:solidFill>
                <a:latin typeface="楷体_GB2312"/>
                <a:ea typeface="华文楷体"/>
              </a:rPr>
              <a:t>人，</a:t>
            </a:r>
            <a:r>
              <a:rPr b="1" lang="zh-CN" sz="4000" spc="-1" strike="noStrike">
                <a:solidFill>
                  <a:srgbClr val="3366ff"/>
                </a:solidFill>
                <a:latin typeface="楷体_GB2312"/>
                <a:ea typeface="华文楷体"/>
              </a:rPr>
              <a:t>女生</a:t>
            </a:r>
            <a:r>
              <a:rPr b="1" lang="zh-CN" sz="4000" spc="-1" strike="noStrike">
                <a:solidFill>
                  <a:srgbClr val="e40000"/>
                </a:solidFill>
                <a:latin typeface="楷体_GB2312"/>
                <a:ea typeface="华文楷体"/>
              </a:rPr>
              <a:t>12</a:t>
            </a:r>
            <a:r>
              <a:rPr b="1" lang="zh-CN" sz="4000" spc="-1" strike="noStrike">
                <a:solidFill>
                  <a:srgbClr val="e40000"/>
                </a:solidFill>
                <a:latin typeface="楷体_GB2312"/>
                <a:ea typeface="华文楷体"/>
              </a:rPr>
              <a:t>人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楷体_GB2312"/>
                <a:ea typeface="华文楷体"/>
              </a:rPr>
              <a:t>住校生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华文楷体"/>
              </a:rPr>
              <a:t>52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人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华文楷体"/>
              </a:rPr>
              <a:t>男生分</a:t>
            </a: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华文楷体"/>
              </a:rPr>
              <a:t>6</a:t>
            </a: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华文楷体"/>
              </a:rPr>
              <a:t>个寝室，分别住在</a:t>
            </a: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华文楷体"/>
              </a:rPr>
              <a:t>2301</a:t>
            </a: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华文楷体"/>
              </a:rPr>
              <a:t>、</a:t>
            </a: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华文楷体"/>
              </a:rPr>
              <a:t>2302 </a:t>
            </a:r>
            <a:r>
              <a:rPr b="1" lang="zh-CN" sz="4000" spc="-1" strike="noStrike">
                <a:solidFill>
                  <a:srgbClr val="e4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e40000"/>
                </a:solidFill>
                <a:latin typeface="Arial"/>
              </a:rPr>
              <a:t>2411</a:t>
            </a: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华文楷体"/>
              </a:rPr>
              <a:t>、</a:t>
            </a: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华文楷体"/>
              </a:rPr>
              <a:t>2412</a:t>
            </a: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华文楷体"/>
              </a:rPr>
              <a:t>、</a:t>
            </a: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华文楷体"/>
              </a:rPr>
              <a:t>2413</a:t>
            </a: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华文楷体"/>
              </a:rPr>
              <a:t>、</a:t>
            </a: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华文楷体"/>
              </a:rPr>
              <a:t>241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华文楷体"/>
              </a:rPr>
              <a:t>寝室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楷体"/>
              </a:rPr>
              <a:t>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楷体"/>
              </a:rPr>
              <a:t>女生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楷体"/>
              </a:rPr>
              <a:t>7303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楷体"/>
              </a:rPr>
              <a:t>、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楷体"/>
              </a:rPr>
              <a:t>7304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楷体"/>
              </a:rPr>
              <a:t>寝室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6" name="" descr=""/>
          <p:cNvPicPr/>
          <p:nvPr/>
        </p:nvPicPr>
        <p:blipFill>
          <a:blip r:embed="rId1"/>
          <a:stretch/>
        </p:blipFill>
        <p:spPr>
          <a:xfrm>
            <a:off x="5796000" y="260280"/>
            <a:ext cx="30956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1T07:35:47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1:51:43Z</dcterms:modified>
  <cp:revision>146</cp:revision>
  <dc:subject>主题班会课件(分28大类): http://shop62905894.taobao.com</dc:subject>
  <dc:title>主题班会课件(分28大类): http://shop62905894.taobao.com</dc:title>
</cp:coreProperties>
</file>