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png" ContentType="image/png"/>
  <Override PartName="/ppt/media/image3.jpeg" ContentType="image/jpeg"/>
  <Override PartName="/ppt/media/drumroll.wav" ContentType="audio/x-wav"/>
  <Override PartName="/ppt/media/image8.jpeg" ContentType="image/jpeg"/>
  <Override PartName="/ppt/media/image5.png" ContentType="image/png"/>
  <Override PartName="/ppt/media/applause.wav" ContentType="audio/x-wav"/>
  <Override PartName="/ppt/media/image4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7.jpeg" ContentType="image/jpeg"/>
  <Override PartName="/ppt/media/type.wav" ContentType="audio/x-wav"/>
  <Override PartName="/ppt/media/image26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12.png" ContentType="image/png"/>
  <Override PartName="/ppt/media/image13.gif" ContentType="image/gif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23.png" ContentType="image/png"/>
  <Override PartName="/ppt/media/chimes.wav" ContentType="audio/x-wav"/>
  <Override PartName="/ppt/media/image21.jpeg" ContentType="image/jpeg"/>
  <Override PartName="/ppt/media/image24.jpeg" ContentType="image/jpeg"/>
  <Override PartName="/ppt/media/image22.png" ContentType="image/png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320-1BDB-4008-B6D2-A75F87C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DD2-585D-4E4B-83A8-EDF9FCE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4DE-8CE5-4D6E-A3C0-F8D6DB18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165-37F8-4648-8902-6433BBCA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308-5930-4FD8-B86C-0F3CF0E4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51F-C06B-4B8B-95FE-B4D750D1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F70-D16C-4C6A-9335-75B940B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85F-9E7C-4466-902A-89A139FC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CAC-03D9-426D-9075-0720C5B7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70A-FA15-4AE1-86DA-B8A0CC1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779-54DF-43D1-9975-FD47351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93F-29E3-46A2-84E1-3DD1977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964-F68F-41E8-A13B-ABDB9D28C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Temporary%20Internet%20Files/Content.IE5/&#24180;&#32423;&#25945;&#21153;/&#34917;&#24046;&#23398;&#29983;&#21517;&#21333;(&#24635;&#34920;1&#65289;.xls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6.pn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4840" y="1844640"/>
            <a:ext cx="9348840" cy="696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0000" y="333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届高三（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班家长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7920" y="12682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宝鸡市第二次市级模拟考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278136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成绩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57200" y="1628640"/>
          <a:ext cx="4038480" cy="4513320"/>
        </p:xfrm>
        <a:graphic>
          <a:graphicData uri="http://schemas.openxmlformats.org/drawingml/2006/table">
            <a:tbl>
              <a:tblPr/>
              <a:tblGrid>
                <a:gridCol w="1312920"/>
                <a:gridCol w="909720"/>
                <a:gridCol w="807840"/>
                <a:gridCol w="1008000"/>
              </a:tblGrid>
              <a:tr h="611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姓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级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弱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罗鹏超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李秦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许明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王苗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赵　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数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刘佩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吴建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杜培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毕航娟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物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陈小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物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68360" y="765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宝鸡市第二次模拟考试名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全年级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1600200"/>
          <a:ext cx="4038480" cy="4565520"/>
        </p:xfrm>
        <a:graphic>
          <a:graphicData uri="http://schemas.openxmlformats.org/drawingml/2006/table">
            <a:tbl>
              <a:tblPr/>
              <a:tblGrid>
                <a:gridCol w="1312920"/>
                <a:gridCol w="909360"/>
                <a:gridCol w="808200"/>
                <a:gridCol w="1008000"/>
              </a:tblGrid>
              <a:tr h="639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姓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级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弱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郑浩南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杨海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生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赵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赵安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候慧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乔朋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英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候国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王丽琼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物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庞云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4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华文新魏"/>
                        </a:rPr>
                        <a:t>1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华文新魏"/>
                        </a:rPr>
                        <a:t>语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2349360"/>
          <a:ext cx="5833800" cy="4155840"/>
        </p:xfrm>
        <a:graphic>
          <a:graphicData uri="http://schemas.openxmlformats.org/drawingml/2006/table">
            <a:tbl>
              <a:tblPr/>
              <a:tblGrid>
                <a:gridCol w="1368360"/>
                <a:gridCol w="1584360"/>
                <a:gridCol w="1224000"/>
                <a:gridCol w="1657080"/>
              </a:tblGrid>
              <a:tr h="720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杨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李文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2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许明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张文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罗鹏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杜培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葛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黄阳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陈小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赵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夏晨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王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69228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宝鸡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对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成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步较大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51678" t="8769" r="35064" b="8769"/>
          <a:stretch/>
        </p:blipFill>
        <p:spPr>
          <a:xfrm>
            <a:off x="6084720" y="549360"/>
            <a:ext cx="29005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33840" y="2421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科班级前十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428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语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557360"/>
            <a:ext cx="36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赵安博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9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毕航娟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葛  琼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6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王  玉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6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豆永博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5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628640"/>
            <a:ext cx="38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夏晨丹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杜培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赵  涛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候慧敏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乔朋波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526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数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557360"/>
            <a:ext cx="36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罗鹏超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2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庞云芳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5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许明阳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李秦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杜培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557360"/>
            <a:ext cx="388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吴建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7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候国庆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8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王丽琼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9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郑浩南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0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刘佩叶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6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05320" y="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英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557360"/>
            <a:ext cx="36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李秦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罗鹏超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陈小英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毕航娟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赵  婷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557360"/>
            <a:ext cx="388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李  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7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刘佩叶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8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黄阳阳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9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毕鹏英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0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郭小娟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352680" y="3049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理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557360"/>
            <a:ext cx="36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王苗苗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6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乔朋波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许明阳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56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杜培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5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陈小英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557360"/>
            <a:ext cx="388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罗鹏超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7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郭小娟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8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赵  婷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9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吴建峰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0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候慧敏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4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1125360"/>
            <a:ext cx="624852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333360"/>
            <a:ext cx="197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反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89000"/>
            <a:ext cx="681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本次家长会的目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1268280"/>
            <a:ext cx="6013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心沟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共创辉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776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学生给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真分析每位学生的成绩情况，寻找该生的薄弱科目，确定补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学生名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班主任与各科任老师的联系，在平时上课，作业检查方面弱科学生给予更多的关注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93372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通过个别谈心，班会集体说教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3429000"/>
            <a:ext cx="8820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9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33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向偏科现象较严重的同学介绍好的学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635280" y="620640"/>
            <a:ext cx="5181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如何看待成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11280" y="2349360"/>
            <a:ext cx="698508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孩子的每一滴收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27280" y="4437000"/>
            <a:ext cx="541008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孩子的每一点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58800" y="3636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给家长的一些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22520" y="1422360"/>
            <a:ext cx="43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孩子多鼓励，多信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供良好的学习环境，做好后勤工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与班主任和科任教师联络，统一思想，统一做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4680" y="393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华文新魏"/>
              </a:rPr>
              <a:t>教育好孩子，帮助孩子成长、成材是我们共同的目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0200" y="167652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，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52360" y="609300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校教育必须与家庭教育和社会教育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4560" y="304920"/>
            <a:ext cx="8569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27432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尽量表扬孩子，孩子具有一定的自信心，才会肯去学习要使孩子每天都感觉到他在学习上取得了一定进步，哪怕是改正一个缺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708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2952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 创造和睦、祥和、稳定的家庭气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316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6160" y="304920"/>
            <a:ext cx="4752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谈谈家庭教育的必要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18440" y="380880"/>
            <a:ext cx="475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多关心孩子的学习内容和实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进步程度，家长要多询问孩子最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了什么掌握得如何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32120" y="3208320"/>
            <a:ext cx="5057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经常给孩子制订几个容易达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目标，这样可以使孩子感觉到能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做到，树立孩子自信心，从而有利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孩子发挥出潜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71920" y="457200"/>
            <a:ext cx="581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订下家庭学习规矩，并且自始至终执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形成良好的学习习惯，作息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9760" y="2286000"/>
            <a:ext cx="554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要有恰当的教育方法，对待孩子要有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，不能经常打骂。那样只会激起孩子的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触心理，事与愿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70760" y="4876920"/>
            <a:ext cx="11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家长要以身作则，给孩子做出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条件应给孩子充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3080" y="5529240"/>
            <a:ext cx="15242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76360" y="3573360"/>
            <a:ext cx="716292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6666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楷体"/>
              </a:rPr>
              <a:t>点 燃 孩 子 心 中的 渴 望！</a:t>
            </a:r>
            <a:endParaRPr b="1" lang="en-US" sz="1800" spc="1" strike="noStrike">
              <a:ln w="12600">
                <a:solidFill>
                  <a:srgbClr val="6666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楷体"/>
              <a:ea typeface="华文楷体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19280" y="692280"/>
            <a:ext cx="5616720" cy="129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交流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640" y="24210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幼圆"/>
              </a:rPr>
              <a:t>我想对爸爸妈妈说的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789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实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69228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581120"/>
            <a:ext cx="8001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爸妈，我知道你们赚钱很辛苦，你们对我的期望，我心里很明白、了解，我一定不会辜负你们的期望的。你们叫我读好书，考上好的一所大学，都是在替我着想，我非常感谢你们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8827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的爸爸、妈妈很好，从来都不会勉强我考什么样的成绩，你们只关心我是否认真读书，由于你们没有要求，因此我心里很难受，看到你们每天辛苦工作，我感到自己只是在浪费你们的血汗钱。我希望自己能取得好成绩来回报你们，让你们开心，但是我考得很砸，我真得很对不起你们。不过，这只是一次失败，我下次一定会努力的，希望你们不要担心我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49920" y="15573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1520" y="260280"/>
            <a:ext cx="708660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254628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3800" y="917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我们的承诺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——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696080" y="212760"/>
            <a:ext cx="1203480" cy="100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1596960"/>
            <a:ext cx="792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虽然经常和你们顶嘴吵架，但那不是真心的，只是我们太累了。现在面临高考的压力，已无心再理会别的了，希望你们能理解，也别放在心上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1523880"/>
            <a:ext cx="7848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爸妈，压力有时是一种动力，但有时却是一种阻碍力。因为你们给我过大的压力，使我产生了一种恐惧感，对学习有一种压抑感，变得害怕，每天担心考不好，担心对不起你们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1596960"/>
            <a:ext cx="784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希望你们不再重视我的考试排名，而要重视我是否进步了。成绩的不理想，是我的烦恼，但你们“关心式”的责备使我更加烦恼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464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508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励志名言</a:t>
            </a:r>
            <a:br>
              <a:rPr sz="4800"/>
            </a:b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相  信  的  力  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341360"/>
            <a:ext cx="8497800" cy="545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我的学校，我相信我的班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我的老师和同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我自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我的聪明与勤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定会取得学业上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真理就是价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愉快的心情，也相信健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成功的关键在于创造价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相信勤奋的双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的大脑和爱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8560" y="323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150264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十二年磨砺，立志临绝顶；五十日竞渡，“破浪”展雄风。凝聚力量决战高考，齐心大干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！燃烧青春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追求梦想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搏超越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坚信：坚持到底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向无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lum contrast="-8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朋友再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身体健康，家庭幸福！</a:t>
            </a:r>
            <a:endParaRPr b="0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6248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  <p:seq>
              <p:cTn id="30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39640" y="314136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班级情况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4872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692280"/>
            <a:ext cx="5616720" cy="129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1628640"/>
            <a:ext cx="8820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语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理：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化学：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9360"/>
            <a:ext cx="32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任科教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9079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学习最刻苦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060640"/>
            <a:ext cx="8207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英娟 王晓杰 袁山博 李秦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文超 李文刚  杨毅  张文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1052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热心，乐于助人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989000"/>
            <a:ext cx="8207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磊 黄阳阳  张峰  马立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萍 齐  亮  马妮  牛旭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魏海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052640"/>
            <a:ext cx="59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上课能积极发言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349360"/>
            <a:ext cx="820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  戈  冯媛  李志伟 袁  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伟乐  刘倩  权文超 胡申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3:47:5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6:03Z</dcterms:modified>
  <cp:revision>13</cp:revision>
  <dc:subject>主题班会课件(分28大类): http://shop62905894.taobao.com</dc:subject>
  <dc:title>主题班会课件(分28大类): http://shop62905894.taobao.com</dc:title>
</cp:coreProperties>
</file>