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6F7-6A66-432E-AE14-A0B1F3AB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AED-A998-430E-BA69-9688D869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B2C-6061-4500-874C-C31AC971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AB1-9BF5-47C6-9F67-2BAA87D3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2A6-5FD9-4B46-A909-015FC216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58-51DA-4A62-9B22-0427B0A9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212-BDF6-452D-910B-DDEB2E40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548-FC09-42D8-8A2D-C88C13A1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783-1729-429A-8A8E-5A0AF6A4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1B9-47FF-4E74-9A63-694E58E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C3D-F6FC-48F7-A3D8-9C25CAE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03D-69EF-4DFC-9A41-6C99B46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CA17-CD5D-4A66-9EE9-6AE766BE0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C:/Documents%20and%20Settings/Local%20Settings/Temp/Rar$DI00.344/&#23478;&#38271;&#20250;/&#23478;&#38271;&#20250;/&#24180;&#32423;&#25945;&#21153;/&#34917;&#24046;&#23398;&#29983;&#21517;&#21333;(&#24635;&#34920;1&#65289;.xls" TargetMode="External"/><Relationship Id="rId6" Type="http://schemas.openxmlformats.org/officeDocument/2006/relationships/hyperlink" Target="file:///C:/Documents%20and%20Settings/Local%20Settings/Temp/Rar$DI00.344/&#23478;&#38271;&#20250;/&#23478;&#38271;&#20250;/&#24180;&#32423;&#25945;&#21153;/&#23398;&#29983;&#34917;&#24046;&#35760;&#24405;&#21333;.xls" TargetMode="External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900000" y="1916280"/>
            <a:ext cx="7850160" cy="29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热烈欢迎各位家长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5516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全体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627280" y="5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班级情况介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1052640"/>
            <a:ext cx="3887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科代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文：何君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学：张    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：周    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政治：陈丽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历史：华程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理：金茹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27280" y="5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班级情况介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125360"/>
            <a:ext cx="3600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寝室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金茹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裘海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倪    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徐程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徐筱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包成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臧金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ownRibbonSharp"/>
          <p:cNvSpPr/>
          <p:nvPr/>
        </p:nvSpPr>
        <p:spPr>
          <a:xfrm>
            <a:off x="684360" y="549360"/>
            <a:ext cx="8076960" cy="761760"/>
          </a:xfrm>
          <a:custGeom>
            <a:avLst/>
            <a:gdLst>
              <a:gd name="textAreaLeft" fmla="*/ 2019240 w 8076960"/>
              <a:gd name="textAreaRight" fmla="*/ 6057720 w 8076960"/>
              <a:gd name="textAreaTop" fmla="*/ 9504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Black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 Black"/>
              </a:rPr>
              <a:t>期中考试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03280" y="907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中考试位于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前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00280"/>
            <a:ext cx="7056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姓    名     成绩      姓    名        成绩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    姬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6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    梦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包琦冰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1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倪     姗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叶芳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98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朱玲燕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章翅飞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86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徐程程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包成勇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83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潘春霞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42920" y="170028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月考比较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进步较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同学名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2708280"/>
            <a:ext cx="806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潘春霞     吕    婷   张叶芳      何君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包君儿     汪鲁杰    叶成丹     周赛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如冰     何小亚    鲍剑华     董丽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俞    存     鲍丽慧   张宇斌      童    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汪    佩    华程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20720" y="169704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高二比较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进步较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同学名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781360"/>
            <a:ext cx="7956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潘春霞     叶成丹     周赛亚     裘海群     王    庆     蒋琳琳    孙    株      骆开明     朱玲燕     楼    姬    张叶芳      倪    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    苗     童   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58920" y="17002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语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科成绩班级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76360" y="2708280"/>
          <a:ext cx="3600360" cy="2808360"/>
        </p:xfrm>
        <a:graphic>
          <a:graphicData uri="http://schemas.openxmlformats.org/drawingml/2006/table">
            <a:tbl>
              <a:tblPr/>
              <a:tblGrid>
                <a:gridCol w="1852560"/>
                <a:gridCol w="1747800"/>
              </a:tblGrid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琦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君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春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玲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075280" y="2708280"/>
          <a:ext cx="3097080" cy="2138400"/>
        </p:xfrm>
        <a:graphic>
          <a:graphicData uri="http://schemas.openxmlformats.org/drawingml/2006/table">
            <a:tbl>
              <a:tblPr/>
              <a:tblGrid>
                <a:gridCol w="1593720"/>
                <a:gridCol w="1503360"/>
              </a:tblGrid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楼  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洋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翅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19120" y="1690560"/>
            <a:ext cx="68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数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科成绩班级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11280" y="2421000"/>
          <a:ext cx="4321080" cy="3492360"/>
        </p:xfrm>
        <a:graphic>
          <a:graphicData uri="http://schemas.openxmlformats.org/drawingml/2006/table">
            <a:tbl>
              <a:tblPr/>
              <a:tblGrid>
                <a:gridCol w="2222280"/>
                <a:gridCol w="2098800"/>
              </a:tblGrid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成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翅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婷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程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君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1700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英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科成绩班级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35280" y="2492280"/>
          <a:ext cx="5329080" cy="3492360"/>
        </p:xfrm>
        <a:graphic>
          <a:graphicData uri="http://schemas.openxmlformats.org/drawingml/2006/table">
            <a:tbl>
              <a:tblPr/>
              <a:tblGrid>
                <a:gridCol w="2741400"/>
                <a:gridCol w="2587680"/>
              </a:tblGrid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琦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  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赛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楼  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成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79640" y="1916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政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科成绩班级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79640" y="2708280"/>
          <a:ext cx="2736720" cy="3492360"/>
        </p:xfrm>
        <a:graphic>
          <a:graphicData uri="http://schemas.openxmlformats.org/drawingml/2006/table">
            <a:tbl>
              <a:tblPr/>
              <a:tblGrid>
                <a:gridCol w="1407960"/>
                <a:gridCol w="1328760"/>
              </a:tblGrid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君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燕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成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婷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 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716360" y="2708280"/>
          <a:ext cx="2808360" cy="2765520"/>
        </p:xfrm>
        <a:graphic>
          <a:graphicData uri="http://schemas.openxmlformats.org/drawingml/2006/table">
            <a:tbl>
              <a:tblPr/>
              <a:tblGrid>
                <a:gridCol w="1444680"/>
                <a:gridCol w="1363680"/>
              </a:tblGrid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琦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  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  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程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4680" y="2144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62064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92440" y="564984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79640" y="1341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历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科成绩班级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79640" y="2349360"/>
          <a:ext cx="4508640" cy="3475080"/>
        </p:xfrm>
        <a:graphic>
          <a:graphicData uri="http://schemas.openxmlformats.org/drawingml/2006/table">
            <a:tbl>
              <a:tblPr/>
              <a:tblGrid>
                <a:gridCol w="2319480"/>
                <a:gridCol w="2189160"/>
              </a:tblGrid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翅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君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琦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伟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  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24000" y="1052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地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科成绩班级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63640" y="1989000"/>
          <a:ext cx="5494320" cy="3492720"/>
        </p:xfrm>
        <a:graphic>
          <a:graphicData uri="http://schemas.openxmlformats.org/drawingml/2006/table">
            <a:tbl>
              <a:tblPr/>
              <a:tblGrid>
                <a:gridCol w="2825640"/>
                <a:gridCol w="2668680"/>
              </a:tblGrid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伟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叶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骆开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24000" y="1052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文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合成绩班级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08000" y="1773360"/>
          <a:ext cx="5041800" cy="4190760"/>
        </p:xfrm>
        <a:graphic>
          <a:graphicData uri="http://schemas.openxmlformats.org/drawingml/2006/table">
            <a:tbl>
              <a:tblPr/>
              <a:tblGrid>
                <a:gridCol w="2594160"/>
                <a:gridCol w="2447640"/>
              </a:tblGrid>
              <a:tr h="69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  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成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伟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叶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燕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君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2421000"/>
            <a:ext cx="806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富阳市数学竞赛获奖的同学名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等奖：徐程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等奖：章翅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119700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喜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76720" y="126828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喜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92280"/>
            <a:ext cx="828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年第一学期党章学习小组高级班学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章程哲      张叶芳     臧金波     裘海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    庆      董华明     潘春霞     包琦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剑英      章翅飞      包洋伟      倪   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419640" y="620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喜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349360"/>
            <a:ext cx="828036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年第一学期党章学习小组中级班学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朱玲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徐程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何君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95280" y="1125360"/>
            <a:ext cx="8569440" cy="116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以上成绩表明我们有理由相信：我们的同学、家长及我们全体教师前一阶段共同努力是足有成效的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90720" y="304920"/>
            <a:ext cx="7543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。偏科严重，薄弱科目不重视而且成绩比较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个别同学上课自以为是，不够专心，甚至出现开小差。有些学生作业马虎，作业差错多，答题、书写不规范；老师讲评过的练习部分学生始终没有养成及时订正的习惯，导致已做过的练习屡做屡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371600" y="219384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放松学习，临考试才匆忙复习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行为懒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考试心理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没有进入毕业班状态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学习不扎实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不能落实到实处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746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371600" y="5335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773360"/>
            <a:ext cx="76201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个别同学有抄作业现象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.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不能合理安排时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9.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个别同学没有明确的目标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10.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学生自觉性差，老师在与不在不一样，有些同学会违反纪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4936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一、家长会目的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5736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给孩子鼓劲，在孩子的心中他可能不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乎开什么内容，但只要自己的家长在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中，对他们就是骄傲就是幸福，就会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化为取之不尽用之不竭的力量源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的动员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加强家校联系，探讨教育方式，形成教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育合力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160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6600"/>
                </a:solidFill>
                <a:latin typeface="Arial"/>
              </a:rPr>
              <a:t>考试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之后我们做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落实学生的成绩情况之后，寻找该生的薄弱科目，确定培优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补差学生名单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班主任与各科任老师的联系，对补差学生给予更多的关注，并通过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学生补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时时跟踪，使学生在薄弱科上有所进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26920" y="69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6600"/>
                </a:solidFill>
                <a:latin typeface="Arial"/>
              </a:rPr>
              <a:t>考试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之后我们做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90160" y="1916280"/>
            <a:ext cx="45698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加强思想教育工作，增强学生的自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心和成才欲望，充分利用课堂及班会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给同学们加油鼓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增强时间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2720" y="472428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向偏科现象较严重的同学介绍好的学习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371600" y="5335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6600"/>
                </a:solidFill>
                <a:latin typeface="Arial"/>
              </a:rPr>
              <a:t>考试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之后我们做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通过谈话帮助学生分析成绩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找出原因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帮助学生确定目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加强自习课余时间的整体辅导和个别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辅导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跟踪力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662472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71600" y="5335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6600"/>
                </a:solidFill>
                <a:latin typeface="Arial"/>
              </a:rPr>
              <a:t>考试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之后我们做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1981080"/>
            <a:ext cx="7620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严格常规管理，严格请假制度，严格班规班纪，稳定学习秩序，为全面复习保驾护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50880" y="3789360"/>
            <a:ext cx="9853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老师们全力以赴，精心备课，组织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前总复习。和学生同甘共苦，关爱每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69228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学生期中考试的学习心理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268280"/>
            <a:ext cx="85406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焦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焦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1563840"/>
            <a:ext cx="216000" cy="122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1419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础较好 提升不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235584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础不扎实 高三想改变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27280" y="3429000"/>
            <a:ext cx="432000" cy="237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3640" y="342900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考的较好  缺乏更高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292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考的很不好的  自暴自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392800"/>
            <a:ext cx="568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等水平 有好的愿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如何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6600"/>
                </a:solidFill>
                <a:latin typeface="Arial"/>
              </a:rPr>
              <a:t>考试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之后我们做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5280" y="189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华文琥珀"/>
                <a:ea typeface="华文琥珀"/>
              </a:rPr>
              <a:t>家庭教育五大误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过分干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许多家长认为，高三是一个关键的时刻，孩子要一门心思的学习，不许做任何与学习无关的事情，对孩子的自由加以限制，这样可能会适得其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97180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3 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宋体"/>
              </a:rPr>
              <a:t>过分期待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对孩子的期望值过高，容易挫伤孩子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525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5.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宋体"/>
              </a:rPr>
              <a:t>过多的零用钱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少数同学往往不是用于学习和营养方面，而是用于非正常消费。对自觉性较差的同学来说钱多并不是好事情，往往会起到适得其反的作用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1 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宋体"/>
              </a:rPr>
              <a:t>过分保护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。把孩子重点保护起来，全家围绕着孩子转，这样会给孩子造成很大的心理压力，增加孩子的负担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733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4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过分放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孩子的表现漠不关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甚至对孩子已经表现出来的影响孩子健康成长的思想习惯不闻不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错过了教育的时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发展到一定的时候已经无法管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悔之晚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948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尽量表扬孩子，孩子具有一定的自信心，才会肯去学习要使孩子每天都感觉到他在学习上取得了一定进步，哪怕是改正一个缺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590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工作再忙也要抽点时间来多了解孩子在校的表现和学习成绩情况。多关心孩子的学习内容和实际进步程度，家长要多询问孩子最近学习了什么掌握得如何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经常给孩子制订几个容易达到的小目标，这样可以使孩子感觉到能够做到，树立孩子自信心，从而有利于孩子发挥出潜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56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订下家庭学习规矩，并且自始至终执行，以形成良好的学习习惯，作息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858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造和睦、祥和、稳定的家庭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平时家长应注意的问题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09480" y="30492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omic Sans MS"/>
                <a:ea typeface="幼圆"/>
              </a:rPr>
              <a:t>希望家长配合的工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5257800" y="4897440"/>
            <a:ext cx="3886200" cy="2347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56000" y="183456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树立高三第一的思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748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上关心、心理上关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247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理解支持学校的各项安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24280" y="252108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229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金钱有价爱无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2673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笑脸相迎少责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31305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了解动态多疏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45800" y="3967920"/>
            <a:ext cx="8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定位、调整期望值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3892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实际出发、平和心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48063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对待每一次成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54921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始终信任自己的孩子，多交流、少唠叨、不打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6253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庭和睦万事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1981080"/>
            <a:ext cx="914400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常和老师沟通，多了解孩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校学习和生活情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37680" y="366696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注意学生各学科的全面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45878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多了解了解明年高考的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30492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omic Sans MS"/>
                <a:ea typeface="幼圆"/>
              </a:rPr>
              <a:t>希望家长配合的工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060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希望家长收起子女的手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0720" y="2852640"/>
            <a:ext cx="82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周末回家多陪陪子女，多和子女聊聊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谈谈子女在校的生活和学习情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436572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周末没事不要替子女随意请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98100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高校招生情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1844640"/>
          <a:ext cx="7885080" cy="4205160"/>
        </p:xfrm>
        <a:graphic>
          <a:graphicData uri="http://schemas.openxmlformats.org/drawingml/2006/table">
            <a:tbl>
              <a:tblPr/>
              <a:tblGrid>
                <a:gridCol w="2178720"/>
                <a:gridCol w="570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批次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院校性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大学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本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般高校的本科院校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本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独立学院和民办高校的本科院校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本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科和高职院校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科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1619280" y="260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现在高考的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1187280" y="1989000"/>
            <a:ext cx="669636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为了我们高三（</a:t>
            </a:r>
            <a:r>
              <a:rPr b="0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1</a:t>
            </a:r>
            <a:r>
              <a:rPr b="0" lang="zh-CN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）班</a:t>
            </a:r>
            <a:endParaRPr b="0" lang="en-US" sz="2800" spc="1" strike="noStrike">
              <a:ln w="9360">
                <a:solidFill>
                  <a:srgbClr val="ff66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共同的目标</a:t>
            </a:r>
            <a:r>
              <a:rPr b="0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,</a:t>
            </a:r>
            <a:r>
              <a:rPr b="0" lang="zh-CN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努力吧</a:t>
            </a:r>
            <a:r>
              <a:rPr b="0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!</a:t>
            </a:r>
            <a:endParaRPr b="0" lang="en-US" sz="2800" spc="1" strike="noStrike">
              <a:ln w="9360">
                <a:solidFill>
                  <a:srgbClr val="ff66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533520" y="30492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衷心感谢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09480" y="3200400"/>
            <a:ext cx="381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438280" y="160020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亲临指导！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057400" y="4419720"/>
            <a:ext cx="67057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家庭幸福，事业顺利！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全国招生人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42640" y="1461960"/>
            <a:ext cx="80010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计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 实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计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7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 实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计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3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 实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8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计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 实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计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7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 实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计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 实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计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  实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3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等教育已经成为大众化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4360" y="162864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浙江省普通高校招生文科分数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2781360"/>
          <a:ext cx="8785440" cy="1944720"/>
        </p:xfrm>
        <a:graphic>
          <a:graphicData uri="http://schemas.openxmlformats.org/drawingml/2006/table">
            <a:tbl>
              <a:tblPr/>
              <a:tblGrid>
                <a:gridCol w="1728720"/>
                <a:gridCol w="1656000"/>
                <a:gridCol w="1655640"/>
                <a:gridCol w="1873440"/>
                <a:gridCol w="187164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档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627280" y="5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班级情况介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916280"/>
            <a:ext cx="74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性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科重点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班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男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女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7280" y="5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班级情况介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017720"/>
            <a:ext cx="712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班级特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989000"/>
            <a:ext cx="7128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从班级同学组成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生基础、学习习惯内部差异较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因此我们正努力做好隐性分层要求、因材施教工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6720" y="5257800"/>
            <a:ext cx="262728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137200"/>
            <a:ext cx="2268360" cy="17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817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委组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836640"/>
            <a:ext cx="921708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三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 班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       长     王    庆        副班长        徐程程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委员     潘春霞        纪律委员    章程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委员     包琦冰        保卫委员    章伟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委员               包洋伟                周赛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里委员                骆开明                章婷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劳动委员    俞    存         女生委员     朱玲燕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艺委员     邵亚萍        团支部书记  张叶芳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委员    汪   佩         宣传委员      赵剑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5:34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53:23Z</dcterms:modified>
  <cp:revision>32</cp:revision>
  <dc:subject>主题班会课件(分28大类): http://shop62905894.taobao.com</dc:subject>
  <dc:title>主题班会课件(分28大类): http://shop62905894.taobao.com</dc:title>
</cp:coreProperties>
</file>