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5CA-FC23-4173-8304-4DC4AA94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96E-DC02-4D45-BB9D-779089F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A60-DA32-4900-90A9-173DDE9D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E14-33C3-4087-A2F4-C06DD51C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73F4-2F2F-4452-9FD3-5B942BFB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7F2-4050-463A-BA67-F7F4EEAF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58F-5F42-4293-9D02-49FFEC3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5DD1-B8C5-44EC-95C1-F5E61D12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525-3F6D-4EE8-99DC-99CCC15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11F-8E91-4214-B638-1645604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F98-221E-44DA-8AB1-6228FFA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38C-50F9-4401-920D-4E4FA5E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CFB-C687-4982-955D-1E9F36B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EA28-9E80-40A8-A8C9-7AC9A22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6956-A2D9-4FF7-A517-681EF91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360-AD2B-441F-A6FF-CC176D9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2F49-580F-4BB2-9B98-C0ABF9FE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D8A-E7B0-4529-9187-0A917F0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181-097E-4FBB-BB0D-3DF8DEF8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834-1094-43B3-AAAB-5F831C3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C0B-89A7-465D-85EB-57E52E70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B7F-4C2B-4E33-9B3C-003F88A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1B7-50BB-4519-BE0C-416C4B1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077-D5C8-49DC-BD81-845491F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7BE-9F03-4302-86E5-3433293DB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36E-0CE8-4F01-8A76-786840092D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请检查桌面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本次月考成绩和高二两次成绩比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各位同学的理想中的大学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考试目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模拟录取通知书和模拟录取情况通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达二本线但没有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2B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1197000"/>
          <a:ext cx="8459280" cy="4902120"/>
        </p:xfrm>
        <a:graphic>
          <a:graphicData uri="http://schemas.openxmlformats.org/drawingml/2006/table">
            <a:tbl>
              <a:tblPr/>
              <a:tblGrid>
                <a:gridCol w="1051200"/>
                <a:gridCol w="1101240"/>
                <a:gridCol w="1051200"/>
                <a:gridCol w="1051200"/>
                <a:gridCol w="1051200"/>
                <a:gridCol w="1050840"/>
                <a:gridCol w="1051200"/>
                <a:gridCol w="105120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顾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建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正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加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籁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尤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达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2B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但没有达二本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50920" y="1557360"/>
          <a:ext cx="8569080" cy="4392720"/>
        </p:xfrm>
        <a:graphic>
          <a:graphicData uri="http://schemas.openxmlformats.org/drawingml/2006/table">
            <a:tbl>
              <a:tblPr/>
              <a:tblGrid>
                <a:gridCol w="1062360"/>
                <a:gridCol w="1113480"/>
                <a:gridCol w="1067760"/>
                <a:gridCol w="1058040"/>
                <a:gridCol w="1071360"/>
                <a:gridCol w="1067760"/>
                <a:gridCol w="1060920"/>
                <a:gridCol w="1067400"/>
              </a:tblGrid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物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化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志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3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3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汝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安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2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俊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月考进步比较明显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0920" y="620640"/>
          <a:ext cx="8642160" cy="5651640"/>
        </p:xfrm>
        <a:graphic>
          <a:graphicData uri="http://schemas.openxmlformats.org/drawingml/2006/table">
            <a:tbl>
              <a:tblPr/>
              <a:tblGrid>
                <a:gridCol w="576000"/>
                <a:gridCol w="1186200"/>
                <a:gridCol w="722160"/>
                <a:gridCol w="722160"/>
                <a:gridCol w="723960"/>
                <a:gridCol w="723960"/>
                <a:gridCol w="722160"/>
                <a:gridCol w="722520"/>
                <a:gridCol w="723960"/>
                <a:gridCol w="1095120"/>
                <a:gridCol w="723960"/>
              </a:tblGrid>
              <a:tr h="15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三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物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化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期末年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考年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进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赵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徐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刘思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2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倪志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2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衡东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2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顾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4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吉龙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颜丙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闻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次月考进步比较明显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68360" y="620640"/>
          <a:ext cx="8424720" cy="5761080"/>
        </p:xfrm>
        <a:graphic>
          <a:graphicData uri="http://schemas.openxmlformats.org/drawingml/2006/table">
            <a:tbl>
              <a:tblPr/>
              <a:tblGrid>
                <a:gridCol w="704880"/>
                <a:gridCol w="1011240"/>
                <a:gridCol w="704880"/>
                <a:gridCol w="706320"/>
                <a:gridCol w="704880"/>
                <a:gridCol w="704880"/>
                <a:gridCol w="704880"/>
                <a:gridCol w="704880"/>
                <a:gridCol w="704880"/>
                <a:gridCol w="1068120"/>
                <a:gridCol w="704880"/>
              </a:tblGrid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三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年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考年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楷体_GB2312"/>
                        </a:rPr>
                        <a:t>进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周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3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吴兆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蒯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蔡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葛加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高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张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赵建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华文行楷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900000" y="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文鼎CS长美黑"/>
              </a:rPr>
              <a:t>影响学习成绩的因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5280" y="429264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成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态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~40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+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习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5~4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能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~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76500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学习态度、信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信心是学习的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态度决定一切（努力程度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948360" y="5013360"/>
            <a:ext cx="2195640" cy="1843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50920" y="299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学习能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记忆能力、理解能力、分析能力、运用能力。（已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2205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习惯：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专注程度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决定成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最近我们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班“学习习惯”的培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课前准备及课上专注听讲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错题订正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认真作业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们家长要配合好，特别是陪读生和走读生。（多督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报考美术和体育必要性和可能性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要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首先应考虑让他先进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本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列之中。（给合本考试及外校情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次要增强他们的信心，特别是后期。（我班的几个艺体生成绩不但没降反而上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要轻视美术、体育专业，同样在社会上作用很大，前途一样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能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美术、体育专业可能性大多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文化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62651" dir="18517212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黑体"/>
              </a:rPr>
              <a:t>4</a:t>
            </a: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黑体"/>
              </a:rPr>
              <a:t>学生代表发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  <a:ea typeface="楷体_GB2312"/>
              </a:rPr>
              <a:t>赵婷同学</a:t>
            </a: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（总分：</a:t>
            </a: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370</a:t>
            </a: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分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年级第</a:t>
            </a: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40</a:t>
            </a: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名，一本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3402000"/>
            <a:ext cx="1100160" cy="34560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971640" y="836640"/>
            <a:ext cx="7777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近期高三年级的一些工作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需各位家长支持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尽快办理二代身份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报考类别拟改及体艺生动员和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进一步强化管理：（管理出成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全身校服（每人应该有两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住校生晨操。（吃早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间全体学生跑步。（很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许将手机、小灵通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P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带进学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0315"/>
                </a:solidFill>
                <a:latin typeface="Arial"/>
              </a:rPr>
              <a:t>四、努力培养学生勤学、吃苦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本次班级家长会议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各位任课教师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反馈月考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动员报考美术和体育（本科增长重要途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学生代表发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近期高三年级的一些工作（需各位家长支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给家长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建议：主要谈目标细化的重要性、及达成的可能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1763640" y="1033560"/>
            <a:ext cx="60962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latin typeface="方正姚体"/>
              </a:rPr>
              <a:t>给家长的</a:t>
            </a: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latin typeface="方正姚体"/>
              </a:rPr>
              <a:t>4</a:t>
            </a: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latin typeface="方正姚体"/>
              </a:rPr>
              <a:t>点建议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e4000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95280" y="1557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客观分析孩子的成绩，切勿对子女施加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过大的压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切勿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高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的小孩，应以鼓励为主，并对他们在家的行为加以监督。（特别是走读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3860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关注他们的理想目标，特别是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细化目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重要性及达成的可能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260280"/>
            <a:ext cx="81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注孩子的学习习惯、学习过程的了解，关注错题订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5425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陪读生和部分走读生作息时间和住校生一样（要盯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755640" y="0"/>
            <a:ext cx="7632720" cy="44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谢谢各位光临</a:t>
            </a:r>
            <a:endParaRPr b="1" lang="en-US" sz="4000" spc="1" strike="noStrike">
              <a:ln w="381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559" name=""/>
          <p:cNvSpPr/>
          <p:nvPr/>
        </p:nvSpPr>
        <p:spPr>
          <a:xfrm>
            <a:off x="3059280" y="4221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66ff33"/>
                </a:solidFill>
                <a:latin typeface="Arial"/>
                <a:ea typeface="华文隶书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5562720" y="337500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3059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556000" y="1844640"/>
            <a:ext cx="6192720" cy="1189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146240" cy="3601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95280" y="1125360"/>
            <a:ext cx="817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各位任课教师介绍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77800" y="2844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98920" y="105264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16360" y="1125360"/>
            <a:ext cx="32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484280"/>
            <a:ext cx="7086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各科教师的联系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8360" y="2349360"/>
            <a:ext cx="82897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小虎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5115372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   权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813321910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董   见老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 13770379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潘玉林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55005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f9fb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正飞老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5115308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15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725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3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72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556000" y="1844640"/>
            <a:ext cx="6192720" cy="1189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901520" cy="5977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050920" y="1341360"/>
            <a:ext cx="662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月考考试总结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班级整体状况分析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进步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别是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处于年级前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取本科人数第一（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其中文化本科数第二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本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）二本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艺一本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）体本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苏省淮安中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届高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6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班第一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考成绩分析及模拟录取情况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0920" y="1268280"/>
          <a:ext cx="8893080" cy="4767480"/>
        </p:xfrm>
        <a:graphic>
          <a:graphicData uri="http://schemas.openxmlformats.org/drawingml/2006/table">
            <a:tbl>
              <a:tblPr/>
              <a:tblGrid>
                <a:gridCol w="649080"/>
                <a:gridCol w="1293840"/>
                <a:gridCol w="971640"/>
                <a:gridCol w="969840"/>
                <a:gridCol w="970200"/>
                <a:gridCol w="971280"/>
                <a:gridCol w="971640"/>
                <a:gridCol w="971640"/>
                <a:gridCol w="1123920"/>
              </a:tblGrid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模拟录取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赵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一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刘思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一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张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二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周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二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吴兆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宋体"/>
                        </a:rPr>
                        <a:t>体育一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苏省淮安中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届高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6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班第一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考成绩分析及模拟录取情况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24000" y="1341360"/>
          <a:ext cx="8280000" cy="4679640"/>
        </p:xfrm>
        <a:graphic>
          <a:graphicData uri="http://schemas.openxmlformats.org/drawingml/2006/table">
            <a:tbl>
              <a:tblPr/>
              <a:tblGrid>
                <a:gridCol w="771120"/>
                <a:gridCol w="1100880"/>
                <a:gridCol w="914760"/>
                <a:gridCol w="918000"/>
                <a:gridCol w="914760"/>
                <a:gridCol w="914760"/>
                <a:gridCol w="916200"/>
                <a:gridCol w="914760"/>
                <a:gridCol w="9147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模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录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李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倪志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金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陈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张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徐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潘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吴风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宋体"/>
                          <a:ea typeface="黑体"/>
                        </a:rPr>
                        <a:t>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苏省淮安中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届高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6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第一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考成绩分析及模拟录取情况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1413000"/>
          <a:ext cx="8819640" cy="4752360"/>
        </p:xfrm>
        <a:graphic>
          <a:graphicData uri="http://schemas.openxmlformats.org/drawingml/2006/table">
            <a:tbl>
              <a:tblPr/>
              <a:tblGrid>
                <a:gridCol w="843120"/>
                <a:gridCol w="1204920"/>
                <a:gridCol w="805680"/>
                <a:gridCol w="804960"/>
                <a:gridCol w="788760"/>
                <a:gridCol w="889560"/>
                <a:gridCol w="891720"/>
                <a:gridCol w="889560"/>
                <a:gridCol w="170136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化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模拟录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周俊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艺术一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衡东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艺术一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胡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艺术一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王汝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艺术一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赵建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体育二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程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艺术一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7:30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9:34Z</dcterms:modified>
  <cp:revision>189</cp:revision>
  <dc:subject>主题班会课件(分28大类): http://shop62905894.taobao.com</dc:subject>
  <dc:title>主题班会课件(分28大类): http://shop62905894.taobao.com</dc:title>
</cp:coreProperties>
</file>