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25E-EB3F-46B4-8360-CA38F2E5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8D0-FEC2-4839-B715-711F9D57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B74-32DB-4800-8905-5BE9CFE7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5B7-D5CA-4874-A7DE-6E634180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2E3-BFFC-4F10-AFBC-97A04C9D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E65-EEAF-4A52-911E-14217811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02F-7D8B-4532-B14E-FEA773B7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36E-FE08-40DF-A532-4BC5A4A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F2F-AD5B-49B0-9F6D-10DBCE46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CD7-A7F0-4A29-9371-25567AAD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5C9-4E4E-410D-B54E-4E56608E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82C-53EB-47B7-8423-40618E3E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3959-F15E-4E9E-9609-465662B6C2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caiw.com/../images.asp?url=http://py.sucaiw.com/%B6%AF%BB%AD%C0%E0/&#1211;%B0&#15791;%BB%AD/%CE%C4%D7%D6/%D6%D0%CE%C4%D7%D6/%BB%B6&#1261;//&amp;pic=gif&amp;num=015&amp;ext=.gif&amp;picall=35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点击放大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60280"/>
            <a:ext cx="8064360" cy="3382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662472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6668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60213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恳请家长能共同协商，寻求解决问题的最佳方法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765000"/>
            <a:ext cx="80643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两极分化。部分学生处在全年级的中稍偏下层，这些学生可分为两种情况：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勤奋但学法没有转变过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不尽力，纪律差，劳动观念淡薄，没有发掘出潜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偏科。女生偏文，男生偏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少数学生只关心学习，不懂得如何做人，如何尊重他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个别学生思想开始成熟，想的东西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24640" y="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四、存在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470040" y="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学习成绩上的一点建议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0488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科学的分析子女的成绩档案。不仅与其他同学作比较，而更重要的是是着眼于自身的比较。比较前后几次考试，看是否退步，退步多少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331920"/>
            <a:ext cx="85694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需要家长配合的地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学校不提倡学生周末留校，若有特殊情况要留校者，请家长与班主任联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不要让孩子佩带首饰和手机，以免影响他们的学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抓好子女在家的行为习惯。如良好的休息、科学的安排学习、适量的家务劳动（劳动是教育人的较好方式，只有劳动，他才懂得来之不易，懂得珍惜）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9332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五、家庭教育经验介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251352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孩子们的性格和才能，归根结蒂是受到家庭、父母，特别是母亲的影响最深。孩子长大成人以后，社会成了锻炼他们的环境。学校对孩子的发展也起着重要的作用。但是，在一个人的身上留下不可磨灭的印记的却是家庭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                  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摘自一位教育家的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1224000" cy="94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172360" y="3935520"/>
            <a:ext cx="1152720" cy="963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740720" y="4995720"/>
            <a:ext cx="1008000" cy="787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020000" y="5578560"/>
            <a:ext cx="936720" cy="74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084720" y="5950080"/>
            <a:ext cx="792360" cy="65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148360" y="6093000"/>
            <a:ext cx="718920" cy="537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4067280" y="6093000"/>
            <a:ext cx="649080" cy="545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843280" y="5891040"/>
            <a:ext cx="826920" cy="671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1692360" y="5472000"/>
            <a:ext cx="866520" cy="717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755640" y="4991040"/>
            <a:ext cx="954000" cy="79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019560" cy="609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4920" y="228600"/>
            <a:ext cx="2009160" cy="632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欢迎家长莅临指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762120"/>
            <a:ext cx="76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高一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）家长会主要内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81200" y="1628640"/>
            <a:ext cx="241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学校领导讲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开学以来我班学生基本情况汇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中段考成绩汇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存在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家庭教育经验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相互交谈切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890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、开学以来我班学生基本情况汇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573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德育方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45086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学习方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9079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班风良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3716280"/>
            <a:ext cx="405000" cy="1617840"/>
          </a:xfrm>
          <a:custGeom>
            <a:avLst/>
            <a:gdLst>
              <a:gd name="textAreaLeft" fmla="*/ 258840 w 405000"/>
              <a:gd name="textAreaRight" fmla="*/ 405360 w 405000"/>
              <a:gd name="textAreaTop" fmla="*/ 42120 h 1617840"/>
              <a:gd name="textAreaBottom" fmla="*/ 1575720 h 161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3357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绝大部分同学都热爱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066680"/>
            <a:ext cx="228600" cy="1981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70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思想纯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01760" y="24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团结互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4005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配合各科任老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58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能够按时完成老师布置的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5229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自修纪律有了很大进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1522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三、中段考成绩汇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我班各科的平均分如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1989000"/>
          <a:ext cx="8856720" cy="2232000"/>
        </p:xfrm>
        <a:graphic>
          <a:graphicData uri="http://schemas.openxmlformats.org/drawingml/2006/table">
            <a:tbl>
              <a:tblPr/>
              <a:tblGrid>
                <a:gridCol w="790560"/>
                <a:gridCol w="792000"/>
                <a:gridCol w="865440"/>
                <a:gridCol w="901800"/>
                <a:gridCol w="755640"/>
                <a:gridCol w="934920"/>
                <a:gridCol w="936720"/>
                <a:gridCol w="792000"/>
                <a:gridCol w="1224000"/>
                <a:gridCol w="863640"/>
              </a:tblGrid>
              <a:tr h="118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政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历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物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化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科总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八科总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4.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68720" y="7128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名次段比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836640"/>
          <a:ext cx="8713800" cy="5616720"/>
        </p:xfrm>
        <a:graphic>
          <a:graphicData uri="http://schemas.openxmlformats.org/drawingml/2006/table">
            <a:tbl>
              <a:tblPr/>
              <a:tblGrid>
                <a:gridCol w="968400"/>
                <a:gridCol w="968400"/>
                <a:gridCol w="981000"/>
                <a:gridCol w="955440"/>
                <a:gridCol w="966960"/>
                <a:gridCol w="968400"/>
                <a:gridCol w="968400"/>
                <a:gridCol w="968400"/>
                <a:gridCol w="968400"/>
              </a:tblGrid>
              <a:tr h="165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一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上期末与本期中名次段排名对比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全年级共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1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期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期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期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期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期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期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期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期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级排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1890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进入年级前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名的同学是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26920" y="1397160"/>
          <a:ext cx="7058160" cy="4579920"/>
        </p:xfrm>
        <a:graphic>
          <a:graphicData uri="http://schemas.openxmlformats.org/drawingml/2006/table">
            <a:tbl>
              <a:tblPr/>
              <a:tblGrid>
                <a:gridCol w="1560960"/>
                <a:gridCol w="1019520"/>
                <a:gridCol w="932040"/>
                <a:gridCol w="216000"/>
                <a:gridCol w="1322640"/>
                <a:gridCol w="1076040"/>
                <a:gridCol w="93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八科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级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八科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级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刘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何瑞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何汉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叶健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关振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梁境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麦梓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游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陈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郑慧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罗铭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傅绮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蔡颖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彭耀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28560" y="404640"/>
            <a:ext cx="12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进步最快的同学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1280" y="1628640"/>
          <a:ext cx="7343640" cy="4119480"/>
        </p:xfrm>
        <a:graphic>
          <a:graphicData uri="http://schemas.openxmlformats.org/drawingml/2006/table">
            <a:tbl>
              <a:tblPr/>
              <a:tblGrid>
                <a:gridCol w="1423800"/>
                <a:gridCol w="1015920"/>
                <a:gridCol w="1303560"/>
                <a:gridCol w="938160"/>
                <a:gridCol w="1655640"/>
                <a:gridCol w="100656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叶健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蔡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欧阳俊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梁敏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赵嘉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黄俊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邱月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莫秀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谭旺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何汉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游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邹荣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蔡颖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钟笑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罗旺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崔晓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24000" y="476280"/>
            <a:ext cx="723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此外，在这次中段考中取得进步的同学还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坤愉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马淡梅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麦彩意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袁均智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李湛强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何瑞文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陈杰豪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麦    冬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邝丽珊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曹嘉雯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李咏华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邓广强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张秀兴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曾丽玉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傅绮聪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刘    倩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吴群英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黎洁妍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彭耀婷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刘杰文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梁境泉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麦梓龙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刘艳珊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罗铭初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郑慧玲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  陈    珑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  孙韵珊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5:15:5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20:56Z</dcterms:modified>
  <cp:revision>19</cp:revision>
  <dc:subject>主题班会课件(分28大类): http://shop62905894.taobao.com</dc:subject>
  <dc:title>主题班会课件(分28大类): http://shop62905894.taobao.com</dc:title>
</cp:coreProperties>
</file>