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14.jpeg" ContentType="image/jpeg"/>
  <Override PartName="/ppt/media/image8.png" ContentType="image/png"/>
  <Override PartName="/ppt/media/image5.gif" ContentType="image/gif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992-9569-40A5-8BDB-BA01FE29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A65-AFD5-4E4C-9A68-8F5E44FA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140-7A27-415F-8746-645C0E64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702-BD72-4AF4-8E8A-128060AF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4640-1AD1-442F-90B5-9A135C9A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E641-6BED-45E5-A247-1ECE4011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D8F7-1726-48B6-ADAB-B73205B6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18EC-CA18-4B72-8B91-4F8D149E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EFCC-E3CB-4436-BC15-B10FB0C7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75B7-F1BA-4E6B-812E-DD158ABF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7B51-D2CF-4CBF-9B55-8AD462FA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1AD-21E2-4149-ACD6-DF0609A4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4D9F-B4F3-4E71-91C6-F4C5CA0E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8C6E-B9C5-412D-B56F-DDF4585D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7904-FBFE-492C-B5B2-EF52258E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94E5-59F8-4B0E-962C-0D591239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3EB2-9FC8-4BB0-805B-BC11EE94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7CA4D-B91E-4576-A8CF-42A85946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1B00-97E6-49BF-8245-E85511DC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599BF-4F3F-46AA-9514-D072A51C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E6B48-7F31-4FE5-9A9D-32F98F96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8697-E821-4B98-9F5B-A9FA1411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B8D-3912-406E-B3F5-AC8B4A22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10B0-28B4-436F-B11C-ACF59425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285A-7507-4F01-914B-D4DEA8AF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3C1B4-4C66-40A4-AE79-55C27EB9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21F7D-121B-4717-ACBB-8E7F6B21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7AA9A-0D5F-4670-A950-3F23FC50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8F04D-945A-4B97-A510-8C0FC213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118D-0B4E-4955-B3CF-46598096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41258-7585-4041-8BC2-8D8B96B9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E0D43-986F-4EDF-A78F-59945126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7FC54-3151-4C17-99E2-A7A7261C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826-AE88-4FCF-94B7-0D7D6AB1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81CA7-14DA-480F-8940-03404AFF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4E773-C31A-464E-B8CA-E2507C68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F0C59-891F-4F84-AC8E-DF489CF2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92418-FB3F-43F8-942D-BBA6D846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DFD63-DD82-45A4-8E0D-8C6AC935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DBFA7-5979-464A-8002-BF8AAB96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5FDDD-BD4D-4032-8D9B-0E474449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FD82E-4DC4-4E7B-8B6B-53D4323F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4E08E-87AA-4463-BB19-FEF43A12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5F6F2-8275-4F4B-AAE3-708265A8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642-CFF8-40C3-92CF-00AEB86C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90830-38FA-4ECA-B889-0CD1EE69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F3115-1100-4D09-BE3E-52748C18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03206-0C58-42CA-8B9C-511690E4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51438-C82E-4AF9-B0B9-30FA241B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A6C45-EB03-41B5-AFBE-20F39037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B9CB3-9CEB-48BC-850D-060F0317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8DCAD-0A16-4410-9D71-2855C3FD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82512-4855-4379-88D0-45CFD60B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49E3B-9F5F-48E5-8C83-A82DE66F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09668-B4BE-41DE-8CD7-3959DE3B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29D-A915-4F67-B93D-310B3DE0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F588F-5319-4F0B-A9F5-68DE45E0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0E34C-FFA5-45F2-8360-0D2F2033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4539C-1319-4583-9248-AFCAE8CC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1DAAC-A508-489D-80EE-74572EB1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8AC2D-0084-44CB-90CE-50D85034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5D9BA-285F-4E6D-95A9-8A30A199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B7071-934A-4047-81A3-A55D1E70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0D83F-F447-42AF-8FC5-442A5FFE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61656-BEDB-491C-8FCD-8EF7AABC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CCA23-5562-4C17-BC03-DF8E8048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465-2E53-418F-A11E-EC1D7107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DABCD-E8E2-407E-8B43-7B5CD3DD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5B52E-0DBB-481A-A26A-A5BCB9D3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6DD1F-18B8-432D-8148-F8A26620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8A1-5C76-4906-859E-B95C2230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90C2-BA7A-4BB8-8374-E0204862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5418-72C1-41B4-B9CB-24A464CFAD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9E30-CA2A-4F33-B63F-09FAB81272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0C31-7BCA-48CE-8C28-C1AE2CB168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D4DB-9F5C-4161-AD10-544FAEE026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11B1-FCE7-490E-B637-FA2C733714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CC4A-BC7F-4766-8100-2BD25C04DC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4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457200" y="1600200"/>
            <a:ext cx="8534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欢迎、感谢各位家长光临！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-181080" y="0"/>
            <a:ext cx="2268720" cy="190008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1968840" y="3500280"/>
            <a:ext cx="23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双 向 交 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13560" y="4437000"/>
            <a:ext cx="23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沟 通 无 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4"/>
          <a:stretch/>
        </p:blipFill>
        <p:spPr>
          <a:xfrm>
            <a:off x="7380360" y="4508640"/>
            <a:ext cx="1763640" cy="216036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57200" y="609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确定学习能力的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8245440" y="6373800"/>
            <a:ext cx="898560" cy="4842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838080" y="178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：孩子思维方式，逻辑思维，形象思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254484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：孩子的现在的文理科成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38080" y="3306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：孩子文理科的投入时间与成绩之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19320" y="46483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了解、参与、建议，而非家长包办，尊重孩子是前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380880" y="16002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9900cc"/>
                </a:solidFill>
                <a:latin typeface="宋体"/>
              </a:rPr>
              <a:t>请您理解我的工作，我的愿望和您一样，希望孩子成才，考上好的大学。无论批评、表扬、奖励还是惩罚都是对您孩子负责，所以请您支持我作出的决定，不要在孩子面前否定我的政策措施；您有不理解的地方我们可以交流，但请您尊重我的决定。因为我相信您是一位明智的家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066680" y="762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请您为我的工作搭桥而不是拆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0" y="6373800"/>
            <a:ext cx="898560" cy="4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04920" y="11304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孩子们现在有很多自己的想法，他们渴望自己成熟实际却很幼稚，有时候他们不能理解老师的要求，只愿意得到表扬奖励，错了也不肯接受批评惩罚，这时候您应该站在那个立场上呢？是帮助孩子挑一堆老师的理，还是帮孩子正确认识看待老师的批评惩罚呢？窃以为您应该是老师决策的拥护者，解开孩子的心结。因为我们所有老师都是您的拥护者，我们教育您的孩子孝敬父母，尊老爱幼。相信这样才能形成教育的合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905120" y="29196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请您为我的教育工作解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6373800"/>
            <a:ext cx="898560" cy="4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457200" y="10666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行为习惯某种程度上决定孩子的学习习惯，习惯就决定孩子的命运。入学以来，我一直着力于培养孩子的行为、学习习惯。比如：按时到校，仪表，自主学习，不说脏话，自主学习，维护集体利益，友爱同学，礼貌待人，错题整理，归纳整理，互帮互助，娱乐有节制，坐得住，静下心等等，事实上，我在学校约束五天，回家一天两天完全的放纵，五加二就等于零了，这样我和您的孩子就都做了很多无用功，不利于您的孩子养成良好习惯，成就辉煌的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80880" y="3808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请您延续我对孩子行为、学习习惯的培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0" y="6373800"/>
            <a:ext cx="898560" cy="4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457200" y="1066680"/>
            <a:ext cx="83059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、严格请假制度，必须家长请假，但请您不要随便给孩子请假，鼓励孩子尽量克服困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、不要给孩子配备手机，坚决不许带到学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、尽量多陪护在孩子身边，关心支持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、督促孩子周末、晚自习后学习，检查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、适当关心孩子成绩，会成为孩子学习动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、关注孩子心理，关注孩子消费、交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、尽一切人力、物力帮助孩子跟上、超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0880" y="3808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请您继续配合做好以下具体工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6373800"/>
            <a:ext cx="898560" cy="4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请您留下对我工作的建议！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请您留下从孩子那获得的有关学校、老师、同学的相关信息！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0" y="2219400"/>
            <a:ext cx="5334120" cy="296532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 txBox="1"/>
          <p:nvPr/>
        </p:nvSpPr>
        <p:spPr>
          <a:xfrm>
            <a:off x="576360" y="4795920"/>
            <a:ext cx="7956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一切都是为了孩子！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 rot="234000">
            <a:off x="1143000" y="533160"/>
            <a:ext cx="4726080" cy="23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样的心情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6" name=""/>
          <p:cNvSpPr txBox="1"/>
          <p:nvPr/>
        </p:nvSpPr>
        <p:spPr>
          <a:xfrm rot="288600">
            <a:off x="3048120" y="2437920"/>
            <a:ext cx="4878360" cy="23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一样的期待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7" name=""/>
          <p:cNvSpPr/>
          <p:nvPr/>
        </p:nvSpPr>
        <p:spPr>
          <a:xfrm>
            <a:off x="2133720" y="5181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a0000"/>
                </a:solidFill>
                <a:latin typeface="Arial"/>
              </a:rPr>
              <a:t>   ——</a:t>
            </a:r>
            <a:r>
              <a:rPr b="1" lang="zh-CN" sz="3600" spc="-1" strike="noStrike">
                <a:solidFill>
                  <a:srgbClr val="da0000"/>
                </a:solidFill>
                <a:latin typeface="Arial"/>
              </a:rPr>
              <a:t>高一（</a:t>
            </a:r>
            <a:r>
              <a:rPr b="1" lang="zh-CN" sz="3600" spc="-1" strike="noStrike">
                <a:solidFill>
                  <a:srgbClr val="da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da0000"/>
                </a:solidFill>
                <a:latin typeface="Arial"/>
              </a:rPr>
              <a:t>）班家长座谈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>
            <a:hlinkClick r:id="rId2" action="ppaction://hlinksldjump"/>
          </p:cNvPr>
          <p:cNvSpPr/>
          <p:nvPr/>
        </p:nvSpPr>
        <p:spPr>
          <a:xfrm>
            <a:off x="838080" y="2438280"/>
            <a:ext cx="78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宋体"/>
              </a:rPr>
              <a:t>一、请您了解近半年孩子的成长历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914400" y="47242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宋体"/>
              </a:rPr>
              <a:t>三、请您理解、支持我的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38080" y="3581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二、选择文理科的几点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838080" y="7621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待与您沟通的三项内容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533520" y="914400"/>
            <a:ext cx="4800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1</a:t>
            </a:r>
            <a:r>
              <a:rPr b="1" lang="zh-CN" sz="60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、成绩分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219320" y="2133720"/>
            <a:ext cx="287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：期中表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219320" y="3124080"/>
            <a:ext cx="3504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：总体成绩分析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219320" y="4114800"/>
            <a:ext cx="287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C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：存在问题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8245440" y="6373800"/>
            <a:ext cx="898560" cy="4842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533520" y="380880"/>
            <a:ext cx="60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Verdana"/>
                <a:ea typeface="华文彩云"/>
              </a:rPr>
              <a:t>年级前</a:t>
            </a:r>
            <a:r>
              <a:rPr b="1" lang="zh-CN" sz="4400" spc="-1" strike="noStrike">
                <a:solidFill>
                  <a:srgbClr val="00ff00"/>
                </a:solidFill>
                <a:latin typeface="Verdana"/>
                <a:ea typeface="华文彩云"/>
              </a:rPr>
              <a:t>200</a:t>
            </a:r>
            <a:r>
              <a:rPr b="1" lang="zh-CN" sz="4400" spc="-1" strike="noStrike">
                <a:solidFill>
                  <a:srgbClr val="00ff00"/>
                </a:solidFill>
                <a:latin typeface="Verdana"/>
                <a:ea typeface="华文彩云"/>
              </a:rPr>
              <a:t>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Verdana"/>
                <a:ea typeface="华文彩云"/>
              </a:rPr>
              <a:t> ——</a:t>
            </a:r>
            <a:r>
              <a:rPr b="1" lang="zh-CN" sz="4400" spc="-1" strike="noStrike">
                <a:solidFill>
                  <a:srgbClr val="00ff00"/>
                </a:solidFill>
                <a:latin typeface="Verdana"/>
                <a:ea typeface="华文彩云"/>
              </a:rPr>
              <a:t>成绩优异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09480" y="3962520"/>
            <a:ext cx="541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Verdana"/>
                <a:ea typeface="华文隶书"/>
              </a:rPr>
              <a:t>年级名次进步</a:t>
            </a:r>
            <a:r>
              <a:rPr b="1" lang="zh-CN" sz="4400" spc="-1" strike="noStrike">
                <a:solidFill>
                  <a:srgbClr val="0000cc"/>
                </a:solidFill>
                <a:latin typeface="Verdana"/>
                <a:ea typeface="华文隶书"/>
              </a:rPr>
              <a:t>50</a:t>
            </a:r>
            <a:r>
              <a:rPr b="1" lang="zh-CN" sz="4400" spc="-1" strike="noStrike">
                <a:solidFill>
                  <a:srgbClr val="0000cc"/>
                </a:solidFill>
                <a:latin typeface="Verdana"/>
                <a:ea typeface="华文隶书"/>
              </a:rPr>
              <a:t>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Verdana"/>
                <a:ea typeface="华文隶书"/>
              </a:rPr>
              <a:t>     ——</a:t>
            </a:r>
            <a:r>
              <a:rPr b="1" lang="zh-CN" sz="4400" spc="-1" strike="noStrike">
                <a:solidFill>
                  <a:srgbClr val="0000cc"/>
                </a:solidFill>
                <a:latin typeface="Verdana"/>
                <a:ea typeface="华文隶书"/>
              </a:rPr>
              <a:t>成绩进步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2057400"/>
            <a:ext cx="533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各学科最高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       ——</a:t>
            </a:r>
            <a:r>
              <a:rPr b="1" lang="zh-CN" sz="44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单科优胜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5440" y="6373800"/>
            <a:ext cx="898560" cy="4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 txBox="1"/>
          <p:nvPr/>
        </p:nvSpPr>
        <p:spPr>
          <a:xfrm>
            <a:off x="2362320" y="228600"/>
            <a:ext cx="3581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latin typeface="黑体"/>
              </a:rPr>
              <a:t>总体成绩</a:t>
            </a:r>
            <a:endParaRPr b="1" lang="en-US" sz="4000" spc="1" strike="noStrike">
              <a:ln w="9360">
                <a:solidFill>
                  <a:srgbClr val="00ffff"/>
                </a:solidFill>
                <a:miter/>
              </a:ln>
              <a:solidFill>
                <a:srgbClr val="000080"/>
              </a:solidFill>
              <a:latin typeface="黑体"/>
              <a:ea typeface="黑体"/>
            </a:endParaRPr>
          </a:p>
        </p:txBody>
      </p:sp>
      <p:sp>
        <p:nvSpPr>
          <p:cNvPr id="697" name=""/>
          <p:cNvSpPr/>
          <p:nvPr/>
        </p:nvSpPr>
        <p:spPr>
          <a:xfrm>
            <a:off x="304920" y="1371600"/>
            <a:ext cx="5638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数学投入最多成绩较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语文、英语精力投入较少，最有发展潜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物理、化学两极分化严重，听课效率不高，用功不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史、地、政多为突击，地理思维要求高，稍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7772400" y="6373800"/>
            <a:ext cx="898560" cy="4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228600" y="380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作业不按时写，特别周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04920" y="9907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上课犯困、走神，听课效率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04920" y="2362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学习态度不端正，怨天尤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67652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时间观念差，犯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 rot="5400000">
            <a:off x="6476760" y="4114440"/>
            <a:ext cx="2133720" cy="152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楷体_GB2312"/>
              </a:rPr>
              <a:t>问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楷体_GB2312"/>
              </a:rPr>
              <a:t>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2"/>
          <a:stretch/>
        </p:blipFill>
        <p:spPr>
          <a:xfrm>
            <a:off x="8245440" y="6373800"/>
            <a:ext cx="898560" cy="484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304920" y="3048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熟悉环境，不服教育，分心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5335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b8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b8"/>
                </a:solidFill>
                <a:latin typeface="Arial"/>
              </a:rPr>
              <a:t>、其他各方面表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>
            <a:hlinkClick r:id="rId2" action="ppaction://hlinksldjump"/>
          </p:cNvPr>
          <p:cNvSpPr/>
          <p:nvPr/>
        </p:nvSpPr>
        <p:spPr>
          <a:xfrm>
            <a:off x="533520" y="19051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a0000"/>
                </a:solidFill>
                <a:latin typeface="Arial"/>
              </a:rPr>
              <a:t>数学竞赛——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郁昊 张悦</a:t>
            </a:r>
            <a:r>
              <a:rPr b="1" lang="zh-CN" sz="3200" spc="-1" strike="noStrike">
                <a:solidFill>
                  <a:srgbClr val="da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>
            <a:hlinkClick r:id="rId3" action="ppaction://hlinksldjump"/>
          </p:cNvPr>
          <p:cNvSpPr/>
          <p:nvPr/>
        </p:nvSpPr>
        <p:spPr>
          <a:xfrm>
            <a:off x="1523880" y="2743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a0000"/>
                </a:solidFill>
                <a:latin typeface="Arial"/>
              </a:rPr>
              <a:t>水火箭比赛——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靳一明</a:t>
            </a:r>
            <a:r>
              <a:rPr b="1" lang="zh-CN" sz="3200" spc="-1" strike="noStrike">
                <a:solidFill>
                  <a:srgbClr val="da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>
            <a:hlinkClick r:id="rId4" action="ppaction://hlinksldjump"/>
          </p:cNvPr>
          <p:cNvSpPr/>
          <p:nvPr/>
        </p:nvSpPr>
        <p:spPr>
          <a:xfrm>
            <a:off x="2209680" y="37339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a0000"/>
                </a:solidFill>
                <a:latin typeface="Arial"/>
              </a:rPr>
              <a:t>鸡蛋打靶比赛——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马慧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rId5" action="ppaction://hlinksldjump"/>
          </p:cNvPr>
          <p:cNvSpPr/>
          <p:nvPr/>
        </p:nvSpPr>
        <p:spPr>
          <a:xfrm>
            <a:off x="3124080" y="457200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a0000"/>
                </a:solidFill>
                <a:latin typeface="Arial"/>
              </a:rPr>
              <a:t>个人违纪情况——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宋爽 王雨洁  姜曦  姚旭  靳一明  张佳兴  张秉旭  王雨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6"/>
          <a:stretch/>
        </p:blipFill>
        <p:spPr>
          <a:xfrm>
            <a:off x="8245440" y="6373800"/>
            <a:ext cx="898560" cy="4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457200" y="6094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选择文理科的依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8245440" y="6373800"/>
            <a:ext cx="898560" cy="4842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838080" y="15238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：孩子的兴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838080" y="2286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：孩子的学习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838080" y="3048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：孩子未来的职业期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38080" y="38098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：家族亲朋实业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34:10Z</dcterms:modified>
  <cp:revision>73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