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597-FBA0-4B5F-8893-D96B2754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4E0-1C40-458A-B431-80FE6953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13B-F37E-4B61-8229-E47CB5AB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8B6-48F1-4E73-B928-3C5FE4C4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2E5-60A6-4AA2-BD95-129119AD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32D-4FB5-43B9-9EDE-0FCB8DF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B51-1773-4318-B31C-9F6CECE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723-580B-4246-8039-89EF6C5E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89F-CED9-4500-92AA-7AE9563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FAF-D2E9-4457-BA38-B9A984A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1CC-A7A9-4003-8A59-57CD8CA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47D-AADC-4D0D-AF15-50C5F05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EA3-FCA5-42D6-80D2-643124A6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294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心子女的成长从沟通与关怀开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819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d60093"/>
                </a:solidFill>
                <a:latin typeface="隶书"/>
                <a:ea typeface="隶书"/>
              </a:rPr>
              <a:t>高一</a:t>
            </a:r>
            <a:r>
              <a:rPr b="1" lang="zh-CN" sz="9600" spc="-1" strike="noStrike">
                <a:solidFill>
                  <a:srgbClr val="d60093"/>
                </a:solidFill>
                <a:latin typeface="隶书"/>
                <a:ea typeface="隶书"/>
              </a:rPr>
              <a:t>6</a:t>
            </a:r>
            <a:r>
              <a:rPr b="1" lang="zh-CN" sz="9600" spc="-1" strike="noStrike">
                <a:solidFill>
                  <a:srgbClr val="d60093"/>
                </a:solidFill>
                <a:latin typeface="隶书"/>
                <a:ea typeface="隶书"/>
              </a:rPr>
              <a:t>班家长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24000" y="3284640"/>
            <a:ext cx="7772040" cy="2819160"/>
            <a:chOff x="324000" y="3284640"/>
            <a:chExt cx="7772040" cy="2819160"/>
          </a:xfrm>
        </p:grpSpPr>
        <p:grpSp>
          <p:nvGrpSpPr>
            <p:cNvPr id="135" name=""/>
            <p:cNvGrpSpPr/>
            <p:nvPr/>
          </p:nvGrpSpPr>
          <p:grpSpPr>
            <a:xfrm>
              <a:off x="329760" y="3288960"/>
              <a:ext cx="7759080" cy="2809800"/>
              <a:chOff x="329760" y="3288960"/>
              <a:chExt cx="7759080" cy="28098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29760" y="3288960"/>
                <a:ext cx="7759080" cy="789120"/>
                <a:chOff x="329760" y="3288960"/>
                <a:chExt cx="7759080" cy="78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15800" y="3288960"/>
                  <a:ext cx="7587000" cy="78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隶书"/>
                      <a:ea typeface="隶书"/>
                    </a:rPr>
                    <a:t>高一六班期中考试单科状元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29760" y="3288960"/>
                  <a:ext cx="7759080" cy="78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29760" y="4078080"/>
                <a:ext cx="1292040" cy="673200"/>
                <a:chOff x="329760" y="4078080"/>
                <a:chExt cx="1292040" cy="673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5800" y="407808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语文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9760" y="407808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622160" y="4078080"/>
                <a:ext cx="1292400" cy="673200"/>
                <a:chOff x="1622160" y="4078080"/>
                <a:chExt cx="1292400" cy="673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708200" y="407808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梁慧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22160" y="4078080"/>
                  <a:ext cx="129240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14920" y="4078080"/>
                <a:ext cx="1292040" cy="673200"/>
                <a:chOff x="2914920" y="4078080"/>
                <a:chExt cx="1292040" cy="673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000600" y="407808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物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14920" y="407808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207680" y="4078080"/>
                <a:ext cx="1292040" cy="673200"/>
                <a:chOff x="4207680" y="4078080"/>
                <a:chExt cx="1292040" cy="673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293360" y="407808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龙美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07680" y="407808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00080" y="4078080"/>
                <a:ext cx="1294200" cy="673200"/>
                <a:chOff x="5500080" y="4078080"/>
                <a:chExt cx="1294200" cy="673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86120" y="4078080"/>
                  <a:ext cx="11217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政治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00080" y="4078080"/>
                  <a:ext cx="129420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795000" y="4078080"/>
                <a:ext cx="1293840" cy="673200"/>
                <a:chOff x="6795000" y="4078080"/>
                <a:chExt cx="1293840" cy="673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880680" y="4078080"/>
                  <a:ext cx="112212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龙美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95000" y="4078080"/>
                  <a:ext cx="12938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29760" y="4751640"/>
                <a:ext cx="1292040" cy="673200"/>
                <a:chOff x="329760" y="4751640"/>
                <a:chExt cx="1292040" cy="673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15800" y="475164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数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9760" y="475164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622160" y="4751640"/>
                <a:ext cx="1292400" cy="673200"/>
                <a:chOff x="1622160" y="4751640"/>
                <a:chExt cx="1292400" cy="673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08200" y="475164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郑隆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622160" y="4751640"/>
                  <a:ext cx="129240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914920" y="4751640"/>
                <a:ext cx="1292040" cy="673200"/>
                <a:chOff x="2914920" y="4751640"/>
                <a:chExt cx="1292040" cy="673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00600" y="475164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化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14920" y="475164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207680" y="4751640"/>
                <a:ext cx="1292040" cy="673200"/>
                <a:chOff x="4207680" y="4751640"/>
                <a:chExt cx="1292040" cy="673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293360" y="4751640"/>
                  <a:ext cx="11199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冯锦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207680" y="4751640"/>
                  <a:ext cx="12920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500080" y="4751640"/>
                <a:ext cx="1294200" cy="673200"/>
                <a:chOff x="5500080" y="4751640"/>
                <a:chExt cx="1294200" cy="673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586120" y="4751640"/>
                  <a:ext cx="11217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历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00080" y="4751640"/>
                  <a:ext cx="129420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795000" y="4751640"/>
                <a:ext cx="1293840" cy="673200"/>
                <a:chOff x="6795000" y="4751640"/>
                <a:chExt cx="1293840" cy="673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80680" y="4751640"/>
                  <a:ext cx="112212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杨文贤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795000" y="4751640"/>
                  <a:ext cx="1293840" cy="67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9760" y="5425200"/>
                <a:ext cx="1292040" cy="673560"/>
                <a:chOff x="329760" y="5425200"/>
                <a:chExt cx="1292040" cy="6735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15800" y="5425200"/>
                  <a:ext cx="111996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英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9760" y="5425200"/>
                  <a:ext cx="129204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622160" y="5425200"/>
                <a:ext cx="1292400" cy="673560"/>
                <a:chOff x="1622160" y="5425200"/>
                <a:chExt cx="1292400" cy="673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708200" y="5425200"/>
                  <a:ext cx="111996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杨锦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622160" y="5425200"/>
                  <a:ext cx="129240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914920" y="5425200"/>
                <a:ext cx="1292040" cy="673560"/>
                <a:chOff x="2914920" y="5425200"/>
                <a:chExt cx="1292040" cy="6735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00600" y="5425200"/>
                  <a:ext cx="111996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地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914920" y="5425200"/>
                  <a:ext cx="129204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207680" y="5425200"/>
                <a:ext cx="1292040" cy="673560"/>
                <a:chOff x="4207680" y="5425200"/>
                <a:chExt cx="1292040" cy="673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293360" y="5425200"/>
                  <a:ext cx="111996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杨文贤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07680" y="5425200"/>
                  <a:ext cx="129204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500080" y="5425200"/>
                <a:ext cx="1294200" cy="673560"/>
                <a:chOff x="5500080" y="5425200"/>
                <a:chExt cx="1294200" cy="673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586120" y="5425200"/>
                  <a:ext cx="112176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综合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00080" y="5425200"/>
                  <a:ext cx="129420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795000" y="5425200"/>
                <a:ext cx="1293840" cy="673560"/>
                <a:chOff x="6795000" y="5425200"/>
                <a:chExt cx="1293840" cy="673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880680" y="5425200"/>
                  <a:ext cx="1122120" cy="67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95000" y="5425200"/>
                  <a:ext cx="1293840" cy="67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324000" y="3284640"/>
              <a:ext cx="7772040" cy="281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06644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彭瑞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9640" y="476280"/>
          <a:ext cx="7427880" cy="2519280"/>
        </p:xfrm>
        <a:graphic>
          <a:graphicData uri="http://schemas.openxmlformats.org/drawingml/2006/table">
            <a:tbl>
              <a:tblPr/>
              <a:tblGrid>
                <a:gridCol w="4319640"/>
                <a:gridCol w="3108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一六班期中考试状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杨文贤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龙美娟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刘志彬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6320" y="0"/>
            <a:ext cx="618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期中考试相比入学进步的同学：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冯锦波     朱建鹏    刘志彬     吴波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肖子彬     杨文贤    李业超     陈杰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家鑫     钟加立    黄雅颂    黎俊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任燕飞     梁成杰    王晓         张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敏仪     陈玲         陈翠如     陈静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林丹舒     周彧        徐杏梅     邬趣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梁惠敏     梁宝玲     谢思颖     龙美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杨锦程     刘思敏      彭瑞玲     黄婉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68360" y="260280"/>
          <a:ext cx="4249800" cy="6210360"/>
        </p:xfrm>
        <a:graphic>
          <a:graphicData uri="http://schemas.openxmlformats.org/drawingml/2006/table">
            <a:tbl>
              <a:tblPr/>
              <a:tblGrid>
                <a:gridCol w="2160720"/>
                <a:gridCol w="2089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慧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燕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郝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波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业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杰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加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敏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447840" y="765000"/>
            <a:ext cx="14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文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2268360" y="476280"/>
          <a:ext cx="4897440" cy="5175360"/>
        </p:xfrm>
        <a:graphic>
          <a:graphicData uri="http://schemas.openxmlformats.org/drawingml/2006/table">
            <a:tbl>
              <a:tblPr/>
              <a:tblGrid>
                <a:gridCol w="2737080"/>
                <a:gridCol w="21603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隆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瑞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海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家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加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197000"/>
            <a:ext cx="146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学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411280" y="549360"/>
          <a:ext cx="4753080" cy="404496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锦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杏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宝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55640" y="981000"/>
            <a:ext cx="15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语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195640" y="476280"/>
          <a:ext cx="4824360" cy="5118120"/>
        </p:xfrm>
        <a:graphic>
          <a:graphicData uri="http://schemas.openxmlformats.org/drawingml/2006/table">
            <a:tbl>
              <a:tblPr/>
              <a:tblGrid>
                <a:gridCol w="2592360"/>
                <a:gridCol w="22320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业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加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宝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燕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684360" y="1341360"/>
            <a:ext cx="15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050920" y="476280"/>
          <a:ext cx="4179960" cy="4632120"/>
        </p:xfrm>
        <a:graphic>
          <a:graphicData uri="http://schemas.openxmlformats.org/drawingml/2006/table">
            <a:tbl>
              <a:tblPr/>
              <a:tblGrid>
                <a:gridCol w="2560680"/>
                <a:gridCol w="161928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黎俊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611280" y="90792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95640" y="404640"/>
          <a:ext cx="4032000" cy="5200920"/>
        </p:xfrm>
        <a:graphic>
          <a:graphicData uri="http://schemas.openxmlformats.org/drawingml/2006/table">
            <a:tbl>
              <a:tblPr/>
              <a:tblGrid>
                <a:gridCol w="2347920"/>
                <a:gridCol w="168408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黎俊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海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燕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林宝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敏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11280" y="90792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历史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195640" y="692280"/>
          <a:ext cx="3889080" cy="4249440"/>
        </p:xfrm>
        <a:graphic>
          <a:graphicData uri="http://schemas.openxmlformats.org/drawingml/2006/table">
            <a:tbl>
              <a:tblPr/>
              <a:tblGrid>
                <a:gridCol w="2016000"/>
                <a:gridCol w="1873080"/>
              </a:tblGrid>
              <a:tr h="60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家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加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宝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杏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258920" y="98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3480" y="1039680"/>
            <a:ext cx="146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政治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340000" y="404640"/>
          <a:ext cx="4103640" cy="4622760"/>
        </p:xfrm>
        <a:graphic>
          <a:graphicData uri="http://schemas.openxmlformats.org/drawingml/2006/table">
            <a:tbl>
              <a:tblPr/>
              <a:tblGrid>
                <a:gridCol w="2359080"/>
                <a:gridCol w="174456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锦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家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隆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任燕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950760" y="1484280"/>
            <a:ext cx="16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本班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入学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916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全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正式生入学最低分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8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全级入学平均分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0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21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全级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班，其中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重点班，分别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，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入学的平均分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余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班级为普通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1480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2556000" y="836640"/>
          <a:ext cx="4174920" cy="3224160"/>
        </p:xfrm>
        <a:graphic>
          <a:graphicData uri="http://schemas.openxmlformats.org/drawingml/2006/table">
            <a:tbl>
              <a:tblPr/>
              <a:tblGrid>
                <a:gridCol w="2015640"/>
                <a:gridCol w="21592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瑞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700360" y="112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981000"/>
            <a:ext cx="153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综合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2195640" y="476280"/>
          <a:ext cx="5113080" cy="5118120"/>
        </p:xfrm>
        <a:graphic>
          <a:graphicData uri="http://schemas.openxmlformats.org/drawingml/2006/table">
            <a:tbl>
              <a:tblPr/>
              <a:tblGrid>
                <a:gridCol w="2977920"/>
                <a:gridCol w="213516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隆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钟加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家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539640" y="907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总分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124000" y="476280"/>
          <a:ext cx="5473800" cy="5118120"/>
        </p:xfrm>
        <a:graphic>
          <a:graphicData uri="http://schemas.openxmlformats.org/drawingml/2006/table">
            <a:tbl>
              <a:tblPr/>
              <a:tblGrid>
                <a:gridCol w="3187800"/>
                <a:gridCol w="22860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文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建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志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龙美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隆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敏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冯锦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瑞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68360" y="98100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总分年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19160"/>
            <a:ext cx="914400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班干部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  郑隆龙       叶欣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委员：杨燕丹     纪律委员：周家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宣传委员：肖子彬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卫生委员：戴凤仪     钟艺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委员：刘思敏     林秋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育委员：陈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娱委员：钟加力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教委员：梁劲东     萧嘉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7280" y="762120"/>
            <a:ext cx="7956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团干部简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团支书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梁劲东  梁慧婷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宣传委员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志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体育委员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杰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文娱委员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任燕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68580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0920" y="620640"/>
            <a:ext cx="8458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最勤奋的同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志彬      杨文贤       杨锦程     龙美娟         张敏仪      林宝华       郑隆龙     周家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梁劲东     陈翠如       陈静韵     麦敏华    徐杏梅      梁宝玲       戴凤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11280" y="620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最有特长的同学：陈杰斌  杨文贤  陈智     钟加立    梁键民     叶欣翘        陈静韵    林宝华    梁慧婷     司徒婉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知识面最广的同学：钟加立    杨锦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22860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最有责任心的班干：杨文贤    郑隆龙   梁劲东   龙美娟   陈静韵   林宝华    戴凤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最关心集体的同学：肖子彬  李志伟      陈智    陈杰斌   郑隆龙    杨燕丹   梁慧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戴凤仪    周彧     谢思颖     司徒婉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梁惠敏    邬趣明  陈玲 刘思敏    任燕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冯秀玲   黄雅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9907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七、最守纪律的同学： 刘志彬    杨文贤 杨锦程   李业超   郑隆龙    周家鑫   叶欣翘 龙美娟   杨燕丹   陈静韵    林宝华   麦敏华   梁慧婷   梁宝玲   戴凤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最有创意的同学：吴波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200" y="1890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九、最热心助人的同学：刘志彬  郑隆龙   钟加立   戴海明   张静    黄婉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最受欢迎的同学：叶欣翘  杨锦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郝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劳动最积极的同学：朱建鹏        杨文贤   杨锦程   郑隆龙     钟艺锋   黄雅颂 梁劲东   龙美娟     张敏仪   陈翠如   陈静韵林宝华    梁惠敏   彭瑞玲    戴凤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8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班入学最高分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在年级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，全班入学排名能进入年级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的学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在全年级比较，基础不是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981000"/>
            <a:ext cx="804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高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属于普通班，全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其中男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女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2240" y="70164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希望看到进步的同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林秋良     朱嘉荣     王晓     胡德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萧嘉衡     梁成杰     黎俊强   黎桂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476280"/>
            <a:ext cx="8209080" cy="63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话实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绩必须肯定，进步值得表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我认为本班部分同学还有以下几点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有几个同学过于活跃，纪律观点淡薄，影响其他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带手机回学校，不分场合用（建议家长加强管理，有些小孩电话很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少数同学学习目标模糊，动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共同关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届是新课程改革的首批学生，相应的高考模式还未出台，将会有改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课程基本理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具有更前面的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适应社会发展和科技进步的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具有较强的自学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创新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性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60948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核对家长与学校的联系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主任的手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37112521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安全教育（交通，财产，人身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带贵重物品回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380880"/>
            <a:ext cx="771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管理好学生放假期间的学习与生活（看电视、玩电脑、玩手机、玩游戏，放松要适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如何看待第一次期中考试成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明一些问题，但不用太看重，不要给学生太大压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080" y="50148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重学生习惯养成，锻炼学生吃苦精神，培养良好的学习能力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共同出力，营造良好学习环境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眼高考升学，着眼一生成长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651400" y="148428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谢谢家长莅临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47600" y="92376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学生来自全市各区，个体差别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学习上，宿舍里，晚修时间，住校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庭环境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620640"/>
            <a:ext cx="6408720" cy="33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班现任老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主任：喻  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文：陈   亮        数学：朱天丽                  英语：杨秀珍       物理：喻   峰          化学：陈   航        历史：黎宝儿      政治：谭松伯       地理：萧东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76280"/>
            <a:ext cx="7653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同学来到培英高中在自身的努力，本班各位老师的共同教导下，能较快适应高中的学习与生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军训中表现突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能积极适应高中的学习节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549360"/>
            <a:ext cx="779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校运会里努力拼搏，取得锻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学习上涌现出一批刻苦学习的榜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基本形成积极活跃，刻苦务实的学风和团结互助，奋发向上的班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847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次期中考试本班同学相比入学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同学有进步，超过半数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喜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分  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学是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尖子人数扩大，可贺！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1143000"/>
            <a:ext cx="8457840" cy="4105080"/>
            <a:chOff x="380880" y="1143000"/>
            <a:chExt cx="8457840" cy="4105080"/>
          </a:xfrm>
        </p:grpSpPr>
        <p:grpSp>
          <p:nvGrpSpPr>
            <p:cNvPr id="57" name=""/>
            <p:cNvGrpSpPr/>
            <p:nvPr/>
          </p:nvGrpSpPr>
          <p:grpSpPr>
            <a:xfrm>
              <a:off x="388440" y="1148040"/>
              <a:ext cx="8441640" cy="4093560"/>
              <a:chOff x="388440" y="1148040"/>
              <a:chExt cx="8441640" cy="40935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388440" y="1148040"/>
                <a:ext cx="8441640" cy="927000"/>
                <a:chOff x="388440" y="1148040"/>
                <a:chExt cx="8441640" cy="9270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01480" y="1148040"/>
                  <a:ext cx="8215560" cy="9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一六班期中考试前十名同学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8440" y="1148040"/>
                  <a:ext cx="8441640" cy="92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88440" y="2075400"/>
                <a:ext cx="1406520" cy="790920"/>
                <a:chOff x="388440" y="2075400"/>
                <a:chExt cx="1406520" cy="7909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0148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名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88440" y="207540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1795320" y="2075400"/>
                <a:ext cx="1406520" cy="790920"/>
                <a:chOff x="1795320" y="2075400"/>
                <a:chExt cx="1406520" cy="7909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90836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795320" y="207540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202200" y="2075400"/>
                <a:ext cx="1406880" cy="790920"/>
                <a:chOff x="3202200" y="2075400"/>
                <a:chExt cx="1406880" cy="790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31524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202200" y="2075400"/>
                  <a:ext cx="140688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4609800" y="2075400"/>
                <a:ext cx="1406520" cy="790920"/>
                <a:chOff x="4609800" y="2075400"/>
                <a:chExt cx="1406520" cy="7909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72248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609800" y="207540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016680" y="2075400"/>
                <a:ext cx="1406520" cy="790920"/>
                <a:chOff x="6016680" y="2075400"/>
                <a:chExt cx="1406520" cy="79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12936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016680" y="207540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7423560" y="2075400"/>
                <a:ext cx="1406520" cy="790920"/>
                <a:chOff x="7423560" y="2075400"/>
                <a:chExt cx="1406520" cy="79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536600" y="207540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423560" y="207540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88440" y="2867040"/>
                <a:ext cx="1406520" cy="790920"/>
                <a:chOff x="388440" y="2867040"/>
                <a:chExt cx="1406520" cy="7909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0148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姓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8440" y="286704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795320" y="2867040"/>
                <a:ext cx="1406520" cy="790920"/>
                <a:chOff x="1795320" y="2867040"/>
                <a:chExt cx="1406520" cy="7909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90836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杨文贤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95320" y="286704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202200" y="2867040"/>
                <a:ext cx="1406880" cy="790920"/>
                <a:chOff x="3202200" y="2867040"/>
                <a:chExt cx="1406880" cy="790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31524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龙美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202200" y="2867040"/>
                  <a:ext cx="140688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609800" y="2867040"/>
                <a:ext cx="1406520" cy="790920"/>
                <a:chOff x="4609800" y="2867040"/>
                <a:chExt cx="1406520" cy="790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72248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刘志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609800" y="286704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016680" y="2867040"/>
                <a:ext cx="1406520" cy="790920"/>
                <a:chOff x="6016680" y="2867040"/>
                <a:chExt cx="1406520" cy="7909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12936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冯锦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016680" y="286704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423560" y="2867040"/>
                <a:ext cx="1406520" cy="790920"/>
                <a:chOff x="7423560" y="2867040"/>
                <a:chExt cx="1406520" cy="7909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536600" y="286704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朱建鹏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423560" y="286704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8440" y="3658680"/>
                <a:ext cx="1406520" cy="791640"/>
                <a:chOff x="388440" y="3658680"/>
                <a:chExt cx="1406520" cy="791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148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名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8440" y="3658680"/>
                  <a:ext cx="1406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795320" y="3658680"/>
                <a:ext cx="1406520" cy="791640"/>
                <a:chOff x="1795320" y="3658680"/>
                <a:chExt cx="1406520" cy="791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90836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795320" y="3658680"/>
                  <a:ext cx="1406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202200" y="3658680"/>
                <a:ext cx="1406880" cy="791640"/>
                <a:chOff x="3202200" y="3658680"/>
                <a:chExt cx="1406880" cy="791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31524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02200" y="3658680"/>
                  <a:ext cx="140688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609800" y="3658680"/>
                <a:ext cx="1406520" cy="791640"/>
                <a:chOff x="4609800" y="3658680"/>
                <a:chExt cx="1406520" cy="791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72248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09800" y="3658680"/>
                  <a:ext cx="1406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016680" y="3658680"/>
                <a:ext cx="1406520" cy="791640"/>
                <a:chOff x="6016680" y="3658680"/>
                <a:chExt cx="1406520" cy="791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12936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6680" y="3658680"/>
                  <a:ext cx="1406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423560" y="3658680"/>
                <a:ext cx="1406520" cy="791640"/>
                <a:chOff x="7423560" y="3658680"/>
                <a:chExt cx="1406520" cy="791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536600" y="3658680"/>
                  <a:ext cx="11804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423560" y="3658680"/>
                  <a:ext cx="1406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88440" y="4450680"/>
                <a:ext cx="1406520" cy="790920"/>
                <a:chOff x="388440" y="4450680"/>
                <a:chExt cx="1406520" cy="790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0148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姓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8440" y="445068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795320" y="4450680"/>
                <a:ext cx="1406520" cy="790920"/>
                <a:chOff x="1795320" y="4450680"/>
                <a:chExt cx="1406520" cy="790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90836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周家鑫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95320" y="445068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202200" y="4450680"/>
                <a:ext cx="1406880" cy="790920"/>
                <a:chOff x="3202200" y="4450680"/>
                <a:chExt cx="1406880" cy="7909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31524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钟加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202200" y="4450680"/>
                  <a:ext cx="140688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609800" y="4450680"/>
                <a:ext cx="1406520" cy="790920"/>
                <a:chOff x="4609800" y="4450680"/>
                <a:chExt cx="1406520" cy="790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72248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张敏仪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609800" y="445068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016680" y="4450680"/>
                <a:ext cx="1406520" cy="790920"/>
                <a:chOff x="6016680" y="4450680"/>
                <a:chExt cx="1406520" cy="7909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12936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郑隆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16680" y="445068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423560" y="4450680"/>
                <a:ext cx="1406520" cy="790920"/>
                <a:chOff x="7423560" y="4450680"/>
                <a:chExt cx="1406520" cy="7909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536600" y="4450680"/>
                  <a:ext cx="118044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陈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423560" y="4450680"/>
                  <a:ext cx="1406520" cy="79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380880" y="1143000"/>
              <a:ext cx="8457840" cy="4105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08:29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4:53Z</dcterms:modified>
  <cp:revision>42</cp:revision>
  <dc:subject>主题班会课件(分28大类): http://shop62905894.taobao.com</dc:subject>
  <dc:title>主题班会课件(分28大类): http://shop62905894.taobao.com</dc:title>
</cp:coreProperties>
</file>