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712-7D17-4495-9658-5404730E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F30-B313-4D1A-B014-4D7D97DF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8AD-5A6C-4878-8273-2558A673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D55-C534-4185-A208-3FF9345D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88A-EF86-44B9-A7B0-6BF5092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007-3FD7-474A-8B5A-BD194061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34B-4D1A-4CBF-8EC5-CC3EAD7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984-B505-41FE-929E-33657DD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496-7192-4D35-A5F7-EE242B53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CA6-EC50-4730-A22D-6FB538F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C4A-1EE5-4148-B13D-F8B79D8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6EC-0A66-4B35-BBCB-8F1C015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A77D-4AA2-4526-B5C5-4F6C1B4189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4267080"/>
            <a:ext cx="84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热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欢迎高一（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）班家长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与家长共同探讨一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日常生活中如何让孩子拥有健康的心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2174760"/>
            <a:ext cx="921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创造和谐愉快的环境，使孩子生活在快乐中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281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做民主型的家长，让孩子感到父母可亲可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43070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做个心理专家型家长，培养孩子良好的个性心理品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本班各任课老师电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-108000" y="1268280"/>
          <a:ext cx="9432720" cy="4092840"/>
        </p:xfrm>
        <a:graphic>
          <a:graphicData uri="http://schemas.openxmlformats.org/drawingml/2006/table">
            <a:tbl>
              <a:tblPr/>
              <a:tblGrid>
                <a:gridCol w="1964880"/>
                <a:gridCol w="1804320"/>
                <a:gridCol w="1890720"/>
                <a:gridCol w="1885680"/>
                <a:gridCol w="1887120"/>
              </a:tblGrid>
              <a:tr h="13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语文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数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英语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物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化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1996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927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1996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30570548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1996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35846212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1996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336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1996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877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曹红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段永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季春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刘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袁冬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1699920"/>
            <a:ext cx="8854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感谢各位家长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光临和大力支持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本班情况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66720" y="162828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班现有人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。其中男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女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；寄宿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通学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；正取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以上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；外地籍学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班级同学组成看，学生基础、学习习惯差异较大，因此我们正努力做好分层要求、因材施教工作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本班教师情况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762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本班任教的有江苏省地理名教师周七万主任，有在我校工作近三十年的季春红老师，有获得南通市优课评比二等奖的袁冬梅老师，有从外校调进的骨干教师，他们无论工作时间长短、经验多少，都有着很强的责任心和敬业精神，备课、改作业到深夜十二点是家常便饭，第二天仍是早晨六点多就到校上班，这在其他行业中是绝无仅有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开学以来班级主要工作回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5600" y="1904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展各种思想教育和文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7813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全班级组织，培养学生的各种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1920" y="3716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学法指导，不断提高学习效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720" y="4724280"/>
            <a:ext cx="87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良好的行为习惯和卫生习惯的养成教育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-17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两次考试的分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836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次月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(5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)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年级第一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628640"/>
          <a:ext cx="8278200" cy="1511280"/>
        </p:xfrm>
        <a:graphic>
          <a:graphicData uri="http://schemas.openxmlformats.org/drawingml/2006/table">
            <a:tbl>
              <a:tblPr/>
              <a:tblGrid>
                <a:gridCol w="1656000"/>
                <a:gridCol w="1654920"/>
                <a:gridCol w="1656000"/>
                <a:gridCol w="1656000"/>
                <a:gridCol w="165528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466560" y="321300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期中考试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(5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)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年级第四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20720" y="4149720"/>
          <a:ext cx="8388360" cy="1655640"/>
        </p:xfrm>
        <a:graphic>
          <a:graphicData uri="http://schemas.openxmlformats.org/drawingml/2006/table">
            <a:tbl>
              <a:tblPr/>
              <a:tblGrid>
                <a:gridCol w="1677960"/>
                <a:gridCol w="1677960"/>
                <a:gridCol w="1676520"/>
                <a:gridCol w="1677960"/>
                <a:gridCol w="167796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两次考试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55736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339560"/>
            <a:ext cx="8820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分班以来的两次重要考试中，本班各项指标均比较正常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但从各分数段人数表中可看出：本班同学在第一次月考之后呈放松的状态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致使考试成绩在年级上有所后退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对两次考试的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718920"/>
            <a:ext cx="807696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析其原因，除学习基础差异外，最根本的原因在于学习习惯的好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大多数同学在初中阶段的学习中，都是老师、家长将其时间、任务安排好，而进入高中后，家长不在身边，老师因同学间差异大，不可能统一要求，有些同学不知如何去合理安排时间；很多同学是第一次过寄宿生生活，未能处理好生活与学习的矛盾，如何休息才能提高学习效率；分班后，课程难度突然增大许多，少数适应能力弱的同学，较长时间内不能适应正常的教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不少同学满足于现状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取得成绩之后就骄傲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85760" y="765000"/>
          <a:ext cx="3809880" cy="5693040"/>
        </p:xfrm>
        <a:graphic>
          <a:graphicData uri="http://schemas.openxmlformats.org/drawingml/2006/table">
            <a:tbl>
              <a:tblPr/>
              <a:tblGrid>
                <a:gridCol w="1244520"/>
                <a:gridCol w="1295640"/>
                <a:gridCol w="126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陈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吴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张爱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陈晶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顾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唐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吴梦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陈婷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刘晓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张旭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4428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次月考前十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794120" y="765000"/>
          <a:ext cx="3810240" cy="5702400"/>
        </p:xfrm>
        <a:graphic>
          <a:graphicData uri="http://schemas.openxmlformats.org/drawingml/2006/table">
            <a:tbl>
              <a:tblPr/>
              <a:tblGrid>
                <a:gridCol w="1244880"/>
                <a:gridCol w="1295280"/>
                <a:gridCol w="127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总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陈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吴梦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陈晶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沈安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欧朱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王俊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陈婷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薛珊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缪鹏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杨建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4535640" y="4428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期中考试前十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100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我班同学其他方面情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66960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班级上每个同学的生活自理能力明显提高。进校时，部分同学衣服不会洗，被子不会折，生活用品不会放，而现今，这些方面已能安排得井井有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绝大多数同学的学习兴趣浓厚，自我学习能力得到大辐度提高，学习竞争气氛和谐有序。全县初中学习的尖子生基本被录取我校进一步深造，这使得每位同学必须重新认识自已，制定更高的合适目标，学习比以往更努力、更勤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多数同学的综合素质有了较大发展，我校以培养有持续发展潜力的全面人才为目标。通过已开展的军训、主题班会、社会实践、体育节和即将举办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红五月”等活动，逐步培养每位同学的各方面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53:59Z</dcterms:modified>
  <cp:revision>15</cp:revision>
  <dc:subject>主题班会课件(分28大类): http://shop62905894.taobao.com</dc:subject>
  <dc:title>主题班会课件(分28大类): http://shop62905894.taobao.com</dc:title>
</cp:coreProperties>
</file>