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applause.wav" ContentType="audio/x-wav"/>
  <Override PartName="/ppt/media/image5.wmf" ContentType="image/x-wmf"/>
  <Override PartName="/ppt/media/image10.wmf" ContentType="image/x-wmf"/>
  <Override PartName="/ppt/media/image12.jpeg" ContentType="image/jpeg"/>
  <Override PartName="/ppt/media/image6.jpeg" ContentType="image/jpeg"/>
  <Override PartName="/ppt/media/image7.wmf" ContentType="image/x-wmf"/>
  <Override PartName="/ppt/media/image9.wmf" ContentType="image/x-wmf"/>
  <Override PartName="/ppt/media/image11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EC33-5D20-494D-B2E2-1D9BF74DC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048C-CB90-4BCC-B214-9969729FF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C80F-6F38-4A11-9C15-823253FF0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FA2C-24C6-4A81-B97F-0C8FD6631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7CCA6-35A6-4481-B19D-697DBCA9B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2B39D-0BBE-4C2A-8E57-BE1D9D4A8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2044F-E166-4312-B0DD-E34017861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8D297-A2FA-43A3-ACF2-7347D244C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DFBB2-FD78-443E-886D-567CD2C24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0BD34-B51A-4AF2-BFB7-0A5685563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D1B5C-C19B-448B-A739-811DD253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D153-B9BE-4754-841E-A42E6E28C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66845-5948-4ABA-99BD-EA747DE7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9604F-B19E-45F0-8605-54D73FFB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023BC-9691-4C0E-9D64-FFDE843A1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F3EA7-D65B-483D-9306-67E4AB10B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33C59-061B-4A76-A05E-80493A45E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10B8-8189-4476-AC95-8238B8D3C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CB6F-3025-49D6-BE52-7AE418903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7333-055B-464C-A5CD-4B41ACD4A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FF77-C800-45F9-8C7D-014AF2316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3A6A-6B6D-466B-BC02-67D405E9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EC4D-7152-4477-85DA-71E2910A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393D-F12C-4695-920B-14A61FDB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EB11-6DC6-4ED8-AE04-AEF5213657B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18B6D-9071-4B46-AEC8-B2A26C4907D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n.3edu.net/jz/" TargetMode="External"/><Relationship Id="rId2" Type="http://schemas.openxmlformats.org/officeDocument/2006/relationships/hyperlink" Target="http://n.3edu.net/jz/" TargetMode="External"/><Relationship Id="rId3" Type="http://schemas.openxmlformats.org/officeDocument/2006/relationships/hyperlink" Target="http://n.3edu.net/jstd/" TargetMode="External"/><Relationship Id="rId4" Type="http://schemas.openxmlformats.org/officeDocument/2006/relationships/hyperlink" Target="http://n.3edu.net/jz/" TargetMode="External"/><Relationship Id="rId5" Type="http://schemas.openxmlformats.org/officeDocument/2006/relationships/hyperlink" Target="http://n.3edu.net/xs/" TargetMode="External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5943600"/>
            <a:ext cx="937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260280"/>
            <a:ext cx="93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黑体"/>
                <a:ea typeface="黑体"/>
              </a:rPr>
              <a:t>热烈欢迎各位家长的光临！</a:t>
            </a:r>
            <a:r>
              <a:rPr b="1" lang="zh-CN" sz="6000" spc="-1" strike="noStrike">
                <a:solidFill>
                  <a:srgbClr val="ffff00"/>
                </a:solidFill>
                <a:latin typeface="幼圆"/>
                <a:ea typeface="幼圆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1280" y="1484280"/>
            <a:ext cx="7742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父爱如山  母爱如海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643280" y="2997360"/>
            <a:ext cx="4176720" cy="3463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2784600"/>
            <a:ext cx="4140360" cy="37414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4284720" y="3141720"/>
            <a:ext cx="439560" cy="4395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150"/>
                                  </p:iterate>
                                  <p:childTnLst>
                                    <p:animScale>
                                      <p:cBhvr>
                                        <p:cTn id="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000" autoRev="1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2" dur="1000" autoRev="1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3" dur="1000" autoRev="1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6300"/>
                            </p:stCondLst>
                            <p:childTnLst>
                              <p:par>
                                <p:cTn id="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289536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411280" y="2349360"/>
            <a:ext cx="511344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信心篇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219640" y="4221000"/>
            <a:ext cx="3456000" cy="2637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3168720" cy="263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-828720" y="260280"/>
            <a:ext cx="80280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33"/>
                </a:solidFill>
                <a:latin typeface="黑体"/>
                <a:ea typeface="黑体"/>
              </a:rPr>
              <a:t>1</a:t>
            </a:r>
            <a:r>
              <a:rPr b="1" i="1" lang="zh-CN" sz="5400" spc="-1" strike="noStrike">
                <a:solidFill>
                  <a:srgbClr val="ff0033"/>
                </a:solidFill>
                <a:latin typeface="黑体"/>
                <a:ea typeface="黑体"/>
              </a:rPr>
              <a:t>、高度的自信心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1582560"/>
            <a:ext cx="8820000" cy="545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自信是成功的第一秘诀 </a:t>
            </a:r>
            <a:endParaRPr b="0" lang="en-US" sz="5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怀自信心能跨越每一个障碍</a:t>
            </a:r>
            <a:endParaRPr b="0" lang="en-US" sz="5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激情是点燃精神之火 </a:t>
            </a:r>
            <a:endParaRPr b="0" lang="en-US" sz="5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激情赋予学习无穷的力量</a:t>
            </a:r>
            <a:r>
              <a:rPr b="1" lang="zh-CN" sz="44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0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3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6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9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1219320" y="1627200"/>
            <a:ext cx="7162560" cy="15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-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6666ff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楷体"/>
              </a:rPr>
              <a:t>点 燃 孩 子 心 中的 渴 望！</a:t>
            </a:r>
            <a:endParaRPr b="1" lang="en-US" sz="1800" spc="1" strike="noStrike">
              <a:ln w="12600">
                <a:solidFill>
                  <a:srgbClr val="6666ff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楷体"/>
              <a:ea typeface="华文楷体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117440" y="4051440"/>
            <a:ext cx="6981840" cy="8366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32400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3" dur="1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211640" y="4005360"/>
            <a:ext cx="4105440" cy="26366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0" y="1125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    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无论何时：积极的态度象太阳，照到哪里哪里亮；消极的态度象月亮，初一、十五不一样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。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思路决定出路，态度决定一切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5280" y="260280"/>
            <a:ext cx="61912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2</a:t>
            </a:r>
            <a:r>
              <a:rPr b="1" i="1" lang="zh-CN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、积极的学习态度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-324000" y="260280"/>
            <a:ext cx="640872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33"/>
                </a:solidFill>
                <a:latin typeface="黑体"/>
                <a:ea typeface="黑体"/>
              </a:rPr>
              <a:t>3</a:t>
            </a:r>
            <a:r>
              <a:rPr b="1" i="1" lang="zh-CN" sz="5400" spc="-1" strike="noStrike">
                <a:solidFill>
                  <a:srgbClr val="ff0033"/>
                </a:solidFill>
                <a:latin typeface="黑体"/>
                <a:ea typeface="黑体"/>
              </a:rPr>
              <a:t>、超强的自制力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0920" y="1413000"/>
            <a:ext cx="8532720" cy="19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“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我不是天才，我虽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6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岁但我有超越年龄的“自制力”，我是一个按照计划跟着老师复习的乖学生。我总能很好地控制时间，掌握分寸，在学习与玩乐之间找到平衡点。这种超越年龄的“自制力”也许就是我这个小男生最后夺得理科状元的主要原因吧！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755640" y="333360"/>
            <a:ext cx="74772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33"/>
                </a:solidFill>
                <a:latin typeface="黑体"/>
                <a:ea typeface="黑体"/>
              </a:rPr>
              <a:t>4.</a:t>
            </a:r>
            <a:r>
              <a:rPr b="1" i="1" lang="zh-CN" sz="5400" spc="-1" strike="noStrike">
                <a:solidFill>
                  <a:srgbClr val="ff0033"/>
                </a:solidFill>
                <a:latin typeface="黑体"/>
                <a:ea typeface="黑体"/>
              </a:rPr>
              <a:t>良好的学习品质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1484280"/>
            <a:ext cx="8570880" cy="153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     “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我没有优势，只能刻苦努力！”总结自己成功的秘诀，范佳琳给出了四个字：听话，刻苦。谈到学习的苦与累时，毫不掩饰地说，自己就是一个农村娃，没有任何优势，只能激励自己坚持不懈地努力，从高一到高三，三年如一日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303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33"/>
                </a:solidFill>
                <a:latin typeface="Arial"/>
                <a:ea typeface="楷体_GB2312"/>
              </a:rPr>
              <a:t>5.</a:t>
            </a:r>
            <a:r>
              <a:rPr b="1" i="1" lang="zh-CN" sz="5400" spc="-1" strike="noStrike">
                <a:solidFill>
                  <a:srgbClr val="ff0033"/>
                </a:solidFill>
                <a:latin typeface="Arial"/>
                <a:ea typeface="楷体_GB2312"/>
              </a:rPr>
              <a:t>和谐的家庭和社会环境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98400" y="2073240"/>
            <a:ext cx="7004160" cy="39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有专家曾撰文说：“六加一等于零”什么意思呢？即学校花了六天进行正面教育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,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个休息日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学生们回到家庭和社区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进到电子游戏室、网吧等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学到不少负面的东西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作为家长不能放任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只有学校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家庭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社会携手配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共同创造良好的育人环境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孩子才能健康成长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195640" y="2852640"/>
            <a:ext cx="547200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体会篇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3203640" cy="26366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6084720" y="3933720"/>
            <a:ext cx="2735280" cy="263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5300640"/>
            <a:ext cx="8820000" cy="15573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0" y="189000"/>
            <a:ext cx="849636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给孩子…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给他一个空间，让他自己往前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给他一些时间，让他自己去安排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给他一堆问题，让他自己找答案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给他一种冲突，让他自己去解决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给他一个机遇，让他自己去争取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给他一个对手，让他自己去拼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给他一些权利，让他自己去选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………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8920" y="220680"/>
            <a:ext cx="9145800" cy="192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33"/>
                </a:solidFill>
                <a:latin typeface="Arial"/>
                <a:ea typeface="楷体_GB2312"/>
              </a:rPr>
              <a:t>新形势下家长教育孩子理念</a:t>
            </a:r>
            <a:br>
              <a:rPr sz="4000"/>
            </a:b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你可以不出众，不可以没个性！可以不优秀，不可以没快乐！不要很听话，但要懂事理！不要会很多，但要悟性高！不怕你不学，就怕想学学不会！不怕你疯玩，就怕不敢玩不会玩！你可以保持沉默，不可以没有思想！不要你成为人才，但要成为一个真正的人！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6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4640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494240" y="4533840"/>
            <a:ext cx="3826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886960" y="2209680"/>
            <a:ext cx="0" cy="1162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6948360"/>
            <a:ext cx="3960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2209680"/>
            <a:ext cx="0" cy="1162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3371760"/>
            <a:ext cx="0" cy="1162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76920" y="2209680"/>
            <a:ext cx="40100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886960" y="3371760"/>
            <a:ext cx="0" cy="1162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4533840"/>
            <a:ext cx="0" cy="820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86960" y="4533840"/>
            <a:ext cx="0" cy="820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5354640"/>
            <a:ext cx="0" cy="830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886960" y="5354640"/>
            <a:ext cx="0" cy="830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6184800"/>
            <a:ext cx="0" cy="763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886960" y="6184800"/>
            <a:ext cx="0" cy="763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94240" y="6948360"/>
            <a:ext cx="382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6948360"/>
            <a:ext cx="40100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11280" y="2205000"/>
            <a:ext cx="8172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ff"/>
                </a:solidFill>
                <a:latin typeface="华文新魏"/>
                <a:ea typeface="华文新魏"/>
              </a:rPr>
              <a:t>沟通从</a:t>
            </a:r>
            <a:r>
              <a:rPr b="1" lang="zh-CN" sz="10000" spc="-1" strike="noStrike">
                <a:solidFill>
                  <a:srgbClr val="ff0033"/>
                </a:solidFill>
                <a:latin typeface="华文新魏"/>
                <a:ea typeface="华文新魏"/>
              </a:rPr>
              <a:t>心</a:t>
            </a:r>
            <a:r>
              <a:rPr b="1" lang="zh-CN" sz="10000" spc="-1" strike="noStrike">
                <a:solidFill>
                  <a:srgbClr val="0000ff"/>
                </a:solidFill>
                <a:latin typeface="华文新魏"/>
                <a:ea typeface="华文新魏"/>
              </a:rPr>
              <a:t>开始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-252360" y="461880"/>
            <a:ext cx="93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cc66"/>
                </a:solidFill>
                <a:latin typeface="黑体"/>
                <a:ea typeface="黑体"/>
              </a:rPr>
              <a:t>学校教育必须与家庭教育和社会教育相结合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48800" y="3716280"/>
            <a:ext cx="247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高一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(5)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班全体师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289536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289536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289536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268360" y="907920"/>
            <a:ext cx="882036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1.</a:t>
            </a: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要调整心态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2.</a:t>
            </a: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要以身作则                </a:t>
            </a: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3.</a:t>
            </a: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要经常沟通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要讲究方法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要经常反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要及时反馈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要守住底线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80560" y="-4428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33"/>
                </a:solidFill>
                <a:latin typeface="Times New Roman"/>
                <a:ea typeface="隶书"/>
              </a:rPr>
              <a:t>个人体会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659640" y="4437000"/>
            <a:ext cx="2160360" cy="18003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50920" y="836640"/>
            <a:ext cx="1763640" cy="136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195640" y="2852640"/>
            <a:ext cx="547200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预祝篇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3059280" cy="26370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6227640" y="3933720"/>
            <a:ext cx="2627280" cy="263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324000" y="3933720"/>
          <a:ext cx="8820000" cy="314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933720"/>
                    <a:ext cx="8820000" cy="31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7772400" cy="432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     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让我们携起手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肩并肩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为了你们的孩子，我们的学生而共同努力吧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!  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让我们同呼吸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共命运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为了你们的孩子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我们的学生而共同奉献吧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0920" y="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33"/>
                </a:solidFill>
                <a:latin typeface="Times New Roman"/>
                <a:ea typeface="隶书"/>
              </a:rPr>
              <a:t>家长们</a:t>
            </a:r>
            <a:r>
              <a:rPr b="1" i="1" lang="zh-CN" sz="5400" spc="-1" strike="noStrike">
                <a:solidFill>
                  <a:srgbClr val="ff0033"/>
                </a:solidFill>
                <a:latin typeface="Times New Roman"/>
                <a:ea typeface="隶书"/>
              </a:rPr>
              <a:t>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258920" y="0"/>
            <a:ext cx="8153280" cy="61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高一</a:t>
            </a:r>
            <a:r>
              <a:rPr b="1" i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(5)</a:t>
            </a:r>
            <a:r>
              <a:rPr b="1" i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班科任老师联糸电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班主任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汤玉萍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3979917552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语   文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黄   焱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387999252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数   学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费玉梅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38799859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英   语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曹卫华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3979965919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物   理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汤海燕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397996139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化   学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刘    方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897997823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生   物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钟    静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397994865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历   史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刘世洪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387997558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地   理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郑招萍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387991285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体   育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周   磊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397991637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7308720" y="5202360"/>
            <a:ext cx="1835280" cy="16556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380360" y="1268280"/>
            <a:ext cx="1763640" cy="13687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5" dur="289536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476360" y="47628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0" y="-9360"/>
            <a:ext cx="9144000" cy="68767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 txBox="1"/>
          <p:nvPr/>
        </p:nvSpPr>
        <p:spPr>
          <a:xfrm>
            <a:off x="755640" y="1341360"/>
            <a:ext cx="7561440" cy="43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！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1" dur="208398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77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5" dur="770" fill="hold"/>
                                        <p:tgtEl>
                                          <p:spTgt spid="1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7" dur="77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9" dur="77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8" dur="289536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757080" y="0"/>
            <a:ext cx="6192720" cy="15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33"/>
                </a:solidFill>
                <a:latin typeface="Arial"/>
              </a:rPr>
              <a:t>尊敬的各位</a:t>
            </a:r>
            <a:r>
              <a:rPr b="0" lang="zh-CN" sz="4800" spc="-1" strike="noStrike" u="sng">
                <a:solidFill>
                  <a:srgbClr val="ff0033"/>
                </a:solidFill>
                <a:uFillTx/>
                <a:latin typeface="Arial"/>
                <a:hlinkClick r:id="rId1"/>
              </a:rPr>
              <a:t>家长</a:t>
            </a:r>
            <a:br>
              <a:rPr sz="4800"/>
            </a:br>
            <a:r>
              <a:rPr b="0" lang="zh-CN" sz="4800" spc="-1" strike="noStrike">
                <a:solidFill>
                  <a:srgbClr val="ff0033"/>
                </a:solidFill>
                <a:latin typeface="Arial"/>
              </a:rPr>
              <a:t>大家上午好</a:t>
            </a:r>
            <a:r>
              <a:rPr b="0" lang="zh-CN" sz="4800" spc="-1" strike="noStrike">
                <a:solidFill>
                  <a:srgbClr val="ff0033"/>
                </a:solidFill>
                <a:latin typeface="Arial"/>
              </a:rPr>
              <a:t>!</a:t>
            </a:r>
            <a:r>
              <a:rPr b="0" lang="zh-CN" sz="4800" spc="-1" strike="noStrike">
                <a:solidFill>
                  <a:srgbClr val="3366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-324000" y="1817280"/>
            <a:ext cx="9468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</a:rPr>
              <a:t>    </a:t>
            </a:r>
            <a:br>
              <a:rPr sz="3200"/>
            </a:br>
            <a:r>
              <a:rPr b="0" lang="zh-CN" sz="3200" spc="-1" strike="noStrike">
                <a:solidFill>
                  <a:srgbClr val="3366ff"/>
                </a:solidFill>
                <a:latin typeface="Times New Roman"/>
              </a:rPr>
              <a:t>   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今天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我们能聚在一起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确是机会难得。首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感谢你们对孩子的关爱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和对我们工作的支持。这次</a:t>
            </a:r>
            <a:r>
              <a:rPr b="0" lang="zh-CN" sz="3200" spc="-1" strike="noStrike" u="sng">
                <a:solidFill>
                  <a:srgbClr val="ff0033"/>
                </a:solidFill>
                <a:uFillTx/>
                <a:latin typeface="Times New Roman"/>
                <a:hlinkClick r:id="rId2"/>
              </a:rPr>
              <a:t>家长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会主要是加强</a:t>
            </a:r>
            <a:r>
              <a:rPr b="0" lang="zh-CN" sz="3200" spc="-1" strike="noStrike" u="sng">
                <a:solidFill>
                  <a:srgbClr val="ff0033"/>
                </a:solidFill>
                <a:uFillTx/>
                <a:latin typeface="Times New Roman"/>
                <a:hlinkClick r:id="rId3"/>
              </a:rPr>
              <a:t>老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与家长之间的联系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以便我们能够及时调整教育教学工作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提高教育教学质量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同时也希望</a:t>
            </a:r>
            <a:r>
              <a:rPr b="0" lang="zh-CN" sz="3200" spc="-1" strike="noStrike" u="sng">
                <a:solidFill>
                  <a:srgbClr val="ff0033"/>
                </a:solidFill>
                <a:uFillTx/>
                <a:latin typeface="Times New Roman"/>
                <a:hlinkClick r:id="rId4"/>
              </a:rPr>
              <a:t>家长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能够积极参与到</a:t>
            </a:r>
            <a:r>
              <a:rPr b="0" lang="zh-CN" sz="3200" spc="-1" strike="noStrike" u="sng">
                <a:solidFill>
                  <a:srgbClr val="ff0033"/>
                </a:solidFill>
                <a:uFillTx/>
                <a:latin typeface="Times New Roman"/>
                <a:hlinkClick r:id="rId5"/>
              </a:rPr>
              <a:t>学生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教育管理中来。为了我们共同的目标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我相信今天的会议一定会取得圆满的成功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!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916360" y="6093000"/>
            <a:ext cx="2971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我们需要共同努力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411280" y="2349360"/>
            <a:ext cx="511344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汇报篇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651640" y="3789360"/>
            <a:ext cx="2338200" cy="2637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68360" y="189000"/>
            <a:ext cx="2338200" cy="2636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99928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思想稳定  情绪高涨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目标明确  方法较妥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班风良好  积极上进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403280" y="2997360"/>
            <a:ext cx="644364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才艺双全    德才兼备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11920" y="2997360"/>
            <a:ext cx="100656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4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1280" y="3933720"/>
            <a:ext cx="7993080" cy="26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33200" y="759960"/>
            <a:ext cx="70736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综合素质获奖情况（二）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71640" y="1413000"/>
            <a:ext cx="73404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08000" y="1628640"/>
            <a:ext cx="546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军训会操比赛荣获二等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380480" y="2421000"/>
            <a:ext cx="99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校运会上荣获团体总分第一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70480" y="3213000"/>
            <a:ext cx="277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跑操比赛荣获第五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360600" y="4005360"/>
            <a:ext cx="99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越野跑荣获第一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35800" y="4653000"/>
            <a:ext cx="420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开学以来连续被评为五星级班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468360" y="450360"/>
            <a:ext cx="6696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33"/>
                </a:solidFill>
                <a:latin typeface="Arial Black"/>
                <a:ea typeface="楷体_GB2312"/>
              </a:rPr>
              <a:t>综合素质汇报表</a:t>
            </a:r>
            <a:r>
              <a:rPr b="0" lang="zh-CN" sz="4400" spc="-1" strike="noStrike">
                <a:solidFill>
                  <a:srgbClr val="ff0033"/>
                </a:solidFill>
                <a:latin typeface="Arial Black"/>
                <a:ea typeface="楷体_GB2312"/>
              </a:rPr>
              <a:t>(</a:t>
            </a:r>
            <a:r>
              <a:rPr b="0" lang="zh-CN" sz="4400" spc="-1" strike="noStrike">
                <a:solidFill>
                  <a:srgbClr val="ff0033"/>
                </a:solidFill>
                <a:latin typeface="Arial Black"/>
                <a:ea typeface="楷体_GB2312"/>
              </a:rPr>
              <a:t>三</a:t>
            </a:r>
            <a:r>
              <a:rPr b="0" lang="zh-CN" sz="4400" spc="-1" strike="noStrike">
                <a:solidFill>
                  <a:srgbClr val="ff0033"/>
                </a:solidFill>
                <a:latin typeface="Arial Black"/>
                <a:ea typeface="楷体_GB2312"/>
              </a:rPr>
              <a:t>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33"/>
                </a:solidFill>
                <a:latin typeface="Times New Roman"/>
              </a:rPr>
              <a:t>学习明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李彧      尹文超    金晶    赖泽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杨国熠   樊莎     谢峰    贾嫒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刘泽萍   刘思哲   陈铭   晏紫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33"/>
                </a:solidFill>
                <a:latin typeface="Times New Roman"/>
              </a:rPr>
              <a:t>体育明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王铭皓   邓柳     林国伟     林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杨娜娜    李清鹏    钟明静   李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2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11280" y="762120"/>
            <a:ext cx="7345440" cy="63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艺术明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宋勇    唐博文    易韵斌   徐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周枝    刘轩民    彭涵雨   曾瑶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管理明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周婧瑛   邓子凌   肖瑶     刘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蔡   娇    梁  缙   李 丹   黄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汤瑞观    魏晶      周娇   曾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道德明星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胡刚     李田宇    肖融   付奕   陈  丽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周运根   王紫欣   卢妮   徐照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2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2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2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6" dur="20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9" dur="20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20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2000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8" dur="2000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50920" y="1752480"/>
            <a:ext cx="8229600" cy="48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硬笔楷书简体"/>
                <a:ea typeface="方正硬笔楷书简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方正硬笔楷书简体"/>
                <a:ea typeface="方正硬笔楷书简体"/>
              </a:rPr>
              <a:t>、学生对封闭管理适应能力不强</a:t>
            </a:r>
            <a:r>
              <a:rPr b="1" lang="zh-CN" sz="3200" spc="-1" strike="noStrike">
                <a:solidFill>
                  <a:srgbClr val="ffffff"/>
                </a:solidFill>
                <a:latin typeface="方正硬笔楷书简体"/>
                <a:ea typeface="方正硬笔楷书简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硬笔楷书简体"/>
                <a:ea typeface="方正硬笔楷书简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方正硬笔楷书简体"/>
                <a:ea typeface="方正硬笔楷书简体"/>
              </a:rPr>
              <a:t>、初</a:t>
            </a:r>
            <a:r>
              <a:rPr b="1" lang="zh-CN" sz="3200" spc="-1" strike="noStrike">
                <a:solidFill>
                  <a:srgbClr val="ffffff"/>
                </a:solidFill>
                <a:latin typeface="方正硬笔楷书简体"/>
                <a:ea typeface="方正硬笔楷书简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方正硬笔楷书简体"/>
                <a:ea typeface="方正硬笔楷书简体"/>
              </a:rPr>
              <a:t>高中知识衔接跨度大</a:t>
            </a:r>
            <a:r>
              <a:rPr b="1" lang="zh-CN" sz="3200" spc="-1" strike="noStrike">
                <a:solidFill>
                  <a:srgbClr val="ffffff"/>
                </a:solidFill>
                <a:latin typeface="方正硬笔楷书简体"/>
                <a:ea typeface="方正硬笔楷书简体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方正硬笔楷书简体"/>
                <a:ea typeface="方正硬笔楷书简体"/>
              </a:rPr>
              <a:t>学生困惑多</a:t>
            </a:r>
            <a:r>
              <a:rPr b="1" lang="zh-CN" sz="3200" spc="-1" strike="noStrike">
                <a:solidFill>
                  <a:srgbClr val="ffffff"/>
                </a:solidFill>
                <a:latin typeface="方正硬笔楷书简体"/>
                <a:ea typeface="方正硬笔楷书简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硬笔楷书简体"/>
                <a:ea typeface="方正硬笔楷书简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方正硬笔楷书简体"/>
                <a:ea typeface="方正硬笔楷书简体"/>
              </a:rPr>
              <a:t>、部分学生目标和自我定位不明</a:t>
            </a:r>
            <a:r>
              <a:rPr b="1" lang="zh-CN" sz="3200" spc="-1" strike="noStrike">
                <a:solidFill>
                  <a:srgbClr val="ffffff"/>
                </a:solidFill>
                <a:latin typeface="方正硬笔楷书简体"/>
                <a:ea typeface="方正硬笔楷书简体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方正硬笔楷书简体"/>
                <a:ea typeface="方正硬笔楷书简体"/>
              </a:rPr>
              <a:t>因此学习动力不大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硬笔楷书简体"/>
                <a:ea typeface="方正硬笔楷书简体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方正硬笔楷书简体"/>
                <a:ea typeface="方正硬笔楷书简体"/>
              </a:rPr>
              <a:t>、学科学习时间不十分合理</a:t>
            </a:r>
            <a:r>
              <a:rPr b="1" lang="zh-CN" sz="3200" spc="-1" strike="noStrike">
                <a:solidFill>
                  <a:srgbClr val="ffffff"/>
                </a:solidFill>
                <a:latin typeface="方正硬笔楷书简体"/>
                <a:ea typeface="方正硬笔楷书简体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方正硬笔楷书简体"/>
                <a:ea typeface="方正硬笔楷书简体"/>
              </a:rPr>
              <a:t>学习效果不佳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硬笔楷书简体"/>
                <a:ea typeface="方正硬笔楷书简体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方正硬笔楷书简体"/>
                <a:ea typeface="方正硬笔楷书简体"/>
              </a:rPr>
              <a:t>、基础较薄弱的学生多</a:t>
            </a:r>
            <a:r>
              <a:rPr b="1" lang="zh-CN" sz="3200" spc="-1" strike="noStrike">
                <a:solidFill>
                  <a:srgbClr val="ffffff"/>
                </a:solidFill>
                <a:latin typeface="方正硬笔楷书简体"/>
                <a:ea typeface="方正硬笔楷书简体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方正硬笔楷书简体"/>
                <a:ea typeface="方正硬笔楷书简体"/>
              </a:rPr>
              <a:t>整体成绩不显优势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硬笔楷书简体"/>
                <a:ea typeface="方正硬笔楷书简体"/>
              </a:rPr>
              <a:t>6 </a:t>
            </a:r>
            <a:r>
              <a:rPr b="1" lang="zh-CN" sz="3200" spc="-1" strike="noStrike">
                <a:solidFill>
                  <a:srgbClr val="ffffff"/>
                </a:solidFill>
                <a:latin typeface="方正硬笔楷书简体"/>
                <a:ea typeface="方正硬笔楷书简体"/>
              </a:rPr>
              <a:t>、学生偏科的较多，学科成绩不平衡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42920" y="620640"/>
            <a:ext cx="395928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0033"/>
                </a:solidFill>
                <a:latin typeface="Times New Roman"/>
                <a:ea typeface="隶书"/>
              </a:rPr>
              <a:t>目前</a:t>
            </a:r>
            <a:r>
              <a:rPr b="1" i="1" lang="zh-CN" sz="6000" spc="-1" strike="noStrike">
                <a:solidFill>
                  <a:srgbClr val="ff0033"/>
                </a:solidFill>
                <a:latin typeface="Tahoma"/>
                <a:ea typeface="隶书"/>
              </a:rPr>
              <a:t>困惑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788000" y="189000"/>
            <a:ext cx="3887640" cy="165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6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06:43:18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1:36:52Z</dcterms:modified>
  <cp:revision>65</cp:revision>
  <dc:subject>主题班会课件(分28大类): http://shop62905894.taobao.com</dc:subject>
  <dc:title>主题班会课件(分28大类): http://shop62905894.taobao.com</dc:title>
</cp:coreProperties>
</file>