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7.gif" ContentType="image/gif"/>
  <Override PartName="/ppt/media/image2.jpeg" ContentType="image/jpeg"/>
  <Override PartName="/ppt/media/image15.gif" ContentType="image/gif"/>
  <Override PartName="/ppt/media/image3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256-96BC-4CCE-A450-C312C84A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E84-AA7D-4E43-A248-4EDA12FC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B696-E91C-4277-A966-D9A123F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EF15B-E591-4D98-8A43-0E099B67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A7C46-E848-4EF9-ADFF-84F3F949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C236-72CF-43CC-85F6-26677A76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CB974-D302-4ADB-80F6-73C7330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342B-19A9-48F8-BB96-5FAD12F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2333B-0687-4E7C-8DBA-D9411C9F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886B-8C0D-49DC-8A15-1E38D9D0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175EC-1241-47D8-8F8E-AC96948D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6A83C-54BE-487D-A9CA-E55BB271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AB3-9A00-4061-A4B2-7F0A7851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643C-3237-4FF8-BC5F-9C72BDEE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51200-88A7-4120-AC24-B7D56A1A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1CF3E-A485-4615-BCEC-51C647F1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37175-3E7E-4AD1-87AD-03A2998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720DE-A704-4F77-968C-43530DC8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F13C5-9D26-4FB6-8150-1B8DC9B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998FA-130C-4459-9A2A-1A5C1B1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90C80-6004-496D-A514-1A29992D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C493E-1AD5-42A0-BBF0-BDFABE5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B3E13-F1F6-46F1-BE2A-603B6909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25C-8E5C-4FD2-A295-446A6B61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360AF-4B59-478D-BE4F-E02C9D07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74AAE-1E62-452B-80EA-72D15C5F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ACAFB-5526-4B47-BE8E-3A37B1A1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CF22A-9D4B-4F3A-A2BA-EF5E6EB7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79D20-CC6E-470B-939B-C394266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4E0AF-1731-463A-9480-8C53A7FA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D2D77-F5D4-4DF5-9DE1-9009F31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C6F36-F7D3-4137-BD44-F62D765C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B16B9-5FE4-4540-84D9-AD25DEAD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6CBB-2D64-4685-B920-0098A5CC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C0EF-4402-442A-99B7-108D6DC4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BFE4E-85F1-41DC-9C2E-429E103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4975-B14E-40E6-B88A-C6A3DB81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D3C8A-0F42-49A6-BC92-9CECBC62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6254B-8F81-4419-A33D-42E3F638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F9BCE-8EA4-426F-A120-5B2897E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1B5D1-29EC-48FB-AA0D-011E82BF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DAFDC-55BE-45B4-9D52-4E876DE8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F5DEC-B067-4770-8D59-53A2B726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B35E5-E03F-4477-A35B-D80F2029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C7391-DCD6-46D7-9CCF-B57292EB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F67D-08E3-4A3B-996A-D7470BE7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09F0E-435D-41C6-B714-B7C8332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9D681-6D16-4690-ABC6-BF389439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4DE4A-DD37-4146-B4B4-A29A1BAD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8175-11F5-422A-B74A-BC074D18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54A8C-9D0C-4AA6-890D-0C10C4B6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B10C-3E83-44FB-BC3E-BB26FF35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1F26-DE1D-468C-B272-9DCA108E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7FEB-0D2F-44D0-A843-A2D786A5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2D10-D080-4339-B280-FCCF9F9B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8B66-9DBF-47BD-8E29-66FF68D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03F-E8C6-49E5-94A8-A8572230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56C4-3F51-44AF-98EC-918FFD9B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FF3A-74CA-40B7-BE42-DCAE32D4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4647-CF6D-4C10-BA50-ED23A64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1061-56F2-4C6C-BFF9-CC8BD2E4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BAFF-8A14-42E3-9BE8-D7466A15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A7D1-8533-42E4-9B29-8D27B7B3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0E1B-FDE8-4DA6-957A-777D6D07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BBC0-7AAF-40CC-B2D4-621B225D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2AE5-CD80-4F40-A2F3-1D55411D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642D-0CFD-42A8-96A1-D007A48A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A8C-16E4-4D80-B88D-392E0002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87D9-0EFD-4436-B819-E9C543EF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ACF9-4A59-4617-AE58-1C3D26E9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F0D2-D0D1-43F1-9898-CD7B3314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C410-F137-455A-BAFD-30048951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3553-4FB5-49DE-A6FC-73B3ED1A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8B9E-75B1-45C1-96D6-89F94E85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C6A2-8008-4DB9-BFB5-EEB1CAE1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130-2C11-4072-AA74-ED8D1CE1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E047-667D-4183-8672-E5EE914D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693-2BEC-40CC-8A20-A78CE1D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88EBD-F515-4885-8AAA-BEB5CCB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CBB6-CFB3-4825-9B26-FC85AB01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AA7C-D95F-4F3B-B1B7-DEC7839A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AA4C-2831-41B5-A211-0528BEA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506B-529D-489D-BE43-38DC1C2B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48E9-021F-4BD8-B407-4BF06523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8571-5B17-4C10-85DB-C36E3C9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C0228-6148-481B-97D5-A226093E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43A2C-F3E4-4B4B-A387-9F7CF504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DDAA-1F21-4B99-A8AB-98A4E265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1C2-AEF6-48A8-B8B7-2539E4CC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F5E02-F3B2-4F23-95F0-8DFB3741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EAF8D-0381-450B-A858-C65A7E89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EF5E-568E-49A7-80CD-53EB5F4D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D0FDE-675B-4AA6-8573-A87E5B63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39BF-BDB2-436C-83BB-C2FD8132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000B-8E1A-4C02-A59A-676A8AE6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3E0E6-E4E4-466C-8A94-BEF4FE85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A073-0010-4A79-BC8C-DF71AA6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B0DF-8750-4AAA-9D88-4E534D11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3B56-27F0-4E93-A631-93AF8555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B7D-61D3-4194-A180-233A373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BD10-50D4-400C-B389-BD2C1968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3C31-A423-4B8E-A68D-A4AF5DB0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B34AC-99DE-4839-BBFD-AEDB3C9C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8232C-BE91-4782-91DB-4F536F97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EB427-7D94-4308-850F-59F60BAD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4304F-0865-4FCF-B5E3-FDD121B9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1FC2F-C3E8-4225-BC55-3177ED12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39AAB-6FFF-4F2D-AC98-6450F54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10BFA-31B2-4090-BFF8-B8FB2F8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E611-D40D-47D0-A646-C1114944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63F-0194-4BA2-9ABD-54D8AA17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BD2B-1819-4613-AD6A-96E7B86A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97B1E-DFCE-462A-90E5-6B717CDB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412F-5DEE-49C9-A1BE-5A6072C7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8868-B63C-404B-B31E-87C5D8D0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65A4-8405-4145-9F95-C87F2EBA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2035B-E183-41F9-836C-83A1670E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F2A0A-64E8-4888-83CD-A38C538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CCA18-4587-403B-8B97-77F2F17C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F9095-1A71-47F9-93DE-F27B226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1434-C6B0-4B08-8F33-94883753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B16-19DD-4A1E-BD04-5567A29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12C7A-687F-4C57-9F8A-6A53A171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8F4F3-52AA-4A0D-AE85-2B80817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31294-843C-4D2C-9B93-7E2B3606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B86A-2E36-4712-ACB4-FAC4A265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143C-7C24-48CB-902F-4469F884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A6BF-7C76-437B-A36C-CE04A42B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5A6BB-E2C1-41BF-8BE7-5EBBE519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5C8DF-D0A3-4AFE-99C9-8296BBA7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E73EA-10EA-4C47-BEC8-CB94C661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A7AF0-823A-4185-AE22-D11B9AD8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BBF3-0AD7-4E01-913A-8CA4527CC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556F-999D-43B4-9A01-922A86264B6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CC51-F266-49BF-8382-3A6BBF8DF42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D1B8-52BA-4E19-B2BC-DDB5900BBE5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136A-6B02-4B03-8792-2AAE0ED348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83" name="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97" name="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00" y="0"/>
              <a:ext cx="3787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6445080"/>
              <a:ext cx="325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82680" y="2197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1369800" y="6464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8"/>
          </p:nvPr>
        </p:nvSpPr>
        <p:spPr>
          <a:xfrm>
            <a:off x="3808080" y="64641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9"/>
          </p:nvPr>
        </p:nvSpPr>
        <p:spPr>
          <a:xfrm>
            <a:off x="723744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953D-5F35-488E-AA63-163FD835F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147" name="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161" name="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00" y="0"/>
              <a:ext cx="3787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445080"/>
              <a:ext cx="325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055-1B5A-4648-9956-F12691E891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4F97-2040-42B4-B734-719E06D8E3B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0A22-1755-46C9-8141-F7E2045FEC2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CB11-4B33-479C-AC30-02B92D46625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1CF-EE4E-40A7-9D2E-2A79682ED7E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990720" y="1371600"/>
            <a:ext cx="7326360" cy="313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5" name="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564000" cy="36450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520" y="2895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55640" y="907920"/>
            <a:ext cx="7993080" cy="62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班长：李晓龙 、王飞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团支书：潘  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副班长：周  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委员：何婷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宣传委员：韩双          纪检委员：王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织委员：薛继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活委员：王  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体育委员：刘树凯      文艺委员：张梦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4000" y="260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高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(30)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班干部名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468360" y="54936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３、期中考试成绩分析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3" name=""/>
          <p:cNvSpPr/>
          <p:nvPr/>
        </p:nvSpPr>
        <p:spPr>
          <a:xfrm>
            <a:off x="2050920" y="458136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面是您的骄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250920" y="274680"/>
          <a:ext cx="8435520" cy="6178320"/>
        </p:xfrm>
        <a:graphic>
          <a:graphicData uri="http://schemas.openxmlformats.org/drawingml/2006/table">
            <a:tbl>
              <a:tblPr/>
              <a:tblGrid>
                <a:gridCol w="2704680"/>
                <a:gridCol w="1910520"/>
                <a:gridCol w="1910160"/>
                <a:gridCol w="1910160"/>
              </a:tblGrid>
              <a:tr h="770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年级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长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范金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戴洪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85800" y="152280"/>
          <a:ext cx="7695720" cy="5333760"/>
        </p:xfrm>
        <a:graphic>
          <a:graphicData uri="http://schemas.openxmlformats.org/drawingml/2006/table">
            <a:tbl>
              <a:tblPr/>
              <a:tblGrid>
                <a:gridCol w="2467440"/>
                <a:gridCol w="1743120"/>
                <a:gridCol w="1742400"/>
                <a:gridCol w="1742760"/>
              </a:tblGrid>
              <a:tr h="664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年级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郭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爱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吕建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457200" y="260280"/>
          <a:ext cx="8362800" cy="6562800"/>
        </p:xfrm>
        <a:graphic>
          <a:graphicData uri="http://schemas.openxmlformats.org/drawingml/2006/table">
            <a:tbl>
              <a:tblPr/>
              <a:tblGrid>
                <a:gridCol w="2171880"/>
                <a:gridCol w="1546200"/>
                <a:gridCol w="1549080"/>
                <a:gridCol w="1546560"/>
                <a:gridCol w="1549080"/>
              </a:tblGrid>
              <a:tr h="7488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进步较大的同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考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郭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阙树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韩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闻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范金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"/>
          <p:cNvGraphicFramePr/>
          <p:nvPr/>
        </p:nvGraphicFramePr>
        <p:xfrm>
          <a:off x="457200" y="274680"/>
          <a:ext cx="8229600" cy="6485040"/>
        </p:xfrm>
        <a:graphic>
          <a:graphicData uri="http://schemas.openxmlformats.org/drawingml/2006/table">
            <a:tbl>
              <a:tblPr/>
              <a:tblGrid>
                <a:gridCol w="2130480"/>
                <a:gridCol w="1523880"/>
                <a:gridCol w="1525680"/>
                <a:gridCol w="1523880"/>
                <a:gridCol w="1525680"/>
              </a:tblGrid>
              <a:tr h="6710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进步较大的同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考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史立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爱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阳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小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姜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小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施韡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厚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457200" y="274680"/>
          <a:ext cx="8229600" cy="6397560"/>
        </p:xfrm>
        <a:graphic>
          <a:graphicData uri="http://schemas.openxmlformats.org/drawingml/2006/table">
            <a:tbl>
              <a:tblPr/>
              <a:tblGrid>
                <a:gridCol w="3411360"/>
                <a:gridCol w="2409840"/>
                <a:gridCol w="240840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杜文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葛加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爱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戴洪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胡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685800" y="152280"/>
          <a:ext cx="7696080" cy="5324760"/>
        </p:xfrm>
        <a:graphic>
          <a:graphicData uri="http://schemas.openxmlformats.org/drawingml/2006/table">
            <a:tbl>
              <a:tblPr/>
              <a:tblGrid>
                <a:gridCol w="3007440"/>
                <a:gridCol w="2565360"/>
                <a:gridCol w="212328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爱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郭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戴洪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婷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7200" y="274680"/>
          <a:ext cx="8229600" cy="6397560"/>
        </p:xfrm>
        <a:graphic>
          <a:graphicData uri="http://schemas.openxmlformats.org/drawingml/2006/table">
            <a:tbl>
              <a:tblPr/>
              <a:tblGrid>
                <a:gridCol w="3411360"/>
                <a:gridCol w="2409840"/>
                <a:gridCol w="240840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长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范金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457200" y="274680"/>
          <a:ext cx="8229600" cy="6397560"/>
        </p:xfrm>
        <a:graphic>
          <a:graphicData uri="http://schemas.openxmlformats.org/drawingml/2006/table">
            <a:tbl>
              <a:tblPr/>
              <a:tblGrid>
                <a:gridCol w="3411360"/>
                <a:gridCol w="2409840"/>
                <a:gridCol w="240840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长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郭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姜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26028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高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(30)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家长会议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1413000"/>
            <a:ext cx="8893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１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２、班级基本情况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３、期中考试成绩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４、存在的问题及下一阶段工作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５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６、家长教育的误区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７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８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457200" y="274680"/>
          <a:ext cx="8229600" cy="6397560"/>
        </p:xfrm>
        <a:graphic>
          <a:graphicData uri="http://schemas.openxmlformats.org/drawingml/2006/table">
            <a:tbl>
              <a:tblPr/>
              <a:tblGrid>
                <a:gridCol w="3411360"/>
                <a:gridCol w="2409840"/>
                <a:gridCol w="240840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孙佳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长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戴洪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小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范金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3" name=""/>
          <p:cNvGraphicFramePr/>
          <p:nvPr/>
        </p:nvGraphicFramePr>
        <p:xfrm>
          <a:off x="457200" y="274680"/>
          <a:ext cx="8229600" cy="6397560"/>
        </p:xfrm>
        <a:graphic>
          <a:graphicData uri="http://schemas.openxmlformats.org/drawingml/2006/table">
            <a:tbl>
              <a:tblPr/>
              <a:tblGrid>
                <a:gridCol w="3411360"/>
                <a:gridCol w="2409840"/>
                <a:gridCol w="240840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孟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小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胡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郭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685800" y="152280"/>
          <a:ext cx="7695720" cy="5334120"/>
        </p:xfrm>
        <a:graphic>
          <a:graphicData uri="http://schemas.openxmlformats.org/drawingml/2006/table">
            <a:tbl>
              <a:tblPr/>
              <a:tblGrid>
                <a:gridCol w="3190680"/>
                <a:gridCol w="2252520"/>
                <a:gridCol w="225252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小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许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左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范金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长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457200" y="274680"/>
          <a:ext cx="8229600" cy="6397560"/>
        </p:xfrm>
        <a:graphic>
          <a:graphicData uri="http://schemas.openxmlformats.org/drawingml/2006/table">
            <a:tbl>
              <a:tblPr/>
              <a:tblGrid>
                <a:gridCol w="3411360"/>
                <a:gridCol w="2409840"/>
                <a:gridCol w="240840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范金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吕建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施韡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董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457200" y="274680"/>
          <a:ext cx="8229600" cy="6397560"/>
        </p:xfrm>
        <a:graphic>
          <a:graphicData uri="http://schemas.openxmlformats.org/drawingml/2006/table">
            <a:tbl>
              <a:tblPr/>
              <a:tblGrid>
                <a:gridCol w="3411360"/>
                <a:gridCol w="2409840"/>
                <a:gridCol w="2408400"/>
              </a:tblGrid>
              <a:tr h="642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一（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)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期中单科前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吕建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范金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戴洪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薛继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茜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971640" y="1413000"/>
            <a:ext cx="7056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４、存在的问题及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一阶段工作思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476360" y="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存在的主要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692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学生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方法不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 导致成绩不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332000" y="1773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学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信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不足，有悲观失望情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332000" y="3213000"/>
            <a:ext cx="781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少数学生学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目的不明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整日无所事事，碌碌无为。个别特殊学生的有些行为甚至影响到其他同学的学习和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87280" y="4653000"/>
            <a:ext cx="64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7093080" y="4554360"/>
            <a:ext cx="2050920" cy="23036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 txBox="1"/>
          <p:nvPr/>
        </p:nvSpPr>
        <p:spPr>
          <a:xfrm>
            <a:off x="2195640" y="5157720"/>
            <a:ext cx="511164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有则改之，无则加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476360" y="31896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下阶段采取的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953080" y="1138320"/>
            <a:ext cx="410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加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想教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作，增强学生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心和成才欲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充分利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会时间给同学们加油鼓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58920" y="342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严格管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加强纪律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强时间观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03280" y="508464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向同学们介绍好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经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7020000" y="278136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1332000" y="1989000"/>
            <a:ext cx="781200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５、需要家长配合的工作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219320" y="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了更好的促进学生发展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需要请家长配合的事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03280" y="1268280"/>
            <a:ext cx="7740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协助学校落实学生行为规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头发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挂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校牌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手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切实解决学生心理问题， 树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信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轻装上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身作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在家庭中培养良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习氛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加强家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多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控制孩子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零花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52320" y="604368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多关注孩子周末的生活和学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走读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7920000" y="549360"/>
            <a:ext cx="12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39640" y="1341360"/>
            <a:ext cx="82803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１、家长会召开的意义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332000" y="1052640"/>
            <a:ext cx="78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６、家长教育的误区探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332000" y="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我们了解的情况，发现家长在教育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以下几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误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3280" y="1268280"/>
            <a:ext cx="75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过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给学生造成心理压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影响学生们的正常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32000" y="23702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满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物质上的需要，而不关心孩子其他方面的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32000" y="34495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期望值过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超过了孩子实际水平，这样容易挫伤孩子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436760" y="4365720"/>
            <a:ext cx="77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孩子的身体倍加呵护，却忽视了孩子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心理健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58920" y="551664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注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言传身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孩子容易出现一些不良倾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 txBox="1"/>
          <p:nvPr/>
        </p:nvSpPr>
        <p:spPr>
          <a:xfrm>
            <a:off x="755640" y="1700280"/>
            <a:ext cx="77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cc99"/>
                </a:solidFill>
                <a:latin typeface="汉仪圆叠体简"/>
              </a:rPr>
              <a:t>7</a:t>
            </a:r>
            <a:r>
              <a:rPr b="0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cc99"/>
                </a:solidFill>
                <a:latin typeface="汉仪圆叠体简"/>
              </a:rPr>
              <a:t>、给家长的几点建议</a:t>
            </a:r>
            <a:endParaRPr b="0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00cc99"/>
              </a:solidFill>
              <a:latin typeface="汉仪圆叠体简"/>
              <a:ea typeface="汉仪圆叠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266840" y="476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39640" y="3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家长最好能经常与学校、老师取得联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9640" y="1916280"/>
            <a:ext cx="789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家长要培养孩子的处事能力，要让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管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3068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要注重对孩子学习习惯和学习能力的培养，使学生形成良好的学习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47000" y="4292640"/>
            <a:ext cx="6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要学会欣赏孩子，要善于发现他们的闪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，及时给予鼓励，以增强他们的自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1979640" y="5300640"/>
            <a:ext cx="172728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５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0920" y="2421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６、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7040" y="4365720"/>
            <a:ext cx="88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７．抓好子女在家的行为习惯。如良好的休息、科学的安排学习、适量的家务劳动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劳动是教育人的较好方式，只有劳动，他才懂得来之不易，懂得珍惜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95280" y="58770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８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在孩子面前做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率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身教重于言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66ff"/>
                </a:solidFill>
                <a:latin typeface="Times New Roman"/>
              </a:rPr>
              <a:t>感谢您的指导，孩子的进步是我们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共同的心愿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203480" y="2666880"/>
            <a:ext cx="64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250920" y="333360"/>
            <a:ext cx="867564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祝每一个家庭</a:t>
            </a:r>
            <a:r>
              <a:rPr b="1" lang="zh-CN" sz="6600" spc="-1" strike="noStrike">
                <a:solidFill>
                  <a:srgbClr val="ff3399"/>
                </a:solidFill>
                <a:latin typeface="Arial"/>
              </a:rPr>
              <a:t>合家欢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祝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你们的孩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我们的学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健康成长、考上大学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50920" y="2565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</a:rPr>
              <a:t>８、个别交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-684360" y="4653000"/>
            <a:ext cx="961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淮安中学高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(30)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班　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张正飞   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5.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１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．１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-324000" y="0"/>
            <a:ext cx="94680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友情提醒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今天下午正常上课，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上周六下午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62028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果没有整个社会首先是家庭的高度教育素养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523520" y="5486040"/>
            <a:ext cx="7086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著名教育家苏霍姆林斯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１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教育必须要有家庭教育的配合，家庭教育既是学校教育的基础，又是学校教育的延续与升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58920" y="494172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00000" y="350028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家长是孩子的第一任教师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家庭是孩子的天然学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596360" y="4724280"/>
            <a:ext cx="1143000" cy="14288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11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１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11280" y="105264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在家庭与学校之间架起一座金色的桥梁，使学校教育与家庭教育有机地结合起来，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则是连结家庭教育与学校教育的纽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84360" y="1700280"/>
            <a:ext cx="784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２、班级基本情况介绍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24000" y="33336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学生情况介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1628640"/>
            <a:ext cx="882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高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0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班共有学生６６人，其中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华文楷体"/>
              </a:rPr>
              <a:t>男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９人，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华文楷体"/>
              </a:rPr>
              <a:t>女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华文楷体"/>
              </a:rPr>
              <a:t>７人。</a:t>
            </a:r>
            <a:r>
              <a:rPr b="1" lang="zh-CN" sz="4000" spc="-1" strike="noStrike">
                <a:solidFill>
                  <a:srgbClr val="ff3399"/>
                </a:solidFill>
                <a:latin typeface="楷体_GB2312"/>
                <a:ea typeface="华文楷体"/>
              </a:rPr>
              <a:t>住校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华文楷体"/>
              </a:rPr>
              <a:t>47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男生分４个寝室，分别住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21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211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21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寝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女生分三个寝室，分别住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7208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7209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72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寝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095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715000" y="1197000"/>
            <a:ext cx="3429000" cy="3816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2193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0920" y="0"/>
            <a:ext cx="68421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教师情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语文——阚海燕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3626185505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数学——程宏咏（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3815455703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英语——孟春林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3813328109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物理——华德宝（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3770429503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化学——张正飞（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3511530812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生物——杨丽丽（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3094900615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政治——马宇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3901406107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历史——郭丽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5911441 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地理——陈步东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（ 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5592778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7:35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48:52Z</dcterms:modified>
  <cp:revision>77</cp:revision>
  <dc:subject>主题班会课件(分28大类): http://shop62905894.taobao.com</dc:subject>
  <dc:title>主题班会课件(分28大类): http://shop62905894.taobao.com</dc:title>
</cp:coreProperties>
</file>