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D500-E1EC-4137-B467-8986E002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3744-7548-4977-8E69-528B18FD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6CFD-E267-4246-BE89-386ED7BC8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382B-B9D0-41A4-99C7-0029302F2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13EE-E486-41A9-B4A2-4B1DA8802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36CE-1265-4436-AC27-6065959B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244D-939F-49C4-BDC5-041AB978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AC70-7170-412B-8EAC-BE122BD6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D76F-B1BA-4378-8F90-9BD873A2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7B4E-3FA0-4DFA-9320-370111D5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9A5A-06FE-4D89-8021-A774156B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E345-BEF8-417E-B6D9-0C2AFB43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057F-9C44-4376-AB6A-958C316C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0433-0DD1-4C74-A8B6-1517793A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7989-FD5E-4125-B662-61187E35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B2A2-ECB8-491F-9353-2DF7A6B2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9B07-E040-4B91-BDAE-53BE22A54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1209B-9D44-4110-9C79-B9053AA1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435AE-908C-495B-9007-7EF78BF1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CAA7A-4BE5-4AAC-A1B2-D20DF04B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9685D-B52C-4FB7-B43D-96724232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FF5B3-2EA0-432C-BCCD-E4BA1A5B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074C-FC5C-4811-ABE2-202F083B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58457-658A-43CB-854D-90104018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E27B2-0654-445A-BFA6-8FC359A6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FC6A8-1333-4DBF-9131-937037B2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EF82B-0D77-4D33-B406-58F64C25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7C888-24A3-47F7-BBFF-6F4CB695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3629B-3702-49CD-8FF7-A17485BB6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1C71D-063B-4E55-B7D9-B199D9A73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5C8A7-7C9A-4ACF-BA40-3A94DF485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4AAAD-CBD3-4A0F-9FB8-4A36ED66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1DA45-BD9C-4044-AAD7-886253E4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A227-0F3D-40A6-98CC-008C4A35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887F0-918D-402B-9EEE-27971C13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549EA-5C57-418B-BFF2-B1815953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84C28-8D6E-4EE0-851F-7A7586B6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5DA05-69E2-4A4D-B4BD-CB5549B4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A0FB1-BE68-4C83-BF5E-84719E4B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C4C85-FF28-44BB-AB1F-103A734C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DF3A6-5B44-4C41-84D7-644E9309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E58B7-DF54-459E-A74E-3FF58CFB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2E03E-0336-410D-BA39-942F04F09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80B0-C943-4DCD-97AD-99D6FD37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37AD-6323-438B-9EF3-6A521781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7A83-7953-4E37-AF26-0B8246BC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3D93-5183-4BED-B09E-BDE9AA91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2EB5-174A-4E88-B0F1-79100AFF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B9AE-2858-425A-9ADE-9D36754386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B5E5-EE54-4FAB-91DC-6E3E83FC17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3FE0-EAFA-48A6-8D47-30BEF83602C0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1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7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8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1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2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4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622C-47E0-49DE-84F0-CC52CA847490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5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9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5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89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3.xml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-324000" y="620640"/>
            <a:ext cx="8839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琥珀"/>
              </a:rPr>
              <a:t>热烈欢迎各位家长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琥珀"/>
              </a:rPr>
              <a:t>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琥珀"/>
              <a:ea typeface="华文琥珀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372360" y="4432320"/>
            <a:ext cx="2771640" cy="24256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00000" y="2421000"/>
            <a:ext cx="76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高一（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30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）班第二次家长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259092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200"/>
                </a:solidFill>
                <a:latin typeface="Comic Sans MS"/>
              </a:rPr>
              <a:t>三好学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539640" y="765000"/>
          <a:ext cx="8135640" cy="4895640"/>
        </p:xfrm>
        <a:graphic>
          <a:graphicData uri="http://schemas.openxmlformats.org/drawingml/2006/table">
            <a:tbl>
              <a:tblPr/>
              <a:tblGrid>
                <a:gridCol w="1953360"/>
                <a:gridCol w="3651480"/>
                <a:gridCol w="2530800"/>
              </a:tblGrid>
              <a:tr h="69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戴洪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张茜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2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胡荣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董慧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沈俊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3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薛继龙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范金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1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1008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Comic Sans MS"/>
              </a:rPr>
              <a:t>十项标兵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619280" y="333000"/>
            <a:ext cx="6121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社会工作标兵：潘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勤俭自强标兵：王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学习进步标兵：李长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体育锻炼标兵：王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文娱活动标兵：沈慧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公益劳动标兵：陆冬雷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爱护公物标兵：顾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遵纪守法标兵：阙树雷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团结友善标兵：孙佳鑫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明礼诚信标兵：何婷婷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>
            <a:hlinkClick r:id="rId1" action="ppaction://hlinksldjump"/>
          </p:cNvPr>
          <p:cNvSpPr/>
          <p:nvPr/>
        </p:nvSpPr>
        <p:spPr>
          <a:xfrm>
            <a:off x="7812000" y="6021360"/>
            <a:ext cx="1081080" cy="836640"/>
          </a:xfrm>
          <a:custGeom>
            <a:avLst/>
            <a:gdLst>
              <a:gd name="textAreaLeft" fmla="*/ 54000 w 1081080"/>
              <a:gd name="textAreaRight" fmla="*/ 1027080 w 108108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7908" h="21600">
                <a:moveTo>
                  <a:pt x="0" y="0"/>
                </a:moveTo>
                <a:lnTo>
                  <a:pt x="27908" y="0"/>
                </a:lnTo>
                <a:lnTo>
                  <a:pt x="27908" y="21600"/>
                </a:lnTo>
                <a:lnTo>
                  <a:pt x="0" y="21600"/>
                </a:lnTo>
                <a:close/>
              </a:path>
              <a:path fill="lightenLess" w="27908" h="21600">
                <a:moveTo>
                  <a:pt x="0" y="0"/>
                </a:moveTo>
                <a:lnTo>
                  <a:pt x="27908" y="0"/>
                </a:lnTo>
                <a:lnTo>
                  <a:pt x="26508" y="1400"/>
                </a:lnTo>
                <a:lnTo>
                  <a:pt x="1400" y="1400"/>
                </a:lnTo>
                <a:close/>
              </a:path>
              <a:path fill="darken" w="27908" h="21600">
                <a:moveTo>
                  <a:pt x="27908" y="0"/>
                </a:moveTo>
                <a:lnTo>
                  <a:pt x="27908" y="21600"/>
                </a:lnTo>
                <a:lnTo>
                  <a:pt x="26508" y="20200"/>
                </a:lnTo>
                <a:lnTo>
                  <a:pt x="26508" y="1400"/>
                </a:lnTo>
                <a:close/>
              </a:path>
              <a:path fill="darkenLess" w="27908" h="21600">
                <a:moveTo>
                  <a:pt x="27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8" y="20200"/>
                </a:lnTo>
                <a:close/>
              </a:path>
              <a:path fill="lighten" w="27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8" h="21600">
                <a:moveTo>
                  <a:pt x="10455" y="10800"/>
                </a:moveTo>
                <a:lnTo>
                  <a:pt x="20961" y="3794"/>
                </a:lnTo>
                <a:lnTo>
                  <a:pt x="20961" y="17806"/>
                </a:lnTo>
                <a:close/>
              </a:path>
              <a:path fill="darken" w="27908" h="21600">
                <a:moveTo>
                  <a:pt x="6948" y="3794"/>
                </a:moveTo>
                <a:lnTo>
                  <a:pt x="8610" y="3794"/>
                </a:lnTo>
                <a:lnTo>
                  <a:pt x="8610" y="17806"/>
                </a:lnTo>
                <a:lnTo>
                  <a:pt x="6948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Comic Sans MS"/>
              </a:rPr>
              <a:t>对分科、分班的理解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8064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尊重小孩的选择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了解小孩在校的学习情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了解高考、就业、工作等情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分科分班不是填志愿，要速战速决．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>
            <a:hlinkClick r:id="rId1" action="ppaction://hlinksldjump"/>
          </p:cNvPr>
          <p:cNvSpPr/>
          <p:nvPr/>
        </p:nvSpPr>
        <p:spPr>
          <a:xfrm>
            <a:off x="7093080" y="5661000"/>
            <a:ext cx="1582560" cy="936720"/>
          </a:xfrm>
          <a:custGeom>
            <a:avLst/>
            <a:gdLst>
              <a:gd name="textAreaLeft" fmla="*/ 60480 w 1582560"/>
              <a:gd name="textAreaRight" fmla="*/ 1522080 w 15825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6487" h="21600">
                <a:moveTo>
                  <a:pt x="0" y="0"/>
                </a:moveTo>
                <a:lnTo>
                  <a:pt x="36487" y="0"/>
                </a:lnTo>
                <a:lnTo>
                  <a:pt x="36487" y="21600"/>
                </a:lnTo>
                <a:lnTo>
                  <a:pt x="0" y="21600"/>
                </a:lnTo>
                <a:close/>
              </a:path>
              <a:path fill="lightenLess" w="36487" h="21600">
                <a:moveTo>
                  <a:pt x="0" y="0"/>
                </a:moveTo>
                <a:lnTo>
                  <a:pt x="36487" y="0"/>
                </a:lnTo>
                <a:lnTo>
                  <a:pt x="35087" y="1400"/>
                </a:lnTo>
                <a:lnTo>
                  <a:pt x="1400" y="1400"/>
                </a:lnTo>
                <a:close/>
              </a:path>
              <a:path fill="darken" w="36487" h="21600">
                <a:moveTo>
                  <a:pt x="36487" y="0"/>
                </a:moveTo>
                <a:lnTo>
                  <a:pt x="36487" y="21600"/>
                </a:lnTo>
                <a:lnTo>
                  <a:pt x="35087" y="20200"/>
                </a:lnTo>
                <a:lnTo>
                  <a:pt x="35087" y="1400"/>
                </a:lnTo>
                <a:close/>
              </a:path>
              <a:path fill="darkenLess" w="36487" h="21600">
                <a:moveTo>
                  <a:pt x="36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087" y="20200"/>
                </a:lnTo>
                <a:close/>
              </a:path>
              <a:path fill="lighten" w="36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487" h="21600">
                <a:moveTo>
                  <a:pt x="14745" y="10800"/>
                </a:moveTo>
                <a:lnTo>
                  <a:pt x="25250" y="3794"/>
                </a:lnTo>
                <a:lnTo>
                  <a:pt x="25250" y="17806"/>
                </a:lnTo>
                <a:close/>
              </a:path>
              <a:path fill="darken" w="36487" h="21600">
                <a:moveTo>
                  <a:pt x="11237" y="3794"/>
                </a:moveTo>
                <a:lnTo>
                  <a:pt x="12899" y="3794"/>
                </a:lnTo>
                <a:lnTo>
                  <a:pt x="12899" y="17806"/>
                </a:lnTo>
                <a:lnTo>
                  <a:pt x="1123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Comic Sans MS"/>
              </a:rPr>
              <a:t>对学生分科的建议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560" y="620280"/>
            <a:ext cx="80629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建议以下同学选文科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395280" y="1413000"/>
          <a:ext cx="8424360" cy="4968360"/>
        </p:xfrm>
        <a:graphic>
          <a:graphicData uri="http://schemas.openxmlformats.org/drawingml/2006/table">
            <a:tbl>
              <a:tblPr/>
              <a:tblGrid>
                <a:gridCol w="2107080"/>
                <a:gridCol w="2106000"/>
                <a:gridCol w="2104200"/>
                <a:gridCol w="2107080"/>
              </a:tblGrid>
              <a:tr h="58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葛加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钱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美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国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韩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邵富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小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林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胡荣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邵雪诚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刘树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梦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黄厚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沈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刘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居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施玮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陆冬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杨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瞿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孟子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梦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长会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潘瀚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章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飞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潘阳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周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1992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Comic Sans MS"/>
              </a:rPr>
              <a:t>两点请求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今天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12:00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之前将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1" lang="zh-CN" sz="6000" spc="-1" strike="noStrike">
                <a:solidFill>
                  <a:srgbClr val="ff0000"/>
                </a:solidFill>
                <a:latin typeface="Comic Sans MS"/>
              </a:rPr>
              <a:t>意向表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交我处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今天中午必须全部离开学校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66ff"/>
                </a:solidFill>
                <a:latin typeface="Times New Roman"/>
              </a:rPr>
              <a:t>感谢您的指导，孩子的进步是我们</a:t>
            </a: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共同的心愿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-73080"/>
            <a:ext cx="9144000" cy="67024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0" y="0"/>
            <a:ext cx="9144000" cy="65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祝每一个家庭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　　　合家欢乐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　　　新春愉快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祝你们的孩子，我们的学生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健康成长、考上大学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-612720" y="0"/>
            <a:ext cx="975672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-468360" y="4710240"/>
            <a:ext cx="92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淮安中学高一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(30)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班  </a:t>
            </a: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张正飞   </a:t>
            </a: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006. 1</a:t>
            </a: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．</a:t>
            </a: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</a:t>
            </a: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755640" y="836640"/>
            <a:ext cx="734544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820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、听广播会，了解分科分班、学分知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2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、几个通知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和一个解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3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、期末考试成绩简单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4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、高一（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30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）第一学期评优情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5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、对分科、分班的理解和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6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、对学生分科的建议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00000" y="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高一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(30)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班家长会议程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971640" y="1628640"/>
            <a:ext cx="770400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１、几个通知和一个解释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893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放假时间：今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开学时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（正月初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开学相关费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机费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      、自行车管理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住宿、水电费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（住校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合计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56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元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/37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放假期间能够督促小孩按照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“告家长书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求去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请各位家长在成绩报告单上写好家长意见，开学一定让小孩带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６、成绩解释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６、成绩解释：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Arial"/>
              </a:rPr>
              <a:t>学期成绩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期中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0%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期末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平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0%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次月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态度守纪作业尊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其他：由各任课教师打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1" action="ppaction://hlinksldjump"/>
          </p:cNvPr>
          <p:cNvSpPr/>
          <p:nvPr/>
        </p:nvSpPr>
        <p:spPr>
          <a:xfrm>
            <a:off x="8028000" y="5950080"/>
            <a:ext cx="1116000" cy="907920"/>
          </a:xfrm>
          <a:custGeom>
            <a:avLst/>
            <a:gdLst>
              <a:gd name="textAreaLeft" fmla="*/ 58680 w 1116000"/>
              <a:gd name="textAreaRight" fmla="*/ 1057320 w 111600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6548" h="21600">
                <a:moveTo>
                  <a:pt x="0" y="0"/>
                </a:moveTo>
                <a:lnTo>
                  <a:pt x="26548" y="0"/>
                </a:lnTo>
                <a:lnTo>
                  <a:pt x="26548" y="21600"/>
                </a:lnTo>
                <a:lnTo>
                  <a:pt x="0" y="21600"/>
                </a:lnTo>
                <a:close/>
              </a:path>
              <a:path fill="lightenLess" w="26548" h="21600">
                <a:moveTo>
                  <a:pt x="0" y="0"/>
                </a:moveTo>
                <a:lnTo>
                  <a:pt x="26548" y="0"/>
                </a:lnTo>
                <a:lnTo>
                  <a:pt x="25148" y="1400"/>
                </a:lnTo>
                <a:lnTo>
                  <a:pt x="1400" y="1400"/>
                </a:lnTo>
                <a:close/>
              </a:path>
              <a:path fill="darken" w="26548" h="21600">
                <a:moveTo>
                  <a:pt x="26548" y="0"/>
                </a:moveTo>
                <a:lnTo>
                  <a:pt x="26548" y="21600"/>
                </a:lnTo>
                <a:lnTo>
                  <a:pt x="25148" y="20200"/>
                </a:lnTo>
                <a:lnTo>
                  <a:pt x="25148" y="1400"/>
                </a:lnTo>
                <a:close/>
              </a:path>
              <a:path fill="darkenLess" w="26548" h="21600">
                <a:moveTo>
                  <a:pt x="265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48" y="20200"/>
                </a:lnTo>
                <a:close/>
              </a:path>
              <a:path fill="lighten" w="265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48" h="21600">
                <a:moveTo>
                  <a:pt x="9775" y="10800"/>
                </a:moveTo>
                <a:lnTo>
                  <a:pt x="20281" y="3794"/>
                </a:lnTo>
                <a:lnTo>
                  <a:pt x="20281" y="17806"/>
                </a:lnTo>
                <a:close/>
              </a:path>
              <a:path fill="darken" w="26548" h="21600">
                <a:moveTo>
                  <a:pt x="6268" y="3794"/>
                </a:moveTo>
                <a:lnTo>
                  <a:pt x="7930" y="3794"/>
                </a:lnTo>
                <a:lnTo>
                  <a:pt x="7930" y="17806"/>
                </a:lnTo>
                <a:lnTo>
                  <a:pt x="62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68360" y="549360"/>
            <a:ext cx="820908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2</a:t>
            </a:r>
            <a:r>
              <a:rPr b="0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、期末考试成绩分析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3" name=""/>
          <p:cNvSpPr/>
          <p:nvPr/>
        </p:nvSpPr>
        <p:spPr>
          <a:xfrm>
            <a:off x="2268360" y="4724280"/>
            <a:ext cx="56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见桌上四次成绩比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1" action="ppaction://hlinksldjump"/>
          </p:cNvPr>
          <p:cNvSpPr/>
          <p:nvPr/>
        </p:nvSpPr>
        <p:spPr>
          <a:xfrm>
            <a:off x="7596360" y="5734080"/>
            <a:ext cx="1547640" cy="1123920"/>
          </a:xfrm>
          <a:custGeom>
            <a:avLst/>
            <a:gdLst>
              <a:gd name="textAreaLeft" fmla="*/ 72720 w 1547640"/>
              <a:gd name="textAreaRight" fmla="*/ 1474920 w 1547640"/>
              <a:gd name="textAreaTop" fmla="*/ 72720 h 1123920"/>
              <a:gd name="textAreaBottom" fmla="*/ 1051200 h 1123920"/>
            </a:gdLst>
            <a:ahLst/>
            <a:rect l="textAreaLeft" t="textAreaTop" r="textAreaRight" b="textAreaBottom"/>
            <a:pathLst>
              <a:path w="29741" h="21600">
                <a:moveTo>
                  <a:pt x="0" y="0"/>
                </a:moveTo>
                <a:lnTo>
                  <a:pt x="29741" y="0"/>
                </a:lnTo>
                <a:lnTo>
                  <a:pt x="29741" y="21600"/>
                </a:lnTo>
                <a:lnTo>
                  <a:pt x="0" y="21600"/>
                </a:lnTo>
                <a:close/>
              </a:path>
              <a:path fill="lightenLess" w="29741" h="21600">
                <a:moveTo>
                  <a:pt x="0" y="0"/>
                </a:moveTo>
                <a:lnTo>
                  <a:pt x="29741" y="0"/>
                </a:lnTo>
                <a:lnTo>
                  <a:pt x="28341" y="1400"/>
                </a:lnTo>
                <a:lnTo>
                  <a:pt x="1400" y="1400"/>
                </a:lnTo>
                <a:close/>
              </a:path>
              <a:path fill="darken" w="29741" h="21600">
                <a:moveTo>
                  <a:pt x="29741" y="0"/>
                </a:moveTo>
                <a:lnTo>
                  <a:pt x="29741" y="21600"/>
                </a:lnTo>
                <a:lnTo>
                  <a:pt x="28341" y="20200"/>
                </a:lnTo>
                <a:lnTo>
                  <a:pt x="28341" y="1400"/>
                </a:lnTo>
                <a:close/>
              </a:path>
              <a:path fill="darkenLess" w="29741" h="21600">
                <a:moveTo>
                  <a:pt x="29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41" y="20200"/>
                </a:lnTo>
                <a:close/>
              </a:path>
              <a:path fill="lighten" w="29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41" h="21600">
                <a:moveTo>
                  <a:pt x="11371" y="10800"/>
                </a:moveTo>
                <a:lnTo>
                  <a:pt x="21877" y="3794"/>
                </a:lnTo>
                <a:lnTo>
                  <a:pt x="21877" y="17806"/>
                </a:lnTo>
                <a:close/>
              </a:path>
              <a:path fill="darken" w="29741" h="21600">
                <a:moveTo>
                  <a:pt x="7864" y="3794"/>
                </a:moveTo>
                <a:lnTo>
                  <a:pt x="9526" y="3794"/>
                </a:lnTo>
                <a:lnTo>
                  <a:pt x="9526" y="17806"/>
                </a:lnTo>
                <a:lnTo>
                  <a:pt x="786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4000" y="1268280"/>
            <a:ext cx="835164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３、高一（</a:t>
            </a: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30</a:t>
            </a:r>
            <a:r>
              <a:rPr b="0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）第一学期评优情况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6" name=""/>
          <p:cNvSpPr/>
          <p:nvPr/>
        </p:nvSpPr>
        <p:spPr>
          <a:xfrm>
            <a:off x="2050920" y="4581360"/>
            <a:ext cx="58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下面是您的骄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43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200"/>
                </a:solidFill>
                <a:latin typeface="Comic Sans MS"/>
              </a:rPr>
              <a:t>优秀学生干部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769608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omic Sans MS"/>
              </a:rPr>
              <a:t>李小龙、王飞龙、王凯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"/>
          <p:cNvSpPr/>
          <p:nvPr/>
        </p:nvSpPr>
        <p:spPr>
          <a:xfrm>
            <a:off x="395280" y="213372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200"/>
                </a:solidFill>
                <a:latin typeface="Arial"/>
              </a:rPr>
              <a:t>单项标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635280" y="2133720"/>
            <a:ext cx="27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王　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59760" y="31417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200"/>
                </a:solidFill>
                <a:latin typeface="Arial"/>
              </a:rPr>
              <a:t>优秀小组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126320" y="321300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王国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下面是你的骄傲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684360" y="1557360"/>
          <a:ext cx="7697520" cy="4614840"/>
        </p:xfrm>
        <a:graphic>
          <a:graphicData uri="http://schemas.openxmlformats.org/drawingml/2006/table">
            <a:tbl>
              <a:tblPr/>
              <a:tblGrid>
                <a:gridCol w="1935000"/>
                <a:gridCol w="3614760"/>
                <a:gridCol w="2147760"/>
              </a:tblGrid>
              <a:tr h="759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序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姓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学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吕建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5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吴爱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杜文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1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赵旭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2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杨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郭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3132000" y="69228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200"/>
                </a:solidFill>
                <a:latin typeface="Arial"/>
              </a:rPr>
              <a:t>三好学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1T07:35:4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1:47:26Z</dcterms:modified>
  <cp:revision>155</cp:revision>
  <dc:subject>主题班会课件(分28大类): http://shop62905894.taobao.com</dc:subject>
  <dc:title>主题班会课件(分28大类): http://shop62905894.taobao.com</dc:title>
</cp:coreProperties>
</file>