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3.jpeg" ContentType="image/jpeg"/>
  <Override PartName="/ppt/media/image8.jpeg" ContentType="image/jpeg"/>
  <Override PartName="/ppt/media/image6.png" ContentType="image/png"/>
  <Override PartName="/ppt/media/image3.gif" ContentType="image/gif"/>
  <Override PartName="/ppt/media/image9.png" ContentType="image/png"/>
  <Override PartName="/ppt/media/image5.gif" ContentType="image/gif"/>
  <Override PartName="/ppt/media/image21.gif" ContentType="image/gif"/>
  <Override PartName="/ppt/media/image17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9.png" ContentType="image/png"/>
  <Override PartName="/ppt/media/image16.gif" ContentType="image/gif"/>
  <Override PartName="/ppt/media/image4.jpeg" ContentType="image/jpeg"/>
  <Override PartName="/ppt/media/image2.png" ContentType="image/png"/>
  <Override PartName="/ppt/media/image15.png" ContentType="image/png"/>
  <Override PartName="/ppt/media/image1.gif" ContentType="image/gif"/>
  <Override PartName="/ppt/media/image10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C47-68EF-4905-AA2C-F4F65744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C49-0611-4327-B6D5-734BB95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3D5-D282-4434-BA82-A1ED004F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830-CD55-40C4-B286-2E3A7F9B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0BB43-680E-46D7-B4EA-4A825F42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968CA-3ACF-4279-87F0-CDBC5AF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0C559-4AA9-45F3-80A4-03186A2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114E7-20DA-4886-A184-F06B7885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4C1D9-4B69-480B-9FE9-5BE25B4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9FDB0-564E-49FD-9D82-D4E8B818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C38C4-A58D-4CA9-97BC-17CEDFD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410-C423-4C67-843C-B5FAD887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A61E-D73C-480C-BA9B-52D600C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D62FA-5512-4102-9F7D-503A17B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0DC5B-D068-4416-971C-A583B41D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6F36D-60A4-4D2F-B9E6-38A9AF91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F1E23-5467-4C99-96F4-99F2364A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C6F-9E2C-4E3F-94C8-2A3979EF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B74-8B9D-4497-A732-2BBDC69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B9E-E2A6-46A2-95C1-046E087B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A4C-1BF2-4B4E-9839-8A30B52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B30-6CAE-4635-82B6-057F25D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0AF-9512-48F1-BE44-CFBF06F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A17-B12E-408E-A762-EE1988CD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33CA-5125-40DC-8CA7-21A3DC52BAF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1EA-0DC0-4207-B961-6E808557B3B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7960" y="5722920"/>
            <a:ext cx="968400" cy="1306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746280" cy="100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771640" y="5734080"/>
            <a:ext cx="79236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54720" y="6012000"/>
            <a:ext cx="702000" cy="946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564000" y="5950080"/>
            <a:ext cx="8636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284720" y="5803920"/>
            <a:ext cx="1008000" cy="1225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1201680" y="5589720"/>
            <a:ext cx="1066680" cy="143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526080" y="5805360"/>
            <a:ext cx="854280" cy="11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5932440" y="5877000"/>
            <a:ext cx="800280" cy="108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778880" y="5940360"/>
            <a:ext cx="7538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-108000" y="5734080"/>
            <a:ext cx="906480" cy="1224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5607000" y="6021360"/>
            <a:ext cx="69372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179800" y="5938920"/>
            <a:ext cx="807840" cy="10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5148360" y="6022800"/>
            <a:ext cx="647640" cy="93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476360" y="1413000"/>
            <a:ext cx="59180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欢迎各位家长们的莅临指导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5"/>
          <a:stretch/>
        </p:blipFill>
        <p:spPr>
          <a:xfrm>
            <a:off x="883908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5" dur="10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8000" y="115920"/>
            <a:ext cx="188892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24000" y="108000"/>
            <a:ext cx="2960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在何方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06760" y="1844640"/>
            <a:ext cx="36208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拼搏 寻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56000" y="3780000"/>
            <a:ext cx="547200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MingLiU"/>
              </a:rPr>
              <a:t>No pains, no gains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MingLiU"/>
              <a:ea typeface="PMingLiU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168720" y="5734080"/>
            <a:ext cx="5940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92160" y="115920"/>
            <a:ext cx="38322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女生小合唱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451320" y="2266920"/>
            <a:ext cx="515304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＜＜明天会更好＞＞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16000" y="36925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表演者：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02000" y="3692520"/>
            <a:ext cx="455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陈佳佳　缪丹丹　梅春霞　江　丽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327480" y="4365720"/>
            <a:ext cx="3405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韩　辉　谢　倩　雍雅洁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-36360" y="44280"/>
            <a:ext cx="34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教师赠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8080" y="1474920"/>
            <a:ext cx="7334280" cy="13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努力拼搏　永不言败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 rot="20887200">
            <a:off x="1116000" y="3564000"/>
            <a:ext cx="669600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明天会更好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56000" y="2205000"/>
            <a:ext cx="3960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6021360"/>
            <a:ext cx="604836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332000" y="476280"/>
            <a:ext cx="662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隶书"/>
              </a:rPr>
              <a:t>路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隶书"/>
              </a:rPr>
              <a:t>,</a:t>
            </a: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隶书"/>
              </a:rPr>
              <a:t>在我脚下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隶书"/>
              </a:rPr>
              <a:t>!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隶书"/>
              <a:ea typeface="隶书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9144000" y="606276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067280" y="3141720"/>
            <a:ext cx="41148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－－－高二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(10)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659640" y="3357720"/>
            <a:ext cx="2484360" cy="24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 rot="363000">
            <a:off x="1618920" y="2491920"/>
            <a:ext cx="1409760" cy="280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 rot="232800">
            <a:off x="1332000" y="2565000"/>
            <a:ext cx="1409760" cy="2809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 rot="21164400">
            <a:off x="1187280" y="2421000"/>
            <a:ext cx="1409760" cy="280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 rot="19945800">
            <a:off x="858600" y="2923920"/>
            <a:ext cx="1409400" cy="223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 rot="480600">
            <a:off x="1763280" y="2997000"/>
            <a:ext cx="1409760" cy="2160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51445E-007 L 2.07101 7.51445E-007 E">
                                      <p:cBhvr>
                                        <p:cTn id="26" dur="20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animClr clrSpc="rgb">
                                      <p:cBhvr>
                                        <p:cTn id="32" dur="10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33" dur="10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8000" y="189000"/>
            <a:ext cx="4681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歌曲欣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87640" y="2421000"/>
            <a:ext cx="51134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&lt;&lt;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蜗牛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&gt;&gt;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4437000"/>
            <a:ext cx="30099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表演者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: </a:t>
            </a:r>
            <a:r>
              <a:rPr b="0" i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雍雅洁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1189080" y="1844640"/>
          <a:ext cx="60012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9080" y="1844640"/>
                    <a:ext cx="600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267 0.56277 C -0.58976 0.55144 -0.57135 0.55144 -0.54618 0.55005 C -0.53003 0.54474 -0.55312 0.55213 -0.52535 0.54566 C -0.51319 0.54289 -0.50104 0.53872 -0.48889 0.53526 C -0.47101 0.52994 -0.4526 0.52716 -0.43489 0.52046 C -0.41059 0.51144 -0.38646 0.50289 -0.36198 0.49479 C -0.32656 0.48346 -0.29167 0.4689 -0.25555 0.46104 C -0.24913 0.45803 -0.23767 0.45549 -0.23177 0.4504 C -0.22552 0.44508 -0.22882 0.44716 -0.22222 0.44416 C -0.21684 0.43653 -0.20746 0.4326 -0.2 0.42936 C -0.18576 0.42312 -0.17135 0.4178 -0.15712 0.41248 C -0.14531 0.40763 -0.13542 0.3963 -0.12378 0.39121 C -0.11007 0.37895 -0.09097 0.37549 -0.07465 0.37248 C -0.06632 0.36855 -0.05764 0.36693 -0.04913 0.36369 C -0.03437 0.35791 -0.01979 0.35237 -0.00469 0.34913 C 0.02066 0.3378 0.06302 0.34474 0.09202 0.34289 C 0.10261 0.33803 0.11528 0.33664 0.12535 0.32994 C 0.12708 0.32901 0.12847 0.3267 0.13021 0.32601 C 0.1382 0.32115 0.14757 0.32161 0.15556 0.31722 C 0.16684 0.31098 0.17726 0.3015 0.18889 0.29641 C 0.19566 0.2867 0.18785 0.29641 0.19688 0.28971 C 0.2033 0.28531 0.20764 0.27791 0.21424 0.27514 C 0.21528 0.27352 0.21632 0.27213 0.21754 0.27075 C 0.21945 0.26913 0.22205 0.2689 0.22379 0.26659 C 0.23316 0.25595 0.22031 0.26312 0.23177 0.25826 C 0.23542 0.25086 0.23663 0.24809 0.24288 0.24554 C 0.25104 0.23815 0.25712 0.22635 0.26667 0.22242 C 0.2724 0.21433 0.27813 0.2067 0.2842 0.19884 C 0.28698 0.18797 0.29358 0.18242 0.29844 0.17364 C 0.3007 0.16924 0.30261 0.16485 0.30469 0.16092 C 0.30851 0.15329 0.30868 0.14335 0.31267 0.13572 C 0.31441 0.12832 0.31563 0.12138 0.31754 0.11445 C 0.31875 0.1045 0.32049 0.09641 0.32222 0.08693 C 0.32882 0.00763 0.3257 0.00508 0.32379 -0.12648 C 0.32344 -0.15168 0.32327 -0.18174 0.31424 -0.20463 C 0.31181 -0.21827 0.30695 -0.22567 0.29688 -0.23006 C 0.29236 -0.23584 0.28629 -0.2407 0.28247 -0.24694 C 0.27379 -0.26128 0.28542 -0.24463 0.27622 -0.26174 C 0.27483 -0.26428 0.27274 -0.2659 0.27136 -0.26821 C 0.26858 -0.27284 0.26354 -0.28301 0.26354 -0.28301 C 0.26163 -0.29041 0.25903 -0.2918 0.25556 -0.29781 C 0.24983 -0.30798 0.24896 -0.31214 0.24132 -0.31885 C 0.23542 -0.32995 0.22413 -0.34012 0.21424 -0.34428 C 0.20695 -0.35076 0.20261 -0.35099 0.19358 -0.35261 C 0.07917 -0.35122 0.07361 -0.35723 0.00469 -0.34428 C -0.01094 -0.33735 -0.02726 -0.33573 -0.04288 -0.32948 C -0.07483 -0.31654 -0.10764 -0.30821 -0.13976 -0.2955 C -0.15382 -0.28995 -0.16823 -0.2874 -0.18246 -0.28301 C -0.18819 -0.28116 -0.19271 -0.27908 -0.19844 -0.27654 C -0.20156 -0.27515 -0.20798 -0.27237 -0.20798 -0.27237 C -0.21667 -0.26474 -0.22656 -0.26313 -0.23646 -0.25966 C -0.24062 -0.25804 -0.24913 -0.2555 -0.24913 -0.2555 C -0.25069 -0.25411 -0.25226 -0.25226 -0.25399 -0.2511 C -0.25712 -0.24925 -0.26354 -0.24694 -0.26354 -0.24694 C -0.26788 -0.23839 -0.27014 -0.24139 -0.27465 -0.23422 C -0.27864 -0.22798 -0.28125 -0.22128 -0.28576 -0.21526 C -0.28923 -0.19654 -0.28489 -0.21688 -0.29045 -0.19839 C -0.29167 -0.19422 -0.29358 -0.18567 -0.29358 -0.18567 C -0.29288 -0.15769 -0.29722 -0.13249 -0.28576 -0.10983 C -0.28524 -0.10752 -0.28507 -0.10498 -0.2842 -0.10313 C -0.28194 -0.09827 -0.26389 -0.08255 -0.25868 -0.08 C -0.25712 -0.07815 -0.2559 -0.07538 -0.25399 -0.07376 C -0.2526 -0.07237 -0.25052 -0.07307 -0.24913 -0.07145 C -0.24757 -0.06983 -0.24739 -0.06706 -0.24601 -0.06521 C -0.24114 -0.05896 -0.23351 -0.0548 -0.22864 -0.04856 C -0.22517 -0.04394 -0.2158 -0.03977 -0.2158 -0.03977 C -0.20521 -0.03052 -0.19167 -0.02798 -0.17934 -0.02521 C -0.13298 -0.00463 -0.08298 -0.01226 -0.03489 -0.01041 C -0.02344 -0.00532 -0.01198 0.00023 -1.11111E-006 0.00023 E">
                                      <p:cBhvr>
                                        <p:cTn id="81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3 -0.01549 L 0.76268 0.01596 E">
                                      <p:cBhvr>
                                        <p:cTn id="83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0" y="0"/>
            <a:ext cx="4427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小品欣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58920" y="2627280"/>
            <a:ext cx="705816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&lt;&lt;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新版　　　　赛跑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&gt;&gt;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19640" y="2125800"/>
            <a:ext cx="1170000" cy="23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龟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716360" y="1874880"/>
            <a:ext cx="1096920" cy="25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兔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32000" y="484344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表演者：吴　昊　贾婷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7134120" y="0"/>
          <a:ext cx="2009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34120" y="0"/>
                    <a:ext cx="20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17236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34920" y="-27000"/>
            <a:ext cx="3887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诗朗诵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51280" y="2421000"/>
            <a:ext cx="474192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&lt;&lt;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路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&gt;&gt;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95640" y="37638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表演者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江 丽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6978600"/>
            <a:ext cx="4321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金色的林子里有两条岔开的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很遗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一个人过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没法同时踏上两条征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伫立了好久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向一条路尽头望去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直到它达弯视线被灌木丛挡阻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于是我选择了另一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这条也不差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也许我还能说出更好的理由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因为它绿草茸茸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还不曾被人们践踏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虽然说到这一点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一经我走过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同样难免把斑斑点点的足迹留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那天早晨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有两条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差无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都埋在还没踏上脚印的落叶底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把那第一条路保留给另一天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7010280"/>
            <a:ext cx="40672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可是我知道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一条路有接上另一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将来能否重回旧地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这就难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隔了多少岁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流逝了多少时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将叹一口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提起这当年的旧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林子里有两条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朝着两个方向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而我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走上一条更少人迹的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于是带来完全不同的一番景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8039160" y="5734080"/>
            <a:ext cx="1104840" cy="112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5434E-006 L -0.00781 -0.88116 E">
                                      <p:cBhvr>
                                        <p:cTn id="141" dur="10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11144 L 0.00607 -0.70659 E">
                                      <p:cBhvr>
                                        <p:cTn id="153" dur="10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0240" y="-27000"/>
            <a:ext cx="38941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演讲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030400" y="2205000"/>
            <a:ext cx="63579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&lt;&lt;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人生之路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要靠奋斗来开拓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&gt;&gt;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76560" y="3548160"/>
            <a:ext cx="3475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表演者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: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缪丹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667640" y="4508640"/>
            <a:ext cx="1476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4920" y="95400"/>
            <a:ext cx="2914560" cy="15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演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63640" y="2276640"/>
            <a:ext cx="6769080" cy="24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路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在脚下延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908000" y="505944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表演者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徐 惠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-108000" y="2278080"/>
            <a:ext cx="9109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 rot="471000">
            <a:off x="2268360" y="1370160"/>
            <a:ext cx="1171800" cy="61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0" y="0"/>
            <a:ext cx="428616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255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隶书"/>
              </a:rPr>
              <a:t>古筝独奏</a:t>
            </a:r>
            <a:endParaRPr b="1" i="1" lang="en-US" sz="4400" spc="1" strike="noStrike">
              <a:ln w="255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隶书"/>
              <a:ea typeface="隶书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635280" y="1836720"/>
            <a:ext cx="474984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&lt;&lt;</a:t>
            </a:r>
            <a:r>
              <a:rPr b="1" i="1" lang="zh-CN" sz="1800" spc="1" strike="noStrike">
                <a:ln w="255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渔舟唱晚</a:t>
            </a:r>
            <a:r>
              <a:rPr b="1" i="1" lang="en-US" sz="1800" spc="1" strike="noStrike">
                <a:ln w="255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&gt;&gt;</a:t>
            </a:r>
            <a:endParaRPr b="1" i="1" lang="en-US" sz="1800" spc="1" strike="noStrike">
              <a:ln w="255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03640" y="3860640"/>
            <a:ext cx="2810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表演者</a:t>
            </a:r>
            <a:r>
              <a:rPr b="1" i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:</a:t>
            </a:r>
            <a:r>
              <a:rPr b="1" i="1" lang="zh-CN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唐 寅</a:t>
            </a:r>
            <a:endParaRPr b="1" i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 rot="1012800">
            <a:off x="6134040" y="3141720"/>
            <a:ext cx="117468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4920" y="115920"/>
            <a:ext cx="314640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flash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欣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916360" y="2554200"/>
            <a:ext cx="363204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＜＜前行＞＞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0:32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45:31Z</dcterms:modified>
  <cp:revision>23</cp:revision>
  <dc:subject>主题班会课件(分28大类): http://shop62905894.taobao.com</dc:subject>
  <dc:title>主题班会课件(分28大类): http://shop62905894.taobao.com</dc:title>
</cp:coreProperties>
</file>