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drumroll.wav" ContentType="audio/x-wav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62E-F1E7-47C8-9F5B-FBAEE57B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6CB-3A9A-4F76-94E6-5318D50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41A-5D5C-40BE-9703-D1E106F5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67F-1D0A-438A-BE2C-6E1145E6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622-6388-48D4-B080-256D20A8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8A4-F072-46D9-A995-F6026C80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EA9-5B44-459E-AB60-2DD21034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515-2AD8-4B8F-BB0C-2F656BD3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803-8975-4740-B041-1D4A23E5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751-371D-482A-9C62-73B3C7FF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8B2-9C08-4B5F-96E7-6C48907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36A-6B85-47FF-8703-A34DFBF8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89BE-1399-484D-BF7E-BE29C7E7C7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2590920"/>
            <a:ext cx="83822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欢迎您的到来！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8380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7c80"/>
                </a:solidFill>
                <a:latin typeface="黑体"/>
              </a:rPr>
              <a:t>尊敬的各位家长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ff7c80"/>
              </a:solidFill>
              <a:latin typeface="黑体"/>
              <a:ea typeface="黑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5334120" cy="1335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236000" y="587700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23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期中考试以后令人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担忧的方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部分学生的学习主动性和自觉性不够强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如：背书要反复强调．作业虽然能够按时上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完成作业的质量不高，有些甚至以抄答案来应付交任务。目前已开始进入复习，学生的自觉性和主动性 尤为重要．预备铃教室不能安静下来，甚至个别同学还在走廊聊天。个别同学课堂存在爱出风头的现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２．少数同学的学习目的性欠明确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：有些同学到校比较早，但进教室后并非马上读书，而是聊天或坐着发呆，等老师来了才开始读．他们到现在还觉得为老师和家长而读．是父母和老师“要我读”，而不是“我要读”．学习缺乏主动性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３．有些学生的学习方法有待进一步的指导和提高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部分同学的偏科现象有待纠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．大部分同学心理素质问题有待家长和老师关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着中考的一天天接近，学生的心理负担越来越重，考试成绩不稳定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95640" y="476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幼圆"/>
                <a:ea typeface="幼圆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项征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405080"/>
            <a:ext cx="86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说谎话，黑话，脏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及喜欢说话时带有江湖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穿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穿制服时特别将胸前两个扣子解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型怪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身上有刺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有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较为标新立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为诡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敢让家人知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长时间反锁自己房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且神色紧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易于动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情绪极端变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与家人赌气或自暴自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620640"/>
            <a:ext cx="8893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早出晚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无端数日不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天蒙头大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黑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出去向不交代清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物品：有不良刊物、武器、药物、空胶罐、香烟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类，甚至不明巨款或当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业：一下子成绩一落千丈，经常迟到早退、逃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书时间骤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友：有社会人士的朋友，电话、书信量突增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朋友也不敢介绍给家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习惯：有吸烟喝酒习惯，生活不正常，用钱需求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所列举的特征与孩子的行为相似愈多，父母就应该愈加注意，愈早防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8244000" y="6021360"/>
            <a:ext cx="687240" cy="620640"/>
          </a:xfrm>
          <a:custGeom>
            <a:avLst/>
            <a:gdLst>
              <a:gd name="textAreaLeft" fmla="*/ 161280 w 687240"/>
              <a:gd name="textAreaRight" fmla="*/ 525240 w 687240"/>
              <a:gd name="textAreaTop" fmla="*/ 72720 h 620640"/>
              <a:gd name="textAreaBottom" fmla="*/ 389520 h 620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122d"/>
                </a:solidFill>
                <a:latin typeface="Times New Roman"/>
              </a:rPr>
              <a:t>需要注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1d0d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十问：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在外留宿。     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回家很迟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带同学住宿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打电话时间长，次数多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受伤回家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超消费要问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超出友谊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成绩突然下降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穿奇装异服，爱好打扮，沉默寡言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老是玩电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55120" y="222120"/>
            <a:ext cx="456984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半学期班级工作设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抓学风，促班风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家一起努力形成形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的学习氛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注意学生的思想变化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后进生给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多关心和帮助，促使其在学习和思想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能有较大转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联系家长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与家长相互沟通，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学习，生活情况。做到有问题及时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量为学生创造一个良好的竞争的学习环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劳逸结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学生把压力转变成动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愉快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efe8c"/>
                </a:solidFill>
                <a:latin typeface="Times New Roman"/>
                <a:ea typeface="华文行楷"/>
              </a:rPr>
              <a:t>生   地   会   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本届生地会考成绩是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纳入初三的升学成绩，尽管各占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分，共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80</a:t>
            </a: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分，但更注重基础知识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广度而不是深度。考试时间是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6</a:t>
            </a: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月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日下午。每科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40</a:t>
            </a: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如果一个孩子没有良好的家庭教育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8920" y="5300640"/>
            <a:ext cx="7086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著名教育家苏霍姆林斯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371600"/>
            <a:ext cx="7567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控制好上学放学时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间及业余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尤其是上网的时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12408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⒉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严格控制孩子的零花钱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衣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发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59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⒊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反对同学聚会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过生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6483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en-GB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双休日期间尽量少外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4864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⒌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了解孩子的交际圈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谁 特点 玩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04640"/>
            <a:ext cx="946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希望家长配合我做好以下工作</a:t>
            </a:r>
            <a:r>
              <a:rPr b="1" lang="en-US" sz="54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1484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帮孩子分析成绩，加强弱科的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314172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4221000"/>
            <a:ext cx="833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孩子面前对学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师的评价态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把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92428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孩子的作业希望家长多关注一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0440" y="404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本次期中考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1125360"/>
            <a:ext cx="72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学生成绩进步较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5084640"/>
            <a:ext cx="6529680" cy="1773360"/>
          </a:xfrm>
          <a:custGeom>
            <a:avLst/>
            <a:gdLst>
              <a:gd name="textAreaLeft" fmla="*/ 1632240 w 6529680"/>
              <a:gd name="textAreaRight" fmla="*/ 4897440 w 6529680"/>
              <a:gd name="textAreaTop" fmla="*/ 0 h 1773360"/>
              <a:gd name="textAreaBottom" fmla="*/ 1551960 h 1773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  <a:ea typeface="隶书"/>
              </a:rPr>
              <a:t>班级情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11280" y="476280"/>
            <a:ext cx="64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       </a:t>
            </a:r>
            <a:r>
              <a:rPr b="1" lang="zh-CN" sz="4800" spc="-1" strike="noStrike">
                <a:solidFill>
                  <a:srgbClr val="ff7c80"/>
                </a:solidFill>
                <a:latin typeface="Arial"/>
                <a:ea typeface="华文隶书"/>
              </a:rPr>
              <a:t>孩子是</a:t>
            </a:r>
            <a:r>
              <a:rPr b="1" lang="zh-CN" sz="4800" spc="-1" strike="noStrike">
                <a:solidFill>
                  <a:srgbClr val="ff7c80"/>
                </a:solidFill>
                <a:latin typeface="Times New Roman"/>
              </a:rPr>
              <a:t>我们每一个家庭的寄托。更是</a:t>
            </a:r>
            <a:r>
              <a:rPr b="1" lang="zh-CN" sz="4800" spc="-1" strike="noStrike">
                <a:solidFill>
                  <a:srgbClr val="ff7c80"/>
                </a:solidFill>
                <a:latin typeface="Arial"/>
                <a:ea typeface="华文隶书"/>
              </a:rPr>
              <a:t>祖国的未来，民族的希望，在此衷心祝愿我们每一个孩子健康成长，每一个家庭幸福平安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52108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7800" y="990720"/>
            <a:ext cx="818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2205000"/>
            <a:ext cx="545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5084640"/>
            <a:ext cx="75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经常联系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85264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Arial"/>
                <a:ea typeface="黑体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任课教师联络方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班主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语文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（董）：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1395221367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数学（顾）：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139522129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英语（李）：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138153663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物理（任）：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3775900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6920" y="1197000"/>
            <a:ext cx="75376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847"/>
                <a:gd name="adj2" fmla="val -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cc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为了孩子的明天，我们共同努力！</a:t>
            </a:r>
            <a:endParaRPr b="1" lang="en-US" sz="2400" spc="1" strike="noStrike">
              <a:ln w="22320">
                <a:solidFill>
                  <a:srgbClr val="ff0000"/>
                </a:solidFill>
                <a:miter/>
              </a:ln>
              <a:solidFill>
                <a:srgbClr val="cc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08720" y="5518080"/>
            <a:ext cx="5209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5554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609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90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05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27160" y="5530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73080" y="0"/>
            <a:ext cx="10656720" cy="67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全班前十名的同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 李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  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梁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吴文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李令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吕景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张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 翟明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丁磊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4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许亚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9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孙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2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王胜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2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王圣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5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魏文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9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8200" y="0"/>
            <a:ext cx="3025800" cy="1800360"/>
          </a:xfrm>
          <a:custGeom>
            <a:avLst/>
            <a:gdLst>
              <a:gd name="textAreaLeft" fmla="*/ 711000 w 3025800"/>
              <a:gd name="textAreaRight" fmla="*/ 2312640 w 3025800"/>
              <a:gd name="textAreaTop" fmla="*/ 211680 h 1800360"/>
              <a:gd name="textAreaBottom" fmla="*/ 1129320 h 18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39636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单科第一名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 孙雨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年级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 李帅、吴文锦、张冰、翟明明、丁磊磊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 李令环、王圣营、马贝贝、王清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级第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  梁雪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 年级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理  李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 年级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政治  吕景琦、张冰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柳雅馨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 年级第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历史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丁磊磊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年级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地理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帅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年级第一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物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帅、李令环、王胜胜、吴冉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年级第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60280"/>
            <a:ext cx="2286000" cy="1424160"/>
          </a:xfrm>
          <a:custGeom>
            <a:avLst/>
            <a:gdLst>
              <a:gd name="textAreaLeft" fmla="*/ 537120 w 2286000"/>
              <a:gd name="textAreaRight" fmla="*/ 1747080 w 2286000"/>
              <a:gd name="textAreaTop" fmla="*/ 167400 h 1424160"/>
              <a:gd name="textAreaBottom" fmla="*/ 893520 h 1424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36600" y="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本次考试的进步之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907920"/>
            <a:ext cx="813744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吴文锦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8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吕景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3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许亚群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33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孙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2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魏文远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18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王玉龙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6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马贝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45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宁权权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34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樊凯旋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2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史川云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2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王梦晴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2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张朝财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1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李龙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26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岳如梦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郑爱莹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418           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谢宏迪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丁小琴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季恒恒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张中可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26360" y="-243000"/>
            <a:ext cx="2717640" cy="1784520"/>
          </a:xfrm>
          <a:custGeom>
            <a:avLst/>
            <a:gdLst>
              <a:gd name="textAreaLeft" fmla="*/ 638640 w 2717640"/>
              <a:gd name="textAreaRight" fmla="*/ 2077200 w 2717640"/>
              <a:gd name="textAreaTop" fmla="*/ 209520 h 1784520"/>
              <a:gd name="textAreaBottom" fmla="*/ 1119240 h 1784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27640" y="1413000"/>
            <a:ext cx="201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语文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0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数学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8.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英语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7.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物理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地理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2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生物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5.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政治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   54.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历史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   5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762120"/>
            <a:ext cx="106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6560" y="54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各科平均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68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1280" y="923760"/>
            <a:ext cx="907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力所能及的事，积极完成；力所不能及尽自己努力完成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组织节目；积极参加或做后勤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积极参加课外活动比赛，为班增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好自己的职责（卫生、纪律、两操。仪表。黑板报。宿舍内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宿舍纪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明就餐八项检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学习上能帮助同学的尽量帮助，多为班出谋献策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遵规守纪，认真做好每一件事，使班集体不会因为我而扣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更好发挥带头作用，敢为人先，带动班集体积极向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互相帮助，共同进步，形成团结友爱的班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帮助老师搞好同学们的英语学习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工作认真，任劳任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各室室长，督促同学们做好宿舍内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89000"/>
            <a:ext cx="6080040" cy="642600"/>
            <a:chOff x="324000" y="189000"/>
            <a:chExt cx="6080040" cy="642600"/>
          </a:xfrm>
        </p:grpSpPr>
        <p:sp>
          <p:nvSpPr>
            <p:cNvPr id="73" name=""/>
            <p:cNvSpPr/>
            <p:nvPr/>
          </p:nvSpPr>
          <p:spPr>
            <a:xfrm>
              <a:off x="1042920" y="189000"/>
              <a:ext cx="53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人人有事做，事事有人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24000" y="280800"/>
              <a:ext cx="647640" cy="47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44360"/>
            <a:ext cx="9540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班级存在的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个别学生自我约束能力不够，易受影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学生思想上有放松现象，出现畏难情绪，信心不够坚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有个别同学不能合理安排学习时间，晚上睡得晚导致上课打瞌睡，影响课堂效果；有的同学想提高成绩，但方法不对又不积极主动问老师和同学，时间一长就有放弃的心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1557360"/>
            <a:ext cx="734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竞争意识不强，时间观念较差，迟到现象严重。尤其是中层的学生自我满足，部分学生成绩波动较大，偏科现象较突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00:59Z</dcterms:modified>
  <cp:revision>100</cp:revision>
  <dc:subject>主题班会课件(分28大类): http://shop62905894.taobao.com</dc:subject>
  <dc:title>主题班会课件(分28大类): http://shop62905894.taobao.com</dc:title>
</cp:coreProperties>
</file>