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23.gif" ContentType="image/gif"/>
  <Override PartName="/ppt/media/image17.jpeg" ContentType="image/jpeg"/>
  <Override PartName="/ppt/media/image16.jpeg" ContentType="image/jpeg"/>
  <Override PartName="/ppt/media/image39.gif" ContentType="image/gif"/>
  <Override PartName="/ppt/media/image24.jpeg" ContentType="image/jpeg"/>
  <Override PartName="/ppt/media/projctor.wav" ContentType="audio/x-wav"/>
  <Override PartName="/ppt/media/image15.png" ContentType="image/png"/>
  <Override PartName="/ppt/media/image14.png" ContentType="image/png"/>
  <Override PartName="/ppt/media/image1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3.jpeg" ContentType="image/jpeg"/>
  <Override PartName="/ppt/media/image7.gif" ContentType="image/gif"/>
  <Override PartName="/ppt/media/image29.jpeg" ContentType="image/jpeg"/>
  <Override PartName="/ppt/media/image2.gif" ContentType="image/gif"/>
  <Override PartName="/ppt/media/image34.jpeg" ContentType="image/jpeg"/>
  <Override PartName="/ppt/media/image37.png" ContentType="image/png"/>
  <Override PartName="/ppt/media/image38.gif" ContentType="image/gif"/>
  <Override PartName="/ppt/media/image8.gif" ContentType="image/gif"/>
  <Override PartName="/ppt/media/image3.gif" ContentType="image/gif"/>
  <Override PartName="/ppt/media/camera.wav" ContentType="audio/x-wav"/>
  <Override PartName="/ppt/media/image21.jpeg" ContentType="image/jpeg"/>
  <Override PartName="/ppt/media/image6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934-E8FF-4D0F-8892-3AFC64FE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CA6-05E7-4929-9CBD-0E4CD610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FF7-600D-4788-80E0-DE44C5B7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DA2-DF35-4613-BA5A-661E9C22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2ED-AEA2-4852-B977-80C62633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7C9-6FDE-464E-8566-E7D2ACB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C89-126B-458D-9876-5605799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353-DAC9-462E-A312-94DB5ABA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B16-75AB-4A46-B4B2-BA97536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5A2-85AB-4C55-BA62-CA79C99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DA7-DD68-413D-8D40-351CA13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05E-96F6-4D3B-8934-951A1D8A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8186-7712-4BEB-881C-1BD08A9F56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" Target="slide17.xml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1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2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47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3040" y="4941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班班会观摩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920" y="2492280"/>
            <a:ext cx="76327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迎各位老师莅临指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620640"/>
            <a:ext cx="38102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_x000b__x000c_"/>
              </a:rPr>
              <a:t>【生命之翼】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个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条腿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根拐一条心。这个名为《生命之翼》的舞蹈，在第十一届国际舞蹈大赛中，与世界级健全人舞蹈家们在同一评判标准下比赛中，获得唯一的最优秀奖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NewsMedia_15409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58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3933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位残疾人，面对生活艰辛，凭借十根拐杖，用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精湛的技艺和自强不息的精神，震撼了观众，赢得了尊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四位身体健全花季少女，因为所谓的“挫折”却选择放弃了生命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645000"/>
            <a:ext cx="3886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【年轻生命的陨落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日，新疆石河子某中学初三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）班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名花季少女，因半期考试成绩靠后，害怕家长责骂，她们便商议一起服药自杀寻求解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6000" y="468468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也许你在某件事上是“倒霉”的，但你在其他方面可能依然很幸运。和那些不幸者相比，你或许还是一个十分幸运的人。“生活是一面镜子，你对它笑，它就笑；你对它哭，它就哭。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36990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问题都隐含着创造的可能。挫折给人以打击，带来损失和痛苦，但同时也能使人奋起、成熟，从中得到锻炼，正如大文豪巴尔扎克所说：“世界上的事情永远不是绝对的，结果完全因人而异。苦难对于天才是一块垫脚石，…对于能干的人是一笔财富，对于弱者是一个万丈深渊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你的挫折不会永远存在，你还要继续生存下去！暴风消逝时，晴空必然出现；冬雪融化时，生机必然展现。生命里的冬天，会消失无踪，你的挫折当然也会获得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16000" y="1395360"/>
            <a:ext cx="3600360" cy="647640"/>
            <a:chOff x="1116000" y="1395360"/>
            <a:chExt cx="3600360" cy="647640"/>
          </a:xfrm>
        </p:grpSpPr>
        <p:sp>
          <p:nvSpPr>
            <p:cNvPr id="88" name=""/>
            <p:cNvSpPr/>
            <p:nvPr/>
          </p:nvSpPr>
          <p:spPr>
            <a:xfrm>
              <a:off x="1116000" y="1395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6000" y="1467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个人都会面临挫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861080" y="1467000"/>
            <a:ext cx="718920" cy="50292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3080" y="1467000"/>
            <a:ext cx="15829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211464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人都有烦恼，人人都面临挫折，那种没有烦恼和挫折的生活，根本是一种幻想和自欺欺人的说法。追求那种没有挫折的生活，只有徒耗生命而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94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次挫折都会过去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861080" y="225900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16000" y="2997360"/>
            <a:ext cx="3600360" cy="647640"/>
            <a:chOff x="1116000" y="2997360"/>
            <a:chExt cx="3600360" cy="647640"/>
          </a:xfrm>
        </p:grpSpPr>
        <p:sp>
          <p:nvSpPr>
            <p:cNvPr id="98" name=""/>
            <p:cNvSpPr/>
            <p:nvPr/>
          </p:nvSpPr>
          <p:spPr>
            <a:xfrm>
              <a:off x="1116000" y="2997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6000" y="3069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次挫折都有转折点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861080" y="305100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16000" y="3772080"/>
            <a:ext cx="3600360" cy="822240"/>
            <a:chOff x="1116000" y="3772080"/>
            <a:chExt cx="3600360" cy="822240"/>
          </a:xfrm>
        </p:grpSpPr>
        <p:sp>
          <p:nvSpPr>
            <p:cNvPr id="102" name=""/>
            <p:cNvSpPr/>
            <p:nvPr/>
          </p:nvSpPr>
          <p:spPr>
            <a:xfrm>
              <a:off x="1116000" y="3803760"/>
              <a:ext cx="3600360" cy="7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16000" y="3772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每次挫折都会对人产生影响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59280" y="3914640"/>
            <a:ext cx="719280" cy="503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16000" y="4797360"/>
            <a:ext cx="3600360" cy="647640"/>
            <a:chOff x="1116000" y="4797360"/>
            <a:chExt cx="3600360" cy="647640"/>
          </a:xfrm>
        </p:grpSpPr>
        <p:sp>
          <p:nvSpPr>
            <p:cNvPr id="106" name=""/>
            <p:cNvSpPr/>
            <p:nvPr/>
          </p:nvSpPr>
          <p:spPr>
            <a:xfrm>
              <a:off x="1116000" y="4797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6000" y="4869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不要盯住挫折不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861080" y="4851360"/>
            <a:ext cx="718920" cy="503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2266920"/>
            <a:ext cx="15825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逃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4635360"/>
            <a:ext cx="15825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不能自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3059280"/>
            <a:ext cx="15825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颓废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924360"/>
            <a:ext cx="15825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不要绝望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51664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挫折如果已经发生，那就应当面对它，寻找解决的办法；如果挫折已经过去，那就应当丢开它，不要老是把它保留在记忆里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95280" y="333360"/>
            <a:ext cx="244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一说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华文行楷"/>
              </a:rPr>
              <a:t>你能说说勇于战胜挫折的人和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42100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64000" y="1844640"/>
            <a:ext cx="2232000" cy="218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72360" y="24210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我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2190600" cy="219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28800" y="4292640"/>
            <a:ext cx="1521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大家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56360" y="407664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韩国四指钢琴家——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楷体_GB2312"/>
              </a:rPr>
              <a:t>李喜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529080" cy="439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3280" y="1773360"/>
            <a:ext cx="3672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345440" cy="5472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23600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李喜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5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788000" y="46836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贝多芬，一生遭到数不清的磨难。挫折磨砺了他的意志，激发了他的进取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发出了“要扼住命运的咽喉”的坚强呼声，终于创作出《第九交响曲》等辉煌作品，获得了极大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84720" y="333000"/>
            <a:ext cx="4572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一个人，在他二十一岁时，做生意失败；二十二岁时，角逐美国州议员落选；二十四岁时，做生意再度失败；二十六岁时，他的情人离开人间；二十七岁时，一度精神崩溃；三十四岁时，角逐美国联邦众议员再度落选；四十五岁时，角逐美国联邦参议员落选；四十七岁时，提名副总统落选；四十九岁时，角逐美国联邦参议员再度落选。然而，就是这样一个屡战屡败的人，在他五十二岁时，当选美国第十六任总统！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个人就是林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49680" y="62064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黑体"/>
              </a:rPr>
              <a:t>海伦凯勒，出生不久就因一场来得突然的脑炎，使她完全丧失了视觉和听觉。同时也失去了说话的能力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自己的努力和家人、沙文利老师的帮助下，她后来不但能读、能写、能讲更成为全球家喻户晓的伟大作家。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3484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628560"/>
            <a:ext cx="4321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张海迪，三分之二的身体失去部分知觉和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她奋起自学成才，出版了长篇小说《轮椅上的梦》等作品。她自学了英、日、德和世界语，刻苦钻研医学知识和针灸技术，为群众治病达一万余人次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434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64000" y="452520"/>
            <a:ext cx="338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挫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被诊断出肌萎缩性侧索硬化症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失去语言能力，使用带语音合成器的计算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奋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版了《空时的大型结构》、《时间简史》等科学著作。宣布发现黑洞辐射，成为世界上著名的科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5928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533520"/>
            <a:ext cx="4800600" cy="55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960" y="1249200"/>
            <a:ext cx="7696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面是一些你曾经遇到过的问题，根据下列所标出的挫折感等级，请你在相应的等级上画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没有挫折感      有点       一般         较多         极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与朋友翻脸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考试不理想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家长不理解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受老师冤枉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无故被人欺负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丢失心爱的东西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其它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650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59500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7——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59500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15——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943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22——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5292720" y="404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彩云"/>
              </a:rPr>
              <a:t>心理测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573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47640" y="595008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华文行楷"/>
              </a:rPr>
              <a:t>中华飞天第一人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华文行楷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杨利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81560" y="260280"/>
            <a:ext cx="4762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杨利伟从小立志当飞行员，为实现理想，从读初二开始，他刻苦锻炼，终于练出一个合格的体魄。在接到命令后，杨利伟接受了载荷、失重、野外生存等训魔鬼般的训练，以他坚强的意志克服了种种困难和挫折，最后成为中华飞天第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0" y="1285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550836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643280" cy="63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59280" y="340992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331956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3392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826920" y="549360"/>
            <a:ext cx="28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334120" y="3409920"/>
            <a:ext cx="3809880" cy="344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979640" y="476280"/>
            <a:ext cx="4753080" cy="54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64008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该如何正确面对挫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遇到挫折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36990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转移自己的视线，遭受挫折后，一般人都会感觉度日如年，这时，可以通过自己喜爱的集邮、写作、书法、美术、音乐、舞蹈、体育锻炼等方式，使情绪得以调节，情感得以升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分散挫折的压力，不要把痛苦闷在心里，应当主动向老师、同学或亲友倾诉，争取别人的谅解、同情与帮助，这样可以减轻挫折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增强克服挫折的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16000" y="1395360"/>
            <a:ext cx="3600360" cy="647640"/>
            <a:chOff x="1116000" y="1395360"/>
            <a:chExt cx="3600360" cy="647640"/>
          </a:xfrm>
        </p:grpSpPr>
        <p:sp>
          <p:nvSpPr>
            <p:cNvPr id="175" name=""/>
            <p:cNvSpPr/>
            <p:nvPr/>
          </p:nvSpPr>
          <p:spPr>
            <a:xfrm>
              <a:off x="1116000" y="139536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16000" y="146700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正视挫折，认真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116000" y="2114640"/>
            <a:ext cx="6192720" cy="82548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分析挫折产生的主客观原因，正确对待挫折，不仅可以克服和消除挫折，而且还可以磨炼自己的意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179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学会宣泄，摆脱压力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16000" y="2979720"/>
            <a:ext cx="3600360" cy="647640"/>
            <a:chOff x="1116000" y="2979720"/>
            <a:chExt cx="3600360" cy="647640"/>
          </a:xfrm>
        </p:grpSpPr>
        <p:sp>
          <p:nvSpPr>
            <p:cNvPr id="182" name=""/>
            <p:cNvSpPr/>
            <p:nvPr/>
          </p:nvSpPr>
          <p:spPr>
            <a:xfrm>
              <a:off x="1116000" y="2979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16000" y="3051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情绪转移，寻求升华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79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3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遇到挫折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36990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当你遇到挫折时，要勇往直前。你的既定目标不变，努力的程度加倍。那么很快，迎接你的就将是成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2971800"/>
            <a:ext cx="6192720" cy="459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当你受挫时先静下心来把可能产生的原因寻找出来，再寻求解决问题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16000" y="1413000"/>
            <a:ext cx="3600360" cy="647640"/>
            <a:chOff x="1116000" y="1413000"/>
            <a:chExt cx="3600360" cy="647640"/>
          </a:xfrm>
        </p:grpSpPr>
        <p:sp>
          <p:nvSpPr>
            <p:cNvPr id="190" name=""/>
            <p:cNvSpPr/>
            <p:nvPr/>
          </p:nvSpPr>
          <p:spPr>
            <a:xfrm>
              <a:off x="1116000" y="141300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6000" y="14846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学会幽默，自我解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042920" y="2133720"/>
            <a:ext cx="6193080" cy="199908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幽默”和“自嘲”是宣泄积郁、平衡心态、制造快乐的良方。当你遭受挫折时，不妨采用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的精神胜利法，比如“吃亏是福”“破财免灾”“有失有得”等等来调节一下你失衡的心理。或者“难得糊涂”，冷静看待挫折，用幽默的方法调整心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16000" y="2187720"/>
            <a:ext cx="3600360" cy="647640"/>
            <a:chOff x="1116000" y="2187720"/>
            <a:chExt cx="3600360" cy="647640"/>
          </a:xfrm>
        </p:grpSpPr>
        <p:sp>
          <p:nvSpPr>
            <p:cNvPr id="194" name=""/>
            <p:cNvSpPr/>
            <p:nvPr/>
          </p:nvSpPr>
          <p:spPr>
            <a:xfrm>
              <a:off x="1116000" y="2187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6000" y="2259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寻找原因，理清思路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16000" y="2979720"/>
            <a:ext cx="3600360" cy="647640"/>
            <a:chOff x="1116000" y="2979720"/>
            <a:chExt cx="3600360" cy="647640"/>
          </a:xfrm>
        </p:grpSpPr>
        <p:sp>
          <p:nvSpPr>
            <p:cNvPr id="197" name=""/>
            <p:cNvSpPr/>
            <p:nvPr/>
          </p:nvSpPr>
          <p:spPr>
            <a:xfrm>
              <a:off x="1116000" y="2979720"/>
              <a:ext cx="3600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16000" y="3051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华文行楷"/>
                </a:rPr>
                <a:t>再接再厉，锲而不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350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c408"/>
                </a:solidFill>
                <a:latin typeface="Times New Roman"/>
              </a:rPr>
              <a:t>这次月考失利了，接下来我应该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9810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2c408"/>
                </a:solidFill>
                <a:latin typeface="Times New Roman"/>
                <a:ea typeface="华文隶书"/>
              </a:rPr>
              <a:t>我来说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9552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341360"/>
            <a:ext cx="63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064f"/>
                </a:solidFill>
                <a:latin typeface="Tahoma"/>
              </a:rPr>
              <a:t>7——14</a:t>
            </a:r>
            <a:r>
              <a:rPr b="1" lang="zh-CN" sz="3200" spc="-1" strike="noStrike">
                <a:solidFill>
                  <a:srgbClr val="c6064f"/>
                </a:solidFill>
                <a:latin typeface="Tahoma"/>
              </a:rPr>
              <a:t>：你是一个乐观开朗的孩子，遇到挫折不会给你带来太多的精神压力。但是，如果对事事都漫不在乎，不努力，将会很危险。培养进取心和责任心，会使你更加完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558972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595440"/>
            <a:ext cx="78487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世界上的事情永远不是绝对的，结果完全因人而异。苦难对于天才是一块垫脚石，对于弱者是一个万丈深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巴尔扎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640080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多 多 指 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谢 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34136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15——21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：你是一个自尊自爱的孩子，喜欢在同学和老师面前表现自己。在挫折面前，你会产生紧张和忧虑的情绪，说明你在乎自己的表现。但是你不会对自己能力达不到的目标太较真，你会试着去改变原有的目标。这也许使你不能够发挥出内在的潜力，你在平时应多听取别人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558972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13413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2——35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：你是一个比较敏感多愁的孩子。有着强烈的自尊心，对自己要求很高。在挫折面前，往往会产生强烈的不安，甚至有时还会觉得天要塌下来了。实际上，挫折每个人都会经历，你应该把挫折当成锻炼的机会，展开胸怀，多和别人交流沟通，学会向别人诉说你的烦恼，你会发现挫折并不可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10792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497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彩云"/>
              </a:rPr>
              <a:t>直面挫折 成就人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心理学上对挫折的定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挫折是个体从事有目的的活动过程中，遇到障碍或干扰，致使个体动机不能实现，需要不能满足的情绪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7280" y="2492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其实就是我们在学习、生活或者工作中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遭遇失败、干扰、障碍、遭受损失或“碰钉子”后的一种心理感受。表现为内心的紧张、沮丧、烦恼、焦躁等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227664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在日常生活中遇到过哪些挫折，当时你是如何做的？形容一下你当时的心情。也可以讲讲你的朋友或者你听说过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54944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4941720"/>
            <a:ext cx="1752480" cy="1460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57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心灵交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457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常见的挫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304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学习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理想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交往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1219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生活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066680" cy="76212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1403280" y="378936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523880"/>
            <a:ext cx="251460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5040" y="31082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向挫折屈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45813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勇敢地战胜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3716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9367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19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23:21Z</dcterms:modified>
  <cp:revision>5</cp:revision>
  <dc:subject>主题班会课件(分28大类): http://shop62905894.taobao.com</dc:subject>
  <dc:title>主题班会课件(分28大类): http://shop62905894.taobao.com</dc:title>
</cp:coreProperties>
</file>