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gif" ContentType="image/gif"/>
  <Override PartName="/ppt/media/type.wav" ContentType="audio/x-wav"/>
  <Override PartName="/ppt/media/Question.wav" ContentType="audio/x-wav"/>
  <Override PartName="/ppt/media/image7.png" ContentType="image/png"/>
  <Override PartName="/ppt/media/image4.gif" ContentType="image/gif"/>
  <Override PartName="/ppt/media/image6.jpeg" ContentType="image/jpeg"/>
  <Override PartName="/ppt/media/%E9%92%A2%E7%90%B4.wav" ContentType="audio/x-wav"/>
  <Override PartName="/ppt/media/image2.jpeg" ContentType="image/jpeg"/>
  <Override PartName="/ppt/media/image15.jpeg" ContentType="image/jpeg"/>
  <Override PartName="/ppt/media/image14.jpeg" ContentType="image/jpeg"/>
  <Override PartName="/ppt/media/Error.wav" ContentType="audio/x-wav"/>
  <Override PartName="/ppt/media/image11.jpeg" ContentType="image/jpeg"/>
  <Override PartName="/ppt/media/chimes.wav" ContentType="audio/x-wav"/>
  <Override PartName="/ppt/media/Failed.WAV" ContentType="audio/x-wav"/>
  <Override PartName="/ppt/media/image16.png" ContentType="image/png"/>
  <Override PartName="/ppt/media/image13.gif" ContentType="image/gif"/>
  <Override PartName="/ppt/media/Clicked.WAV" ContentType="audio/x-wav"/>
  <Override PartName="/ppt/media/image12.jpeg" ContentType="image/jpeg"/>
  <Override PartName="/ppt/media/Down.WAV" ContentType="audio/x-wav"/>
  <Override PartName="/ppt/media/image1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D080-8E2B-4117-BA70-41F9C9818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132B-4C9E-4685-8897-4B0436F9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D699-BADD-4462-AAE3-EF1291587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A9FA-4C3B-4BA6-9F09-641869008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6C78-F4A2-416F-BD2A-69E1BF684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F10D-2F1D-456F-A900-E4265A1D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BC1C-5026-43B0-90CD-89DF5DF6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D2008-1F10-4EF4-A456-B184D50C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127A4-CA80-4499-91D7-2112B070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62E6-3F4E-4CD4-94C3-D3B1B339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CE54F-402D-496E-B84B-07805583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21ED-58C2-4C4A-943F-392A5693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5943-BB7D-4039-8FE8-0C140767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6C546-BE6C-4BB8-86AF-A0B62425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4205-A11A-48F3-A566-2E680E2A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3BEAB-A6E1-48F9-8FF2-108C527E3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E09F-992B-48D0-A9E3-E13B92E18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B2DA-A311-4EA6-9EB7-1B590067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7968-F572-4AC3-8E80-3D3D7FE9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A64F-4FC4-476E-A0FC-AE1F998C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D7F6-8AE1-4ACE-B8EA-81BC548B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BE80-7095-48B0-8362-A34C1617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6CCF-53EF-4256-B50A-ACF73C4B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F2B7-A2FD-4251-898E-453B1FF6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E36D-703F-4B4B-B2C6-F493FBD47B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E5F9-EDE6-4061-8F9D-2E9D6291D6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audio" Target="../media/&#38050;&#29748;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&#38050;&#29748;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audio" Target="../media/Failed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audio" Target="../media/&#38050;&#29748;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Question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audio" Target="../media/Question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licked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audio" Target="../media/Down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3.gif"/><Relationship Id="rId5" Type="http://schemas.openxmlformats.org/officeDocument/2006/relationships/audio" Target="../media/Clicked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Error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068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0680" y="3284640"/>
            <a:ext cx="86724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家  长  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956720" y="4221000"/>
            <a:ext cx="944280" cy="944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0" y="5996160"/>
            <a:ext cx="274320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点此播放歌曲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1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400800" y="5996160"/>
            <a:ext cx="274320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点此播放歌曲</a:t>
            </a: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2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  <p:sndAc>
      <p:stSnd>
        <p:snd r:embed="rId4" name="%E9%92%A2%E7%90%B4.wav"/>
      </p:stSnd>
    </p:sndAc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9394920" cy="70484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828800" y="38088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孩子变坏前的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项征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2379600"/>
            <a:ext cx="8280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作息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早出晚归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常无端数日不归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晚上外出去向不交代清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物品：有不良刊物、药物、香烟酒类，甚至不明巨款或当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8.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课业：成绩一落千丈，经常迟到早退、逃学、读书时间骤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交友：有社会人士的朋友，电话、有朋友也不敢介绍给家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9394920" cy="70484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孩子变坏前的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项征兆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习惯：有吸烟喝酒习惯，用钱需求量突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</a:t>
            </a:r>
            <a:r>
              <a:rPr b="1" lang="zh-CN" sz="4400" spc="-1" strike="noStrike">
                <a:solidFill>
                  <a:srgbClr val="0000ff"/>
                </a:solidFill>
                <a:latin typeface="华文中宋"/>
                <a:ea typeface="华文中宋"/>
              </a:rPr>
              <a:t>如果所列举的特征与孩子的行为相似愈多，父母就应该愈加注意，愈早防范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11280" y="98100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华文中宋"/>
                <a:ea typeface="华文中宋"/>
              </a:rPr>
              <a:t>1.</a:t>
            </a:r>
            <a:r>
              <a:rPr b="1" lang="zh-CN" sz="3200" spc="-1" strike="noStrike">
                <a:solidFill>
                  <a:srgbClr val="006666"/>
                </a:solidFill>
                <a:latin typeface="华文中宋"/>
                <a:ea typeface="华文中宋"/>
              </a:rPr>
              <a:t>要尽量控制孩子的</a:t>
            </a:r>
            <a:r>
              <a:rPr b="1" lang="zh-CN" sz="3200" spc="-1" strike="noStrike">
                <a:solidFill>
                  <a:srgbClr val="6600cc"/>
                </a:solidFill>
                <a:latin typeface="华文中宋"/>
                <a:ea typeface="华文中宋"/>
              </a:rPr>
              <a:t>零用钱</a:t>
            </a:r>
            <a:r>
              <a:rPr b="1" lang="zh-CN" sz="3200" spc="-1" strike="noStrike">
                <a:solidFill>
                  <a:srgbClr val="006666"/>
                </a:solidFill>
                <a:latin typeface="华文中宋"/>
                <a:ea typeface="华文中宋"/>
              </a:rPr>
              <a:t>和上学、回家的时间，时刻了解学生的动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11280" y="0"/>
            <a:ext cx="47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华文中宋"/>
              </a:rPr>
              <a:t>给家长的建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68360" y="3068640"/>
            <a:ext cx="50770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早    晨：</a:t>
            </a:r>
            <a:r>
              <a:rPr b="1" lang="zh-CN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7</a:t>
            </a:r>
            <a:r>
              <a:rPr b="1" lang="zh-CN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：</a:t>
            </a:r>
            <a:r>
              <a:rPr b="1" lang="zh-CN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中午放学：</a:t>
            </a:r>
            <a:r>
              <a:rPr b="1" lang="zh-CN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11: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午休：</a:t>
            </a:r>
            <a:r>
              <a:rPr b="1" lang="zh-CN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12:2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下午放学：</a:t>
            </a:r>
            <a:r>
              <a:rPr b="1" lang="zh-CN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5: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周六</a:t>
            </a:r>
            <a:r>
              <a:rPr b="1" lang="zh-CN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:7:00-4: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79640" y="2276640"/>
            <a:ext cx="54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作息时间调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%E9%92%A2%E7%90%B4.wav"/>
      </p:stSnd>
    </p:sndAc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11280" y="1125360"/>
            <a:ext cx="815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华文中宋"/>
                <a:ea typeface="华文中宋"/>
              </a:rPr>
              <a:t>2 </a:t>
            </a:r>
            <a:r>
              <a:rPr b="1" lang="zh-CN" sz="3200" spc="-1" strike="noStrike">
                <a:solidFill>
                  <a:srgbClr val="660066"/>
                </a:solidFill>
                <a:latin typeface="华文中宋"/>
                <a:ea typeface="华文中宋"/>
              </a:rPr>
              <a:t>希望家长在假期、周六、周日这段时间内督促孩子多看书，少看电视，尽量不要上网打游戏</a:t>
            </a:r>
            <a:r>
              <a:rPr b="0" lang="zh-CN" sz="3200" spc="-1" strike="noStrike">
                <a:solidFill>
                  <a:srgbClr val="660066"/>
                </a:solidFill>
                <a:latin typeface="华文中宋"/>
                <a:ea typeface="华文中宋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9640" y="285264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华文中宋"/>
                <a:ea typeface="华文中宋"/>
              </a:rPr>
              <a:t>3 </a:t>
            </a:r>
            <a:r>
              <a:rPr b="1" lang="zh-CN" sz="3200" spc="-1" strike="noStrike">
                <a:solidFill>
                  <a:srgbClr val="6600cc"/>
                </a:solidFill>
                <a:latin typeface="华文中宋"/>
                <a:ea typeface="华文中宋"/>
              </a:rPr>
              <a:t>不要把手机、</a:t>
            </a:r>
            <a:r>
              <a:rPr b="1" lang="zh-CN" sz="3200" spc="-1" strike="noStrike">
                <a:solidFill>
                  <a:srgbClr val="6600cc"/>
                </a:solidFill>
                <a:latin typeface="华文中宋"/>
                <a:ea typeface="华文中宋"/>
              </a:rPr>
              <a:t>MP3</a:t>
            </a:r>
            <a:r>
              <a:rPr b="1" lang="zh-CN" sz="3200" spc="-1" strike="noStrike">
                <a:solidFill>
                  <a:srgbClr val="6600cc"/>
                </a:solidFill>
                <a:latin typeface="华文中宋"/>
                <a:ea typeface="华文中宋"/>
              </a:rPr>
              <a:t>等东西给子女带来学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9640" y="378936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4 </a:t>
            </a:r>
            <a:r>
              <a:rPr b="1" lang="zh-CN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学习方面</a:t>
            </a:r>
            <a:r>
              <a:rPr b="1" lang="zh-CN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关心学生每一天的学习情况</a:t>
            </a:r>
            <a:r>
              <a:rPr b="1" lang="zh-CN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督促学生晚上在家独立完成各科家庭作业</a:t>
            </a:r>
            <a:r>
              <a:rPr b="1" lang="zh-CN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作业签字</a:t>
            </a:r>
            <a:r>
              <a:rPr b="1" lang="zh-CN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并进行适当的复习和预习</a:t>
            </a:r>
            <a:r>
              <a:rPr b="1" lang="zh-CN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.</a:t>
            </a:r>
            <a:r>
              <a:rPr b="1" lang="zh-CN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对于学有余力的学生</a:t>
            </a:r>
            <a:r>
              <a:rPr b="1" lang="zh-CN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安排适当的课外习题</a:t>
            </a:r>
            <a:r>
              <a:rPr b="1" lang="zh-CN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8610480" cy="458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Failed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5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0" y="0"/>
              <a:ext cx="2514600" cy="251460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81480" y="3886200"/>
              <a:ext cx="3124440" cy="243828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304920" y="2057400"/>
            <a:ext cx="80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694b6"/>
                </a:solidFill>
                <a:latin typeface="Tahoma"/>
                <a:ea typeface="华文楷体"/>
              </a:rPr>
              <a:t>    </a:t>
            </a:r>
            <a:r>
              <a:rPr b="1" lang="zh-CN" sz="3200" spc="-1" strike="noStrike">
                <a:solidFill>
                  <a:srgbClr val="3694b6"/>
                </a:solidFill>
                <a:latin typeface="Tahoma"/>
                <a:ea typeface="华文楷体"/>
              </a:rPr>
              <a:t>　</a:t>
            </a:r>
            <a:r>
              <a:rPr b="1" lang="zh-CN" sz="4800" spc="-1" strike="noStrike">
                <a:solidFill>
                  <a:srgbClr val="ff00ff"/>
                </a:solidFill>
                <a:latin typeface="Tahoma"/>
                <a:ea typeface="华文中宋"/>
              </a:rPr>
              <a:t>工作再忙也要抽点时间来多了解孩子在校的表现和学习成绩情况。因为孩子只有一个呀，我们的一切工作难道不是为了孩子将来的美好前途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53352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华文中宋"/>
                <a:ea typeface="华文中宋"/>
              </a:rPr>
              <a:t>5 </a:t>
            </a:r>
            <a:r>
              <a:rPr b="1" lang="zh-CN" sz="3200" spc="-1" strike="noStrike">
                <a:solidFill>
                  <a:srgbClr val="009900"/>
                </a:solidFill>
                <a:latin typeface="华文中宋"/>
                <a:ea typeface="华文中宋"/>
              </a:rPr>
              <a:t>每天给孩子创造良好的学习环境，多鼓励孩子，多与孩子一同学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9394920" cy="70484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039040" y="155736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如果孩子生活在</a:t>
            </a:r>
            <a:r>
              <a:rPr b="1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批评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之中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他就学会</a:t>
            </a:r>
            <a:r>
              <a:rPr b="1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谴责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10680" y="227664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如果孩子生活在</a:t>
            </a:r>
            <a:r>
              <a:rPr b="1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鼓励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之中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他就学会</a:t>
            </a:r>
            <a:r>
              <a:rPr b="1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自信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10680" y="306864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如果孩子生活在</a:t>
            </a:r>
            <a:r>
              <a:rPr b="1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讽刺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之中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他就学会</a:t>
            </a:r>
            <a:r>
              <a:rPr b="1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自卑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83760" y="378936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如果孩子生活在</a:t>
            </a:r>
            <a:r>
              <a:rPr b="1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表扬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之中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他就学会</a:t>
            </a:r>
            <a:r>
              <a:rPr b="1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感激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10680" y="458136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如果孩子生活在</a:t>
            </a:r>
            <a:r>
              <a:rPr b="1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恐惧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之中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他就学会</a:t>
            </a:r>
            <a:r>
              <a:rPr b="1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忧虑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48200" y="5300640"/>
            <a:ext cx="50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如果孩子生活在</a:t>
            </a:r>
            <a:r>
              <a:rPr b="1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认可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之中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他就学会</a:t>
            </a:r>
            <a:r>
              <a:rPr b="1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自爱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348000" y="620640"/>
            <a:ext cx="22320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结束语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0" y="0"/>
              <a:ext cx="2514600" cy="251460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81480" y="3886200"/>
              <a:ext cx="3124440" cy="243828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 txBox="1"/>
          <p:nvPr/>
        </p:nvSpPr>
        <p:spPr>
          <a:xfrm>
            <a:off x="2843280" y="0"/>
            <a:ext cx="3238560" cy="18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谢谢光临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76" name=""/>
          <p:cNvSpPr/>
          <p:nvPr/>
        </p:nvSpPr>
        <p:spPr>
          <a:xfrm>
            <a:off x="539640" y="2349360"/>
            <a:ext cx="727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让我们相信明天会更好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708360" y="5084640"/>
            <a:ext cx="4114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常过来看看！</a:t>
            </a:r>
            <a:endParaRPr b="0" lang="en-US" sz="5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  <p:sndAc>
      <p:stSnd>
        <p:snd r:embed="rId4" name="%E9%92%A2%E7%90%B4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916360" y="0"/>
            <a:ext cx="5616360" cy="2521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Question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61272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1403280" y="2060640"/>
            <a:ext cx="532152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上课质量决定成绩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7" name=""/>
          <p:cNvSpPr/>
          <p:nvPr/>
        </p:nvSpPr>
        <p:spPr>
          <a:xfrm>
            <a:off x="-108000" y="3308400"/>
            <a:ext cx="81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些学生学习没有动力，上课注意力不集中，不愿意做笔记，课堂效率低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324000" y="866880"/>
            <a:ext cx="61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想与家长们探讨的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1835280" y="692280"/>
            <a:ext cx="53211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效率产生差距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148428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学校里，有些学生自觉性比较差，没有充分利用午休时间和自习课时间学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4360" y="335772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放学之后，没有及时回家，在外游荡，很晚才进入学习状态。做完作业后没有复习预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530064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周末、假期时间过于放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1676520" y="0"/>
            <a:ext cx="53211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作业质量值得重视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914400"/>
            <a:ext cx="813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些学生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作业马虎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作业差错多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选择题乱猜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计算题只有答案没有过程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；老师讲评过的练习始终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没有及时订正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习惯，导致已做过的练习屡做屡错。到考试时遇到难题不是去思考，而是乱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1400" y="4952880"/>
            <a:ext cx="499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4.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少数学生有抄作业现象非常严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80880" y="6095880"/>
            <a:ext cx="7624800" cy="525240"/>
            <a:chOff x="380880" y="6095880"/>
            <a:chExt cx="7624800" cy="525240"/>
          </a:xfrm>
        </p:grpSpPr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6553080" y="6095880"/>
              <a:ext cx="145260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3"/>
            <a:stretch/>
          </p:blipFill>
          <p:spPr>
            <a:xfrm>
              <a:off x="5105160" y="6095880"/>
              <a:ext cx="145260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4"/>
            <a:stretch/>
          </p:blipFill>
          <p:spPr>
            <a:xfrm>
              <a:off x="3504960" y="6095880"/>
              <a:ext cx="145260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5"/>
            <a:stretch/>
          </p:blipFill>
          <p:spPr>
            <a:xfrm>
              <a:off x="1981080" y="6095880"/>
              <a:ext cx="145260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6"/>
            <a:stretch/>
          </p:blipFill>
          <p:spPr>
            <a:xfrm>
              <a:off x="380880" y="6095880"/>
              <a:ext cx="1452600" cy="525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random/>
    <p:sndAc>
      <p:stSnd>
        <p:snd r:embed="rId7" name="Question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0" y="0"/>
              <a:ext cx="2514600" cy="251460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81480" y="3886200"/>
              <a:ext cx="3124440" cy="243828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 txBox="1"/>
          <p:nvPr/>
        </p:nvSpPr>
        <p:spPr>
          <a:xfrm>
            <a:off x="1763640" y="620640"/>
            <a:ext cx="532152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家庭配合很关键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19" name=""/>
          <p:cNvSpPr/>
          <p:nvPr/>
        </p:nvSpPr>
        <p:spPr>
          <a:xfrm>
            <a:off x="1116000" y="1733400"/>
            <a:ext cx="72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华文新魏"/>
                <a:ea typeface="华文新魏"/>
              </a:rPr>
              <a:t>学校教育离不开正确家庭教育的配合，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分耕耘，一分收获</a:t>
            </a:r>
            <a:r>
              <a:rPr b="1" lang="zh-CN" sz="4000" spc="-1" strike="noStrike">
                <a:solidFill>
                  <a:srgbClr val="008000"/>
                </a:solidFill>
                <a:latin typeface="华文新魏"/>
                <a:ea typeface="华文新魏"/>
              </a:rPr>
              <a:t>。倘若没有良好，正确合理的家庭教育配合，再好的师资和学校都不可能产生好的教育效果。 请家长主动监督、检查作业、预习、复习工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licked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219640" y="2852640"/>
            <a:ext cx="3924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6920" y="2421000"/>
            <a:ext cx="781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1055520"/>
            <a:ext cx="8280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十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在外留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回家很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带同学住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打电话时间长，次数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受伤回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超消费要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超出友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成绩突然下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穿奇装异服，爱好打扮，沉默寡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771640" y="404640"/>
            <a:ext cx="31719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家长的十问与五关注</a:t>
            </a:r>
            <a:endParaRPr b="0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  <p:sndAc>
      <p:stSnd>
        <p:snd r:embed="rId4" name="Down.WAV"/>
      </p:stSnd>
    </p:sndAc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219640" y="2852640"/>
            <a:ext cx="3924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6920" y="2421000"/>
            <a:ext cx="781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771640" y="404640"/>
            <a:ext cx="31719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家长的十问与五关注</a:t>
            </a:r>
            <a:endParaRPr b="0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9" name=""/>
          <p:cNvSpPr/>
          <p:nvPr/>
        </p:nvSpPr>
        <p:spPr>
          <a:xfrm>
            <a:off x="1602360" y="1341360"/>
            <a:ext cx="39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关注孩子的理想目标和要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23558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关注孩子的学习习惯、作业完成情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339084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关注孩子的细微变化帮助孩子度过“危险”时期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57200" y="4875120"/>
            <a:ext cx="287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关注孩子的伙伴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72760" y="5659560"/>
            <a:ext cx="315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关注孩子书包的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7467480" y="5410080"/>
            <a:ext cx="1238400" cy="10479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5" name="Clicked.WAV"/>
      </p:stSnd>
    </p:sndAc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0" y="0"/>
              <a:ext cx="2514600" cy="251460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81480" y="3886200"/>
              <a:ext cx="3124440" cy="243828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692360" y="33336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孩子变坏前的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项征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1827360"/>
            <a:ext cx="8316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语言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爱说谎话，黑话，脏话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及喜欢说话时带有江湖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穿着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太过于时髦，暴露，喜欢擅改衣服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穿制服时特别将胸前两个扣子解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外貌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发型怪异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身上有刺青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常有外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4.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行为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较为标新立异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行为诡异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不敢让家人知道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常长时间反锁自己房门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且神色紧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5.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态度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易于动怒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情绪极端变化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常与家人赌气或自暴自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Erro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3:30:30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0:43:26Z</dcterms:modified>
  <cp:revision>86</cp:revision>
  <dc:subject>主题班会课件(分28大类): http://shop62905894.taobao.com</dc:subject>
  <dc:title>主题班会课件(分28大类): http://shop62905894.taobao.com</dc:title>
</cp:coreProperties>
</file>