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539-96AC-473A-837D-C156715E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7E1-B31A-4C6D-AA01-E32078C4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E61B-4076-4FED-98F2-6C48B284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9CB-EE49-4CBF-98F3-E940DEB3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7AD-D18A-4511-8775-15E2CFD7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A3B-AAC4-49FB-BD34-01593055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98C-1BD8-46AA-9BE0-36459EF4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6EA-8FF1-43E6-86C7-C16A46F0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B92-D87D-47E5-AFF5-21DFE7EC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F968-2D7A-4252-92BE-F2766466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807-0BFD-40D6-9824-7CC85271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239-EB2F-463F-B905-F4965308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D23D-D109-49D7-BF63-D36A1DC0C7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1592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</a:rPr>
              <a:t>尊敬的各位家长</a:t>
            </a:r>
            <a:r>
              <a:rPr b="1" lang="zh-CN" sz="7200" spc="-1" strike="noStrike">
                <a:solidFill>
                  <a:srgbClr val="ff0066"/>
                </a:solidFill>
                <a:latin typeface="Times New Roman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</a:rPr>
              <a:t>(4)</a:t>
            </a:r>
            <a:r>
              <a:rPr b="1" lang="zh-CN" sz="7200" spc="-1" strike="noStrike">
                <a:solidFill>
                  <a:srgbClr val="ff0066"/>
                </a:solidFill>
                <a:latin typeface="Times New Roman"/>
              </a:rPr>
              <a:t>全体师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</a:rPr>
              <a:t>            </a:t>
            </a:r>
            <a:r>
              <a:rPr b="1" lang="zh-CN" sz="7200" spc="-1" strike="noStrike">
                <a:solidFill>
                  <a:srgbClr val="ff0066"/>
                </a:solidFill>
                <a:latin typeface="Times New Roman"/>
              </a:rPr>
              <a:t>欢迎您</a:t>
            </a:r>
            <a:r>
              <a:rPr b="0" lang="zh-CN" sz="7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72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746840" y="5460840"/>
            <a:ext cx="139716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513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0492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0"/>
            <a:ext cx="889308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如何合理填报志愿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建议遵循以下三项原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客观评价子女的学习水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选择跟子女知识水平相当的学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量力而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充分尊重子女的选择意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强子女所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仔细充分地考虑一切可能影响考试成绩的特殊因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5229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请家长认真阅读《宣传手册》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P6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与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P3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报考志愿工作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33336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报考志愿要克服下列几种障碍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628640"/>
            <a:ext cx="83516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盲目性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随大流的现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看准目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拿定注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要朝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暮四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影响子女的学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防止’贪心’和’害怕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贪心指那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学都想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害怕指那个学校都考不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99072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班主作的殷切希望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981000"/>
            <a:ext cx="8569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１．中考之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每天要保证足够的休息时间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注意每门课要打好基础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平衡发展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不要偏科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学习是个积累的过程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要一步一个脚印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勇往直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完成好每一份试题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特别是对做过的错题要反复练习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态度决定一切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要有正确的态度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良好的心情对待中考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规范自已的仪表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0"/>
            <a:ext cx="861048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一、请求贵家长予以配合的事情</a:t>
            </a: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周六回家，一定要禁止他们私自骑摩托车外出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要督促子女学习、完成作业，全力备考，不能荒废学业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请在百忙之中抽空找子女谈谈心，了解他们的学习情况、作业情况及各种心理活动的反映，帮他们排除生活上、学习上的烦恼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周六回家，请留意子女的去向，教育孩子不能进入网吧、卡拉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OK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厅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督促他们按时休息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不要让子女把手机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MP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带来学校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有事情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请先与班主任联系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685800"/>
            <a:ext cx="40388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457200"/>
            <a:ext cx="4724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80880"/>
            <a:ext cx="8381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如果子女在校违反校规或有其它事，班主任要求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家长来校面谈时，请在百忙中给予支持；          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初三学习生活比较艰苦，请家长们要关心子女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生活及表现，给子女们多买些营养品或多给子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送汤水，并积极鼓励子女多参加各项有益的体育      活动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子女因病或其它事不能回校上课或晚修，请及   时打电话告知班主任。     电话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88586362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如有什么意见或有共同教育子女的良策，请及时和老师交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-27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谢谢各位家长的支持和配合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948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75138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8440"/>
            <a:ext cx="9753840" cy="6914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961920"/>
            <a:ext cx="8305920" cy="48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1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一、家长会的主要目的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学校与家庭的联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老师与家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们共商 教育良策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结第一次模拟考试的情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备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中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3)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如何合理填报今年的志愿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8440"/>
            <a:ext cx="9753840" cy="691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71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班级目前情况介绍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本学期两次考试成绩都进步很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一次考试全班平均分进步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16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班级学风比较浓厚，每天早晚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6:4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有大部分学生在教室学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同学关系和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你追我赶竞争激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762280"/>
            <a:ext cx="9144000" cy="4095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487440"/>
            <a:ext cx="86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优秀学生成绩比较稳定，但有些学生偏科严重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影响总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 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有些学生初一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初二时没有打好基础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初三再加一门化学科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更是吃不消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对自已缺乏信心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成绩进步不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0492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3300"/>
                </a:solidFill>
                <a:uFillTx/>
                <a:latin typeface="Times New Roman"/>
                <a:ea typeface="华文行楷"/>
              </a:rPr>
              <a:t>班级主要工作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3280" y="4149720"/>
            <a:ext cx="4500720" cy="2708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129528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 狠抓养成教育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学会做人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学会生活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创建良好的班风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促进浓厚学风的形成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在学习中建立竞争机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抓好辅优补差工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鼓励学生树立远大的志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6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多与学生交谈，进行心理辅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7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勤给学生辅导应试技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59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第一次模拟考的成绩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全班平均分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480.2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分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优秀人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8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人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王莎莎、叶慧仪、戴葵宣、叶永杰、叶建龙、刘志斌、陈文森、金红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合格人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28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人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441468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8440"/>
            <a:ext cx="9753840" cy="6914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108000" y="4428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全班前十名学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181080" y="5030640"/>
            <a:ext cx="957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王莎莎、叶慧仪、戴葵宣、叶永杰、叶建龙、刘志斌、陈文森、金红艳、黄何静、卢健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04920" y="-28440"/>
            <a:ext cx="9753840" cy="6914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252360" y="0"/>
            <a:ext cx="97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进步较大的学生（见成绩单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3581280"/>
            <a:ext cx="5638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04640"/>
            <a:ext cx="784872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06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年中考招生情况介绍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时间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日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日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日共三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地点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一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852640"/>
            <a:ext cx="799308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招生录取的依据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学生综合素质评价等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单科学业考试成绩等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学业考试总成绩的标准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3:07:4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0:47:21Z</dcterms:modified>
  <cp:revision>26</cp:revision>
  <dc:subject>主题班会课件(分28大类): http://shop62905894.taobao.com</dc:subject>
  <dc:title>主题班会课件(分28大类): http://shop62905894.taobao.com</dc:title>
</cp:coreProperties>
</file>