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voltage.wav" ContentType="audio/x-wav"/>
  <Override PartName="/ppt/media/image6.gif" ContentType="image/gif"/>
  <Override PartName="/ppt/media/image10.jpeg" ContentType="image/jpeg"/>
  <Override PartName="/ppt/media/image7.gif" ContentType="image/gif"/>
  <Override PartName="/ppt/media/image8.png" ContentType="image/png"/>
  <Override PartName="/ppt/media/image11.jpeg" ContentType="image/jpeg"/>
  <Override PartName="/ppt/media/whoosh.wav" ContentType="audio/x-wav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D80-518E-461C-BE05-12A4B4F5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55A-DAF4-42B3-8368-82FB75CC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841BE-AF4B-461A-AFA2-9F50121E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8CBB1-9985-44A5-AAAE-C80CD888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EDD7F-430B-4F49-81A2-E241CB81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069E5-90FB-4C65-B8A3-FC14EAD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FA5DA-7CB6-4933-8978-5542174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313BC-D3D3-4413-89A3-B1C168A6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23228-1FAC-434A-99AF-395CE5BE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61FCE-AB2A-4FA4-971B-EF45C8FB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45CB5-1E30-4F25-B57F-88E5271F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B9678-DE2A-4905-83BF-02223CF3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F95-4BBD-494F-8759-DD9EFC40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6F642-E88D-40DC-9485-F6BE3027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90191-57E9-4B34-8303-95C9097E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D3D56-3B84-4EFF-95DC-99E1B9AE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026E9-0948-4567-9D4B-534F3535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B5378-76E2-4D14-8FC5-FBC70B9A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D9A4F-8B5A-4494-9589-28B78F1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07D59-60DC-41B1-8738-5D08A69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CADA0-5C06-4C7C-9974-657D0010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9A2DA-7648-4A30-9C24-2E7555B3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7232A-D890-42D5-8221-1B3ECC2F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AC2-B103-4742-A335-3FE3946D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E38B2-305A-47A1-BA30-03A140EE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66940-2E02-4F06-9AFD-CD780D92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6399F-9BCC-4F22-BE91-03D7CC64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AB676-948B-4ED8-A2FC-9CDD88F8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5987C-D02D-4445-9266-93CEEB12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C1C81-3A97-40ED-A1B9-7F11A0BD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F8F87-86C4-456F-BA38-67A371E9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794CF-87B8-4D8E-A4B6-24573348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0C585-23BD-4CEC-A216-24790CCD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CB55-529C-4BFB-B5D5-46A0EA90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5D0C-C34E-4B04-95B1-8AB8D49F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A3CBE-F7B7-4652-A772-AA7189B0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B6D5C-8765-4679-80D0-06ECEEA5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5795E-7A11-4DEB-96FB-65AB416C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09F2D-724C-48A2-9C07-421EAACF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B5DED-042C-4823-8D99-118B339E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DD370-1CD3-4DA5-89AD-061F084F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348BF-C47C-4ABF-92AE-2B988FE7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3739C-C835-455D-8D11-1916E673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B4E59-E0A5-4BC4-A729-4DFC1D01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ABAB6-F719-4839-81A9-E063CB07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D474-96A7-4383-A5E1-30520048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A773B-6083-44EA-A005-728F1A58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73BEA-3E24-4285-897D-2F1D05BB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3B370-4459-4A28-B16C-EBCD0B2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3D292-036C-48C1-8D13-091B3ED5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70889-39ED-4849-ACE5-C8214E4A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1134-C973-447D-A75E-AE9040B0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58D0-4E90-4726-A3A2-C4F75104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34DE-F0C0-4213-8A0C-05CE8A7C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586C-828A-4811-832C-57ADA5F1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E1AE-8C91-493D-8B92-65766B1A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94B-2861-4304-A645-DA5D87F9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7D8D-24BE-4008-B0B8-51BEDD24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6D48-8957-46D1-8E01-55CDB08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C47B-1883-44E1-99F6-548329CD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2510-8592-49EB-8040-23C9DE2B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BCAE-C88C-4C70-8FD9-601613A3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5AB5-D48C-4156-8D57-F2E846D7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528D-89C5-49C9-AC67-6E8430B6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CB58-B8BD-4718-9C31-8642EEEE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DE53-EC04-4C90-9379-CA1901A7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791E-74F3-4B17-9086-DC6B6983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3CC-9D20-4A3B-948F-D27B00F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1C2F-92B0-4AB0-B551-E8BF8A71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9377-9A96-4AE4-9F9B-5C488E4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6E7E-5EFA-40EA-B97A-1526FFE3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C0DC-CA29-40C6-804E-D6EA1CD3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D6979-726B-4447-9197-6C400865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C397-1F8B-415F-B288-07E01B54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BFA8-96A6-4CDC-91D5-D67F67FF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E3B3C-032B-4A2B-A46E-032FC77B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F4558-A4E8-4F2F-8F3C-78291AC9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223B5-960E-4B63-A836-8F5D8A9B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F2B-17D6-4369-A1BA-9BDA3546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F414C-2A6F-456F-B35B-7827AA68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69EF9D-6B07-4199-8473-540837A5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59B1C-CE84-4956-A1D6-FCF4F6BA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A8859C-797C-4981-B833-944739B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AC559-9614-424A-B2FD-443D2E22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F7E2F-DE39-4708-BC37-CF6F7854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36DBD-C477-44C0-89F4-96156C36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F1078D-CCAB-460D-B4FE-F63DA9D2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A4EBF-C7CC-4CE6-A680-ECE2901D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FAB4A-88F4-4C7B-A809-7BDF9A63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405-B6AC-432A-980C-5E79CD1F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F36B4-6686-472B-9B32-6C2E904B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F443-BD6A-4A26-B23F-456392F5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371B-7F52-40CD-9F69-8425ADA2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AD691-2E91-4583-865A-4A9395CE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40D9-6453-43EF-946E-DE0B5C25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218F6-8346-4CA0-AF32-016108F7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C5210-A177-458A-BC43-519D846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A55CB-C757-462A-A2E2-639829B1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5896-82DA-4B7F-BA34-625B39FF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0A07-8F89-47D7-99F4-6F6180BF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040-98ED-4872-BC9E-6F01490C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1C699-0865-410F-B091-F0B4A6B8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6B61C-B078-46DA-9D87-F0686D42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25AB3-C628-4E4D-A08E-D39A1504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FDE7C-109C-4B28-8DE4-74BF2D0E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E4DC6-1FB4-4F5C-81E8-9DE86962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17107-8998-4015-9342-BB7DF9AF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794FC-CA8C-4ADD-B5F1-913FBE47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C24BE-1A6C-4AC3-B35C-62A7EB9B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1E33-9990-4F56-8CB4-A0191D6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87191-67C4-402D-8287-B78F481D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CDD-CAC7-4668-ABFE-86C3C75F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569CF-8B32-4393-9E4A-C7CEDD63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663B5-388C-42B0-8477-8DA42908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577CF-0FFC-41A3-AA71-DCE05064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3C5DA-4C4F-4533-92A7-2BCDA6F0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1FFF0-DF3A-4DD0-8AE6-7A42058F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B0C66-9160-4483-B681-567B0EF5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49727-F3B8-49D4-A61C-59D4941B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E755C-B24E-4DF7-9E16-FED2A062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FE532-C569-4950-BFDA-8E74DA59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12BF0-74C9-4967-BDFE-A8E083C9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6A7-C484-4752-9913-C6DF61F6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49450-0919-4699-AF56-C4FC3174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30F705-8B7E-4830-B8A4-6FEF2F5C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98E6AA-0826-41D3-B80E-23CDB1A9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6C5D4-6BF2-41FA-98D0-20E525D8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CF008-C82E-4785-934C-7E512987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F3F0D-CDB4-4098-B7D8-A71832F6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F82FB-8743-4A04-9F34-9AD79E17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450A0-C108-44DE-8743-376C3A0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E4CA3-7ABC-46C0-A752-5C322FA0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B74C4-298B-4536-B538-9D1CAE36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56E-4175-4AA6-9CC1-31DBF958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4A555-31F0-4569-AC17-450CC694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418C8-0A26-4265-B042-620BFB44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68E11-F41D-41F4-920B-B3EEBA08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1DA59-3AAF-4B1B-B8C0-B528AC55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9C535-3D92-4A65-897D-C8889622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1947C-FE4F-4F73-86A7-8364C50D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A86C6-53DB-4CA3-8B76-19A35A2D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6E964-B976-4798-A52B-E270BDE9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9A95A-5766-449C-B0DB-D8DE6560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D04F1-94F7-4832-A93D-563C8B7D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58F5-105A-4C64-947F-8C4B34C5AA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9B95-A356-4113-AB18-67B51C5D206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3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C578-F9F6-4EE6-8D8A-54444D8E73DB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9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1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670A-E1CF-4D41-95FF-EA7E06D0F468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0DD8-9F36-4EEB-BC65-4BD880348B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9EA9-9189-41CD-9A21-7090C7DBEF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4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4350-06CA-4157-81C9-59B0FB5903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0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0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4B4B-FD18-48E8-86F1-3611D2410A22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5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5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3592-EFB3-4EDB-ADDA-65D75E2B6F58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64DA-E5BD-477A-A1C4-0198AA4F2AAB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6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3572-FCAA-4CBB-8E3D-AF94B36A2518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CF21-511C-48D0-9C65-8808B0A330C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1403280" y="404640"/>
            <a:ext cx="64818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欢迎各位家长光临指导！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78" name=""/>
          <p:cNvSpPr/>
          <p:nvPr/>
        </p:nvSpPr>
        <p:spPr>
          <a:xfrm>
            <a:off x="3924000" y="184464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8000"/>
                </a:solidFill>
                <a:latin typeface="Arial"/>
                <a:ea typeface="楷体_GB2312"/>
              </a:rPr>
              <a:t>家长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4"/>
          <a:stretch/>
        </p:blipFill>
        <p:spPr>
          <a:xfrm rot="17077200">
            <a:off x="2848680" y="4072680"/>
            <a:ext cx="2665440" cy="18097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3240" y="125460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与时俱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140680" y="1284120"/>
            <a:ext cx="100332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共创新的辉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5"/>
          <a:stretch/>
        </p:blipFill>
        <p:spPr>
          <a:xfrm rot="17077200">
            <a:off x="3856680" y="3856680"/>
            <a:ext cx="2665440" cy="1809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6"/>
          <a:stretch/>
        </p:blipFill>
        <p:spPr>
          <a:xfrm rot="17077200">
            <a:off x="1840680" y="4215600"/>
            <a:ext cx="2665440" cy="181008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7"/>
          <a:stretch/>
        </p:blipFill>
        <p:spPr>
          <a:xfrm rot="17077200">
            <a:off x="4864680" y="3712320"/>
            <a:ext cx="2665440" cy="180972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300"/>
                            </p:stCondLst>
                            <p:childTnLst>
                              <p:par>
                                <p:cTn id="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80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74981" fill="hold"/>
                                        <p:tgtEl>
                                          <p:spTgt spid="6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260280"/>
            <a:ext cx="91440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松磊：我尽我最大的努力去拼搏最后的三个月，一定考上高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姜佳良：我以后一定会完成您交给我的任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桑莹格：妈，我不会让您遗憾，我会努力的，尽我最大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赵聪慧：虽然我的成绩很差，但请相信我，我以后一定会努力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赵晓君：爸妈，在这短短的三个月里，我会努力考上我想上的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   丽：爸妈，我不会让你们失望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韩东明：行动证明一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吕婧媛：中考将要来临，我将付出万倍的努力走向高中大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许运锋：不求最好，只求更好，全力以赴，决胜中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凯文：为了我的未来，我会好好学习，请相信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学生发言        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6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ffffcc"/>
                </a:solidFill>
                <a:latin typeface="Tahoma"/>
              </a:rPr>
              <a:t>各科教师的联系方式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336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语文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-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石老师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数学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-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张老师：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物理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-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张老师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化学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-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张老师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政治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-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赵老师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历史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-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樊老师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体育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-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周老师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英语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-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秦老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4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2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6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40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99"/>
                </a:solidFill>
                <a:latin typeface="Arial"/>
              </a:rPr>
              <a:t>家长对学校的建议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 txBox="1"/>
          <p:nvPr/>
        </p:nvSpPr>
        <p:spPr>
          <a:xfrm>
            <a:off x="755640" y="620640"/>
            <a:ext cx="7632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谢谢各位光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705" name=""/>
          <p:cNvSpPr/>
          <p:nvPr/>
        </p:nvSpPr>
        <p:spPr>
          <a:xfrm>
            <a:off x="4716360" y="422100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cc00"/>
                </a:solidFill>
                <a:latin typeface="Arial"/>
                <a:ea typeface="华文隶书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205505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华文新魏"/>
              </a:rPr>
              <a:t>我们三四班的班训：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66"/>
                </a:solidFill>
                <a:latin typeface="Arial"/>
                <a:ea typeface="华文隶书"/>
              </a:rPr>
              <a:t>积极向上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66"/>
                </a:solidFill>
                <a:latin typeface="Arial"/>
                <a:ea typeface="华文隶书"/>
              </a:rPr>
              <a:t>努力拼搏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826920" y="692280"/>
            <a:ext cx="7848720" cy="52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班主任总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本次考试情况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公布进步较大的学生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4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2b2b2"/>
                </a:solidFill>
                <a:latin typeface="Arial"/>
              </a:rPr>
              <a:t>坚信孩子“行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关心孩子，尊重孩子。孩子有自己的思想，他们渴望被理解、被尊重，更渴望与父母沟通，建立亲密的关系。作为家长既要关心孩子的衣食住行，更要关心孩子的喜怒哀乐。不要居高临下地逼使孩子，也不要粗暴冷硬地刺伤孩子。要以大朋友的身份蹲下来身子和他们说话，平等自由地进行交流，倾听孩子的诉说，尊重孩子的选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54936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引导孩子，塑造孩子。一是引导孩子          求知，二是引导孩子做人。做父母的，在为人处事方面必须给孩子做出榜样和示范，并支持引导孩子去做好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赏识孩子，鼓励孩子。每个孩子心灵深处最强烈的需求和成人一样，就是渴望受到赏识和肯定。我们要始终给孩子前进的信心和力量，常表扬常鼓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260280"/>
            <a:ext cx="9144000" cy="68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看看孩子们的心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    豪：相信我，我一定能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杨    雪：爸妈，您们说的每一句话我都烙在心里，女儿一定要争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亚洲：人活一世，争一口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钱新东：滴水之恩，涌泉相报。我不会辜负你们对我的希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纪辉：我没有华丽的语言，但我有信心：我一定能考上高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少龙：虽然，我不是最好，但我可以做的更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殷   吉：我相信，只要我努力付出，我会成功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马   丽：我不会让你们担心，我会发挥我最大的能力考上高中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慧杰：爸妈，请相信我，我不会让你们失望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26028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郭亚远：爸爸，谢谢您给我大如山的父爱和支持，不会令您失望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郑广辉：爸、妈请你们放心，我一定会尽我最大努力去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乔   静：爸爸，相信我，我不会让您失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陈铭宇：一次失败不等于永久的，我不会让你们失望第二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余晓方：落后不等于失败，相信我，今年不会让你们失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郑艳红：相信吧，坚持到底就是胜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楚东洋：爸爸、妈妈，相信我，下次胜利的人肯定是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格丽：“阳光总在风雨后”，我想通过努力定会看到灿烂的阳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梦锴：爸妈，我一定会争气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冯晓萌：您的女儿不会让您失望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陈乔华：爸妈，您们无私的付出将得到儿女们永远的回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26028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窦   凯：爸妈，我一定会尽我最大的努力去考上高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靳晓菲：在最后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里，我一定会倍加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尚石磊：您放心，我不会让您失望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   选：面对中考，我坚信，我付出就会有收获的。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银博：尽自己最大的努力完成您望女成凤的愿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杨建柱：我会尽最大的努力去考高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鲍超鹏：茫茫人海，一定有我立足之地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樊丽娟：相信女儿，奇迹会出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伟强：爸妈，你们辛苦了，我一定会全力以赴迎接中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杨   洋：爸妈，请你们相信，我一定会成功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清江：爸妈，失败是暂时的，只要付出相信成功就再不远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260280"/>
            <a:ext cx="9144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韩俊强：我不去想是否会成功，目标是地平线，留下的只能是背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吕英杰：把焦点注意我，我要努力成为一名优秀的兴华之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付艳杰：爸爸，我不会辜负您的，会让您为我感到自豪骄傲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屈晓军：我会朝自己的梦想去努力，永不言放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变玲：只要尽心尽力，就会把梦想变为现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谷   豪：相信我吧，在最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，我会加倍努力，考上理想高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晓燕：只要行进途中的星光闪烁，即使未来的结果是茫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魏智勇：请您相信我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金忠：我不知道我最后是否成功，但我知道现在必须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云飞：中招，我会尽我最大的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慎   晴：风雨过后的天空，一定能出现彩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7:30:0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1:21:40Z</dcterms:modified>
  <cp:revision>51</cp:revision>
  <dc:subject>主题班会课件(分28大类): http://shop62905894.taobao.com</dc:subject>
  <dc:title>主题班会课件(分28大类): http://shop62905894.taobao.com</dc:title>
</cp:coreProperties>
</file>