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817-096D-479B-AA9F-9E757271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3BB-ADF2-459F-93AC-AC3C3A3F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444-C76E-4E66-B655-C341301D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71D-87AF-4942-9FE6-6A5F482B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CFD-55FF-43D6-997D-9840C1D0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C2B0-9B57-4451-8EC7-4BA614C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0512-EF90-4CD1-B52A-B0CC7B8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B03-9965-4BCA-9DAA-EDA4BD2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57F-9B06-464C-9859-3EB17637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0DA7-0145-4774-83AE-EC4B619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3D1-2D5C-4204-8448-C2D076C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233-BAAF-4DE8-B5C4-A80276EF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FA3-8A4A-4111-8209-4BC4C7C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713F-CC39-45FF-A153-81CB7EF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049-93CF-450B-BF39-B4DE013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387-762D-422B-9ED8-C10D7707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5B67-4DB5-42B2-9C2E-1C0FF411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16E-738B-459F-8643-60BEF88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09B-0245-4CF9-B987-6718021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D87-90B0-40A9-876F-9C957B2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771-47AE-45A1-9C47-D9813A7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8D7-96E0-494B-80FB-7480E16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1C4-4264-4FE0-8368-246EABE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BE6-C23A-42BD-9BCD-08A190F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77D9-3938-489B-AA9F-D825A3AFE9E4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1AD-9A8D-40B3-BCB2-4E3FCC48288C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7148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47640" y="1700280"/>
            <a:ext cx="6337440" cy="2520720"/>
          </a:xfrm>
          <a:prstGeom prst="rect">
            <a:avLst/>
          </a:prstGeom>
        </p:spPr>
        <p:txBody>
          <a:bodyPr wrap="none" fromWordArt="1" lIns="90000" rIns="90000" tIns="46800" bIns="468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方正舒体"/>
              </a:rPr>
              <a:t>让孩子的明天更美好</a:t>
            </a:r>
            <a:endParaRPr b="1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方正舒体"/>
              <a:ea typeface="方正舒体"/>
            </a:endParaRPr>
          </a:p>
        </p:txBody>
      </p:sp>
      <p:sp>
        <p:nvSpPr>
          <p:cNvPr id="90" name=""/>
          <p:cNvSpPr/>
          <p:nvPr/>
        </p:nvSpPr>
        <p:spPr>
          <a:xfrm>
            <a:off x="3616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720" y="4365720"/>
            <a:ext cx="4895640" cy="10792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八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(5)</a:t>
            </a: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班家长会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6436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839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5229360"/>
            <a:ext cx="8137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7628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ahoma"/>
              </a:rPr>
              <a:t>注重过程，淡看结果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271440"/>
            <a:ext cx="9901080" cy="712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</a:rPr>
              <a:t>让孩子知道父母的艰辛和良苦用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0"/>
            <a:ext cx="8820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家长和孩子们需要沟通的几个问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部分学生存在浪费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要注意孩子的青春期心理和生理健康教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做好预防学生早恋现象的发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坚决杜绝孩子上网玩游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疏导孩子的逆反心理，和孩子尽量避免正面冲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部分孩子学习的积极性主动性较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773360"/>
            <a:ext cx="88930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大家光临指导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00360" y="404640"/>
            <a:ext cx="4680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600" spc="-1" strike="noStrike">
                <a:solidFill>
                  <a:srgbClr val="ff0000"/>
                </a:solidFill>
                <a:latin typeface="Tahoma"/>
              </a:rPr>
              <a:t>再见！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941720"/>
            <a:ext cx="51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51280" y="4076640"/>
            <a:ext cx="432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感谢家长光临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8000" y="4653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43700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ahoma"/>
              </a:rPr>
              <a:t>谢谢您！妈妈</a:t>
            </a:r>
            <a:r>
              <a:rPr b="1" lang="zh-CN" sz="66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ahoma"/>
              </a:rPr>
              <a:t>感谢您！爸爸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35892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3645000"/>
            <a:ext cx="489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Tahoma"/>
              </a:rPr>
              <a:t>给家长的几点建议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0"/>
            <a:ext cx="8137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ahoma"/>
              </a:rPr>
              <a:t>不是让孩子听话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ahoma"/>
              </a:rPr>
              <a:t>而是让孩子听道理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不要认为，我们把孩子搞得灰溜溜的，就是尽到责任了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2742" b="10542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64000" y="2997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452600">
            <a:off x="2784240" y="2279520"/>
            <a:ext cx="1439640" cy="1109880"/>
          </a:xfrm>
          <a:custGeom>
            <a:avLst/>
            <a:gdLst>
              <a:gd name="textAreaLeft" fmla="*/ 338400 w 1439640"/>
              <a:gd name="textAreaRight" fmla="*/ 1100520 w 1439640"/>
              <a:gd name="textAreaTop" fmla="*/ 130320 h 1109880"/>
              <a:gd name="textAreaBottom" fmla="*/ 696240 h 1109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400536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Tahoma"/>
              </a:rPr>
              <a:t>创造让孩子不好意思不好的环境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333360"/>
            <a:ext cx="95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ahoma"/>
              </a:rPr>
              <a:t>我们要做孩子跑步时的啦啦队员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40464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ahoma"/>
              </a:rPr>
              <a:t>定目标：跳一跳，够得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49417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ahoma"/>
              </a:rPr>
              <a:t>少用食指，多用拇指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17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4:52Z</dcterms:modified>
  <cp:revision>25</cp:revision>
  <dc:subject>主题班会课件(分28大类): http://shop62905894.taobao.com</dc:subject>
  <dc:title>主题班会课件(分28大类): http://shop62905894.taobao.com</dc:title>
</cp:coreProperties>
</file>