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media/image6.jpeg" ContentType="image/jpeg"/>
  <Override PartName="/ppt/media/image5.jpeg" ContentType="image/jpeg"/>
  <Override PartName="/ppt/media/applause.wav" ContentType="audio/x-wav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B26-617F-4E3A-BA45-8EFA04E6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1EF-AD3B-4EC8-BCFE-06822E0A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8CA-7176-4EDC-A03B-AA870568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155-7150-4D65-88CE-9679D04C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3A13-A888-43BA-9733-F9879AAA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DDDA-FBE7-49B9-B6CC-B2297547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F112-3CDC-469D-8D38-176FD013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089B-FF54-4E76-9814-209CFFD5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774D-33CF-4195-AC23-A61C0294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1AD2-6ED5-41D8-AFA8-5F93F267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856F-28B8-4639-8908-7C45EC36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437-F1E3-4FFA-B4D9-C460D65A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77A1-6F90-455B-A333-5D96B0F8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A6A5-AFB8-4C5F-920E-904556E6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6ABB-45E6-4FBC-BAF6-6B5D8B50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5169-F82F-43EB-924C-F73D31CE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62FF-C629-4964-AA2D-818A55F0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176-0D13-402E-BAA7-4C8AF3C5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0AB-DDA6-423A-89AF-D89045DB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F29-D200-46B9-AB92-380C32E0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9A2-EE45-4825-928A-0A1C365A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C4B-5040-46EF-A56A-0D2828C2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BD7-BD9F-4607-93D7-949B6D11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A4E-517B-4708-92CF-C27F7485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9D0E-303C-4478-A4F4-ABC386C09C0D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9A5A-1C14-415F-8C9F-49E91BFC2E9B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4122d"/>
                </a:solidFill>
                <a:latin typeface="Times New Roman"/>
              </a:rPr>
              <a:t>Welcome!</a:t>
            </a:r>
            <a:endParaRPr b="0" lang="en-US" sz="8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7652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1d0deb"/>
                </a:solidFill>
                <a:latin typeface="Times New Roman"/>
                <a:ea typeface="幼圆"/>
              </a:rPr>
              <a:t>欢迎家长的到来！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1676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第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4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   薛璐璐 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（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733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分）  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年级</a:t>
            </a:r>
            <a:r>
              <a:rPr b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44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42244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第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5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   刘诗磊 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（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724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分）  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年级</a:t>
            </a:r>
            <a:r>
              <a:rPr b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55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18456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第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6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   尹晓萍 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（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719.5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分）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年级</a:t>
            </a:r>
            <a:r>
              <a:rPr b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59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幼圆"/>
              </a:rPr>
              <a:t>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9625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第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7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   李永腾  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（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716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分）  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年级</a:t>
            </a:r>
            <a:r>
              <a:rPr b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66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46483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第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8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   赵晓丽  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（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703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分）  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年级</a:t>
            </a:r>
            <a:r>
              <a:rPr b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83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第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9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   王     凯  （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698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分）  年级</a:t>
            </a:r>
            <a:r>
              <a:rPr b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89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0800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第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10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  薛文洁 （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680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分）  年级</a:t>
            </a:r>
            <a:r>
              <a:rPr b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100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5335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8182c"/>
                </a:solidFill>
                <a:latin typeface="Tahoma"/>
                <a:ea typeface="黑体"/>
              </a:rPr>
              <a:t>光荣榜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01240" y="457200"/>
            <a:ext cx="259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4122d"/>
                </a:solidFill>
                <a:latin typeface="Tahoma"/>
              </a:rPr>
              <a:t>单科前三名</a:t>
            </a:r>
            <a:r>
              <a:rPr b="1" i="1" lang="zh-CN" sz="5400" spc="-1" strike="noStrike">
                <a:solidFill>
                  <a:srgbClr val="f4122d"/>
                </a:solidFill>
                <a:latin typeface="Tahoma"/>
              </a:rPr>
              <a:t>: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12320" y="13716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4122d"/>
                </a:solidFill>
                <a:latin typeface="Tahoma"/>
                <a:ea typeface="黑体"/>
              </a:rPr>
              <a:t>语文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0" y="2057400"/>
          <a:ext cx="6171840" cy="4576680"/>
        </p:xfrm>
        <a:graphic>
          <a:graphicData uri="http://schemas.openxmlformats.org/drawingml/2006/table">
            <a:tbl>
              <a:tblPr/>
              <a:tblGrid>
                <a:gridCol w="1641600"/>
                <a:gridCol w="2594160"/>
                <a:gridCol w="1936080"/>
              </a:tblGrid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名次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姓名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分数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张苗苗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06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李叶晶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02.5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赵晓丽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00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22000" y="890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e8182c"/>
                </a:solidFill>
                <a:latin typeface="Tahoma"/>
              </a:rPr>
              <a:t>数学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00200" y="1905120"/>
          <a:ext cx="6781680" cy="4383000"/>
        </p:xfrm>
        <a:graphic>
          <a:graphicData uri="http://schemas.openxmlformats.org/drawingml/2006/table">
            <a:tbl>
              <a:tblPr/>
              <a:tblGrid>
                <a:gridCol w="1765080"/>
                <a:gridCol w="2508120"/>
                <a:gridCol w="25084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名次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姓名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分数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张苗苗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11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薛洪超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05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尹康凯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04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98320" y="890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e8182c"/>
                </a:solidFill>
                <a:latin typeface="Tahoma"/>
              </a:rPr>
              <a:t>外语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05120" y="2133720"/>
          <a:ext cx="6629040" cy="4343040"/>
        </p:xfrm>
        <a:graphic>
          <a:graphicData uri="http://schemas.openxmlformats.org/drawingml/2006/table">
            <a:tbl>
              <a:tblPr/>
              <a:tblGrid>
                <a:gridCol w="1908000"/>
                <a:gridCol w="2611800"/>
                <a:gridCol w="2109240"/>
              </a:tblGrid>
              <a:tr h="10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名次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姓名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分数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张苗苗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10.5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尹晓萍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7.5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王    凯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6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61680" y="6094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e8182c"/>
                </a:solidFill>
                <a:latin typeface="Tahoma"/>
              </a:rPr>
              <a:t>物理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09680" y="1371600"/>
          <a:ext cx="6476760" cy="5108400"/>
        </p:xfrm>
        <a:graphic>
          <a:graphicData uri="http://schemas.openxmlformats.org/drawingml/2006/table">
            <a:tbl>
              <a:tblPr/>
              <a:tblGrid>
                <a:gridCol w="1865160"/>
                <a:gridCol w="2551320"/>
                <a:gridCol w="2060280"/>
              </a:tblGrid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名次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姓名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分数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李叶晶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5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张苗苗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1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薛璐璐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李永腾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杨    雪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薛    浩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87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96600" y="5335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e8182c"/>
                </a:solidFill>
                <a:latin typeface="Tahoma"/>
              </a:rPr>
              <a:t>政治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5120" y="1447920"/>
          <a:ext cx="6858000" cy="4787640"/>
        </p:xfrm>
        <a:graphic>
          <a:graphicData uri="http://schemas.openxmlformats.org/drawingml/2006/table">
            <a:tbl>
              <a:tblPr/>
              <a:tblGrid>
                <a:gridCol w="1974600"/>
                <a:gridCol w="2700360"/>
                <a:gridCol w="218304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名次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姓名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分数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薛洪超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0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尹晓萍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85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张苗苗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薛璐璐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王    凯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83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90280" y="6094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e8182c"/>
                </a:solidFill>
                <a:latin typeface="Tahoma"/>
              </a:rPr>
              <a:t>地理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05120" y="1752480"/>
          <a:ext cx="7238520" cy="4952880"/>
        </p:xfrm>
        <a:graphic>
          <a:graphicData uri="http://schemas.openxmlformats.org/drawingml/2006/table">
            <a:tbl>
              <a:tblPr/>
              <a:tblGrid>
                <a:gridCol w="2083320"/>
                <a:gridCol w="2851920"/>
                <a:gridCol w="2303280"/>
              </a:tblGrid>
              <a:tr h="10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名次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姓名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分数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刘诗磊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7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7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赵晓丽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5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李叶晶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李永腾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4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38000" y="6094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e8182c"/>
                </a:solidFill>
                <a:latin typeface="Tahoma"/>
              </a:rPr>
              <a:t>历史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57400" y="1219320"/>
          <a:ext cx="6629400" cy="5398920"/>
        </p:xfrm>
        <a:graphic>
          <a:graphicData uri="http://schemas.openxmlformats.org/drawingml/2006/table">
            <a:tbl>
              <a:tblPr/>
              <a:tblGrid>
                <a:gridCol w="1908000"/>
                <a:gridCol w="2611440"/>
                <a:gridCol w="2109960"/>
              </a:tblGrid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名次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姓名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分数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张苗苗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李叶晶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9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薛洪超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7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尹晓萍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李永腾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白国斌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5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7621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41a34"/>
                </a:solidFill>
                <a:latin typeface="Times New Roman"/>
              </a:rPr>
              <a:t>生物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1773360"/>
            <a:ext cx="32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25909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905120" y="838080"/>
          <a:ext cx="7010280" cy="5727960"/>
        </p:xfrm>
        <a:graphic>
          <a:graphicData uri="http://schemas.openxmlformats.org/drawingml/2006/table">
            <a:tbl>
              <a:tblPr/>
              <a:tblGrid>
                <a:gridCol w="2014560"/>
                <a:gridCol w="2766960"/>
                <a:gridCol w="22287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名次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姓名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分数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张苗苗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9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薛璐璐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薛璐敏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杨    雪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8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薛洪超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王    凯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d0deb"/>
                          </a:solidFill>
                          <a:latin typeface="Times New Roman"/>
                        </a:rPr>
                        <a:t>96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1208160"/>
            <a:ext cx="7924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薛文洁（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16—10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）进步</a:t>
            </a: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新魏"/>
              </a:rPr>
              <a:t>6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薛洪超（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7------3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）进步</a:t>
            </a: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薛璐敏（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20—12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）进步</a:t>
            </a: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新魏"/>
              </a:rPr>
              <a:t>8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王    红（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21—13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）进步</a:t>
            </a: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新魏"/>
              </a:rPr>
              <a:t>8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19240" y="0"/>
            <a:ext cx="254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4122d"/>
                </a:solidFill>
                <a:latin typeface="Times New Roman"/>
                <a:ea typeface="黑体"/>
              </a:rPr>
              <a:t>进步同学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</a:rPr>
              <a:t>首先感谢您在百忙之中抽空来参加家长会，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41a34"/>
                </a:solidFill>
                <a:latin typeface="Times New Roman"/>
              </a:rPr>
              <a:t>尊敬的各位家长</a:t>
            </a:r>
            <a:r>
              <a:rPr b="1" lang="zh-CN" sz="5400" spc="-1" strike="noStrike">
                <a:solidFill>
                  <a:srgbClr val="b0ae6a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124080" y="502920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1411200"/>
            <a:ext cx="72388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刘  雪（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27—16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）进步</a:t>
            </a: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新魏"/>
              </a:rPr>
              <a:t>11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张  青（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20—14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）进步</a:t>
            </a: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新魏"/>
              </a:rPr>
              <a:t>11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杨  雪（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29—22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）进步</a:t>
            </a: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新魏"/>
              </a:rPr>
              <a:t>7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薛清坤（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28—24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）进步</a:t>
            </a: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50920" y="0"/>
            <a:ext cx="254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6600"/>
                </a:solidFill>
                <a:latin typeface="Times New Roman"/>
                <a:ea typeface="黑体"/>
              </a:rPr>
              <a:t>进步同学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1066680"/>
            <a:ext cx="723924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薛   新（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31—27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） 进步</a:t>
            </a: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范龙超（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36—31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）进步</a:t>
            </a: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新魏"/>
              </a:rPr>
              <a:t>5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尹    洁（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38—32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）进步</a:t>
            </a: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新魏"/>
              </a:rPr>
              <a:t>6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李冬雪（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26—21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）进步</a:t>
            </a: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新魏"/>
              </a:rPr>
              <a:t>5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陈燕燕（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22---17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）进步</a:t>
            </a: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新魏"/>
              </a:rPr>
              <a:t>5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95560" y="228600"/>
            <a:ext cx="254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6600"/>
                </a:solidFill>
                <a:latin typeface="Times New Roman"/>
                <a:ea typeface="黑体"/>
              </a:rPr>
              <a:t>进步同学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成绩不理想需要抓紧赶上的同学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09480" y="1981080"/>
          <a:ext cx="8229600" cy="2514240"/>
        </p:xfrm>
        <a:graphic>
          <a:graphicData uri="http://schemas.openxmlformats.org/drawingml/2006/table">
            <a:tbl>
              <a:tblPr/>
              <a:tblGrid>
                <a:gridCol w="1265760"/>
                <a:gridCol w="1425600"/>
                <a:gridCol w="1276200"/>
                <a:gridCol w="1413360"/>
                <a:gridCol w="1265400"/>
                <a:gridCol w="158328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4122d"/>
                          </a:solidFill>
                          <a:latin typeface="Times New Roman"/>
                        </a:rPr>
                        <a:t>赵晓丽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4122d"/>
                          </a:solidFill>
                          <a:latin typeface="Times New Roman"/>
                        </a:rPr>
                        <a:t>王     凯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4122d"/>
                          </a:solidFill>
                          <a:latin typeface="Times New Roman"/>
                        </a:rPr>
                        <a:t>白国斌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4122d"/>
                          </a:solidFill>
                          <a:latin typeface="Times New Roman"/>
                        </a:rPr>
                        <a:t>王     欢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4122d"/>
                          </a:solidFill>
                          <a:latin typeface="Times New Roman"/>
                        </a:rPr>
                        <a:t>李    阳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4122d"/>
                          </a:solidFill>
                          <a:latin typeface="Times New Roman"/>
                        </a:rPr>
                        <a:t>顾清超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4122d"/>
                          </a:solidFill>
                          <a:latin typeface="Times New Roman"/>
                        </a:rPr>
                        <a:t>李冬雪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4122d"/>
                          </a:solidFill>
                          <a:latin typeface="Times New Roman"/>
                        </a:rPr>
                        <a:t>尹康凯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4122d"/>
                          </a:solidFill>
                          <a:latin typeface="Times New Roman"/>
                        </a:rPr>
                        <a:t>张   腾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4122d"/>
                          </a:solidFill>
                          <a:latin typeface="Times New Roman"/>
                        </a:rPr>
                        <a:t>薛     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4122d"/>
                          </a:solidFill>
                          <a:latin typeface="Times New Roman"/>
                        </a:rPr>
                        <a:t>薛    超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4122d"/>
                          </a:solidFill>
                          <a:latin typeface="Times New Roman"/>
                        </a:rPr>
                        <a:t>李彦东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 txBox="1"/>
          <p:nvPr/>
        </p:nvSpPr>
        <p:spPr>
          <a:xfrm>
            <a:off x="533520" y="52578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请家长和我们一起做工作</a:t>
            </a:r>
            <a:endParaRPr b="0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4122d"/>
                </a:solidFill>
                <a:latin typeface="Times New Roman"/>
              </a:rPr>
              <a:t>学生存在的问题</a:t>
            </a:r>
            <a:r>
              <a:rPr b="1" i="1" lang="zh-CN" sz="4800" spc="-1" strike="noStrike">
                <a:solidFill>
                  <a:srgbClr val="f4122d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21337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deb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</a:rPr>
              <a:t>一些学生良好的学习习惯还要继续养成，希望家长们及时观察和纠正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4481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deb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</a:rPr>
              <a:t>部分同学不良的生活习惯又再抬头。</a:t>
            </a:r>
            <a:r>
              <a:rPr b="1" lang="zh-CN" sz="3600" spc="-1" strike="noStrike">
                <a:solidFill>
                  <a:srgbClr val="f4122d"/>
                </a:solidFill>
                <a:latin typeface="Times New Roman"/>
              </a:rPr>
              <a:t>（例如</a:t>
            </a:r>
            <a:r>
              <a:rPr b="1" lang="zh-CN" sz="4000" spc="-1" strike="noStrike">
                <a:solidFill>
                  <a:srgbClr val="f4122d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4122d"/>
                </a:solidFill>
                <a:latin typeface="Times New Roman"/>
              </a:rPr>
              <a:t>吃口香糖、上课时吃零食、乱丢乱扔等等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在家庭教育中</a:t>
            </a:r>
            <a:r>
              <a:rPr b="1" i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,</a:t>
            </a:r>
            <a:r>
              <a:rPr b="1" i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请各位家长在以下几方面与我们形成共识</a:t>
            </a:r>
            <a:r>
              <a:rPr b="1" i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2286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⑴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要掌握孩子的特点，有的放矢地进行教育。</a:t>
            </a:r>
            <a:r>
              <a:rPr b="1" lang="zh-CN" sz="2400" spc="-1" strike="noStrike">
                <a:solidFill>
                  <a:srgbClr val="1d0d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80988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⑵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要全面而准确地估计自己孩子的能力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5392800"/>
            <a:ext cx="6095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⑶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要正确看待孩子的分数。</a:t>
            </a:r>
            <a:r>
              <a:rPr b="1" lang="zh-CN" sz="3600" spc="-1" strike="noStrike">
                <a:solidFill>
                  <a:srgbClr val="0c0b0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14400" y="990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⑷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要多给孩子一点信心，做孩子成长的强有力的后盾。</a:t>
            </a:r>
            <a:br>
              <a:rPr sz="3600"/>
            </a:b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590920"/>
            <a:ext cx="67053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⑸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要教育学生遵守纪律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988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⑹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要创设一种良好的家庭育人环境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50292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⑺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要与老师坦诚相待，保持一致</a:t>
            </a:r>
            <a:r>
              <a:rPr b="1" lang="zh-CN" sz="3600" spc="-1" strike="noStrike">
                <a:solidFill>
                  <a:srgbClr val="0c0b0a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19320" y="6858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1d0deb"/>
                </a:solidFill>
                <a:latin typeface="Times New Roman"/>
              </a:rPr>
              <a:t>4. </a:t>
            </a:r>
            <a:r>
              <a:rPr b="1" i="1" lang="zh-CN" sz="4400" spc="-1" strike="noStrike">
                <a:solidFill>
                  <a:srgbClr val="1d0deb"/>
                </a:solidFill>
                <a:latin typeface="Times New Roman"/>
              </a:rPr>
              <a:t>具体来说</a:t>
            </a:r>
            <a:r>
              <a:rPr b="1" i="1" lang="zh-CN" sz="4400" spc="-1" strike="noStrike">
                <a:solidFill>
                  <a:srgbClr val="1d0deb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819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⑵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掌握学生的时间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安排好学生的生活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(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上学、放学的时间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学生早、中餐的问题等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1600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⑴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督促好学生的常规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(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校服、学生证、鞋套、不留长发、长指甲、染发等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41148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⑶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学习方面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关心学生每一天的学习情况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督促学生晚上在家独立完成各科家庭作业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并进行适当的复习和预习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对于学有余力的学生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安排适当的课外习题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10666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⑷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多和学生交流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了解他们的想法和需要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59092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⑸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多和学校、老师联系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了解学生在校的表现及学习情况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(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给班主任打电话、来校了解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5149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⑹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配合好学校、老师的工作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4122d"/>
                </a:solidFill>
                <a:latin typeface="Times New Roman"/>
              </a:rPr>
              <a:t>需要注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十问：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在外留宿。     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回家很迟。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带同学住宿。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打电话时间长，次数多。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受伤回家。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超消费要问。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超出友谊。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成绩突然下降。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穿奇装异服，爱好打扮，沉默寡言。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老是玩电脑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4122d"/>
                </a:solidFill>
                <a:latin typeface="Times New Roman"/>
              </a:rPr>
              <a:t>再次感谢各位家长的到来</a:t>
            </a:r>
            <a:r>
              <a:rPr b="1" i="1" lang="zh-CN" sz="4800" spc="-1" strike="noStrike">
                <a:solidFill>
                  <a:srgbClr val="f4122d"/>
                </a:solidFill>
                <a:latin typeface="Times New Roman"/>
              </a:rPr>
              <a:t>!</a:t>
            </a:r>
            <a:br>
              <a:rPr sz="2400"/>
            </a:b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73392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1d0deb"/>
                </a:solidFill>
                <a:latin typeface="Times New Roman"/>
                <a:ea typeface="幼圆"/>
              </a:rPr>
              <a:t>谢谢</a:t>
            </a:r>
            <a:r>
              <a:rPr b="1" i="1" lang="zh-CN" sz="8000" spc="-1" strike="noStrike">
                <a:solidFill>
                  <a:srgbClr val="1d0deb"/>
                </a:solidFill>
                <a:latin typeface="Times New Roman"/>
                <a:ea typeface="幼圆"/>
              </a:rPr>
              <a:t>!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4122d"/>
                </a:solidFill>
                <a:latin typeface="Times New Roman"/>
              </a:rPr>
              <a:t>家长会议程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209680"/>
            <a:ext cx="6705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⒈</a:t>
            </a: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学校领导讲话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⒉任课老师讲话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⒊班主任总结</a:t>
            </a:r>
            <a:br>
              <a:rPr sz="44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400" y="25905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zh-CN" sz="6600" spc="-1" strike="noStrike">
                <a:solidFill>
                  <a:srgbClr val="1d0deb"/>
                </a:solidFill>
                <a:latin typeface="Times New Roman"/>
                <a:ea typeface="幼圆"/>
              </a:rPr>
              <a:t>学校领导讲话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25905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1d0deb"/>
                </a:solidFill>
                <a:latin typeface="Times New Roman"/>
                <a:ea typeface="幼圆"/>
              </a:rPr>
              <a:t>任课老师讲话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 rot="10800000">
            <a:off x="5791320" y="4876560"/>
            <a:ext cx="2895480" cy="174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2895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447920"/>
            <a:ext cx="7788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0deb"/>
                </a:solidFill>
                <a:latin typeface="Times New Roman"/>
              </a:rPr>
              <a:t>班    长：     薛璐敏               团支书：    王    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0deb"/>
                </a:solidFill>
                <a:latin typeface="Times New Roman"/>
              </a:rPr>
              <a:t>副班长：     张苗苗               学习委员：薛洪超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0deb"/>
                </a:solidFill>
                <a:latin typeface="Times New Roman"/>
              </a:rPr>
              <a:t>财务委员：白国斌                文娱委员：赵晓丽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0deb"/>
                </a:solidFill>
                <a:latin typeface="Times New Roman"/>
              </a:rPr>
              <a:t>宣传委员：尹晓萍                卫生委员：李业晶                 体育委员：薛    彬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685800"/>
            <a:ext cx="321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班干部名单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81480" y="3971880"/>
            <a:ext cx="3657600" cy="2886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3716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deb"/>
                </a:solidFill>
                <a:latin typeface="Times New Roman"/>
              </a:rPr>
              <a:t>语文课代表：李业晶        数学课代表：刘诗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deb"/>
                </a:solidFill>
                <a:latin typeface="Times New Roman"/>
              </a:rPr>
              <a:t>英语课代表：张苗苗        物理课代表：尹晓萍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deb"/>
                </a:solidFill>
                <a:latin typeface="Times New Roman"/>
              </a:rPr>
              <a:t>政治课代表：陈燕燕        历史课代表：薛璐璐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deb"/>
                </a:solidFill>
                <a:latin typeface="Times New Roman"/>
              </a:rPr>
              <a:t>地理课代表：赵晓丽        生物科代表：杨     雪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7621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4122d"/>
                </a:solidFill>
                <a:latin typeface="Times New Roman"/>
                <a:ea typeface="华文行楷"/>
              </a:rPr>
              <a:t>科代表名单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4122d"/>
                </a:solidFill>
                <a:latin typeface="Times New Roman"/>
              </a:rPr>
              <a:t>成绩回顾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1905120"/>
            <a:ext cx="6629400" cy="43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1.</a:t>
            </a:r>
            <a:r>
              <a:rPr b="1" i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月考成绩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700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分以上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:</a:t>
            </a:r>
            <a:r>
              <a:rPr b="1" lang="zh-CN" sz="3200" spc="-1" strike="noStrike">
                <a:solidFill>
                  <a:srgbClr val="e8182c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650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分—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700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分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:6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600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分—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650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分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:4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进步较大的同学多达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29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人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全班同学从成绩和表现上来看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都有进步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1d0deb"/>
                </a:solidFill>
                <a:latin typeface="Tahoma"/>
              </a:rPr>
              <a:t>特提出全班表扬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8120" y="68580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8182c"/>
                </a:solidFill>
                <a:latin typeface="Tahoma"/>
                <a:ea typeface="黑体"/>
              </a:rPr>
              <a:t>光荣榜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93520" y="1752480"/>
            <a:ext cx="17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1d0deb"/>
                </a:solidFill>
                <a:latin typeface="Tahoma"/>
                <a:ea typeface="MingLiU"/>
              </a:rPr>
              <a:t>总分前三名</a:t>
            </a:r>
            <a:r>
              <a:rPr b="1" i="1" lang="zh-CN" sz="3600" spc="-1" strike="noStrike">
                <a:solidFill>
                  <a:srgbClr val="1d0deb"/>
                </a:solidFill>
                <a:latin typeface="Tahoma"/>
                <a:ea typeface="MingLiU"/>
              </a:rPr>
              <a:t>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666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第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1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   张苗苗 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（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790.5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分）  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年级</a:t>
            </a:r>
            <a:r>
              <a:rPr b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2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657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第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2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   李叶晶 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（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744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分）  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年级</a:t>
            </a:r>
            <a:r>
              <a:rPr b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30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46324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第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3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   薛洪超 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（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743</a:t>
            </a:r>
            <a:r>
              <a:rPr b="1" i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分）  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年级</a:t>
            </a:r>
            <a:r>
              <a:rPr b="1" lang="zh-CN" sz="4000" spc="-1" strike="noStrike">
                <a:solidFill>
                  <a:srgbClr val="f4122d"/>
                </a:solidFill>
                <a:latin typeface="Times New Roman"/>
                <a:ea typeface="幼圆"/>
              </a:rPr>
              <a:t>32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  <a:ea typeface="幼圆"/>
              </a:rPr>
              <a:t>名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6:24:0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29:27Z</dcterms:modified>
  <cp:revision>56</cp:revision>
  <dc:subject>主题班会课件(分28大类): http://shop62905894.taobao.com</dc:subject>
  <dc:title>主题班会课件(分28大类): http://shop62905894.taobao.com</dc:title>
</cp:coreProperties>
</file>