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jpeg" ContentType="image/jpeg"/>
  <Override PartName="/ppt/media/image8.jpeg" ContentType="image/jpeg"/>
  <Override PartName="/ppt/media/image2.gif" ContentType="image/gif"/>
  <Override PartName="/ppt/media/image1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15.gif" ContentType="image/gif"/>
  <Override PartName="/ppt/media/image7.jpeg" ContentType="image/jpeg"/>
  <Override PartName="/ppt/media/image3.gif" ContentType="image/gif"/>
  <Override PartName="/ppt/media/type.wav" ContentType="audio/x-wav"/>
  <Override PartName="/ppt/media/image18.wmf" ContentType="image/x-wm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B03-4FB4-41D3-80F9-D2C42BE1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411-4605-4DF5-9583-24598BA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47-B5F9-4809-AD55-E594BF80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8A6-5483-4F70-9E83-2CD9441F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C78-31BD-4A43-BD56-07049FF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F21-E77B-418E-BE63-462D3CE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94C-1EC4-4E6A-B262-E7C4FF4A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63A-AF3E-4FA6-B52E-0A850CA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9A4-4A44-447D-A0F0-AC66918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CAB-3380-4634-960E-C24BF54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A72-0416-424A-A5C6-2962B17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32A-9C9C-4630-9D50-BBBB9A1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B68-978D-453F-9E74-789CF3EFC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4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9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1052640"/>
            <a:ext cx="741672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与孩子一起成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3357720"/>
            <a:ext cx="5616720" cy="252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29320" y="576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上课积极发言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276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旦       易泽楠     陆文豪      楼亮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舒美珍   丁亦苑     章昊承    胡天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皓宇   王张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6160" y="474840"/>
            <a:ext cx="58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60280"/>
          <a:ext cx="7200720" cy="6210360"/>
        </p:xfrm>
        <a:graphic>
          <a:graphicData uri="http://schemas.openxmlformats.org/drawingml/2006/table">
            <a:tbl>
              <a:tblPr/>
              <a:tblGrid>
                <a:gridCol w="2497680"/>
                <a:gridCol w="470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班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舒美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副班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潘书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学习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朱丹萍   张  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宣传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陆文豪   孙琳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电教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童舒恺   张  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文艺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厉丹颖   凌雁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体育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杨佳华   陈皓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劳动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周  宇   叶子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卫生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方卓尔  黄赛男  方炜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组织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易泽楠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纪律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丁亦苑   张昊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生活委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幼圆"/>
                        </a:rPr>
                        <a:t>藤超波   周  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40840" y="620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热心集体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844640"/>
            <a:ext cx="83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皓宇      周宇       方卓尔     朱丹萍     凌雁燕     潘书园   孙琳莉   滕超波       袁冰婵   黄赛男        俞虹    舒美珍       方炜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116000" y="1916280"/>
          <a:ext cx="7128000" cy="3456000"/>
        </p:xfrm>
        <a:graphic>
          <a:graphicData uri="http://schemas.openxmlformats.org/drawingml/2006/table">
            <a:tbl>
              <a:tblPr/>
              <a:tblGrid>
                <a:gridCol w="1859040"/>
                <a:gridCol w="1860480"/>
                <a:gridCol w="1703520"/>
                <a:gridCol w="170496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楼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梅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叶子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陈群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厉丹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陆文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胡天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卓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王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童之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凌雁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章昊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黄赛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袁冰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陈祎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731960" y="62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卫积极分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初一学生心理特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一阶段学生生理逐渐趋向成熟，大部分学生已进入青春期，他们自我意识在增强，开始要自由不受约束，嫌唠叨，脾气暴躁，不愿与家长沟通，爱虚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于以上特点我们班有部分学生脑子很聪明，但总与好成绩失之交臂。他们有共同缺点，想要好成绩，但又怕苦怕累；想认真读书，但又不能专心致志；想认真作业，但又不能持之以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765000"/>
            <a:ext cx="127944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2602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班级中存在的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125360"/>
            <a:ext cx="71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些学生上课注意力不集中，容易走神，课堂效率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些学生作业马虎，作业差错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有学生不肯按时完成作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迟交或不交作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的甚至抄作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71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、有些学生学习缺乏主动性，任务观点，没有完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入学习状态，做完作业后没有复习预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157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４、有些学生缺少责任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8880" y="5810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５、有些学生不尊重他人，荣辱观念淡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728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84360" y="1268280"/>
            <a:ext cx="6983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如何去解决出现的问题？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640" y="3933720"/>
            <a:ext cx="561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家庭与学校必须高度重视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8000" y="465300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家长与老师必须高度配合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96880" y="380880"/>
            <a:ext cx="33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家长需关注的几点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8360" y="206064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的学习习惯、作业完成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200" y="3578400"/>
            <a:ext cx="28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的伙伴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720" y="285264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的细微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21760" y="1341360"/>
            <a:ext cx="28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心理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7080" y="429264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书包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57600" y="601992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60199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09680" y="6019920"/>
            <a:ext cx="129564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01992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172200" y="6019920"/>
            <a:ext cx="144792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66680" y="6019920"/>
            <a:ext cx="1143000" cy="82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467480" y="3745080"/>
            <a:ext cx="1676520" cy="3112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96000" y="5018040"/>
            <a:ext cx="32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６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关注孩子的业余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54936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爱的家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一个稚嫩的生命诞生时，他（她）给作父母的您带来了多少喜悦与企盼。随着孩子的长大、上学、读书，孩子的成绩成了许多家庭的晴雨表，您的心也随着孩子的成功而喜悦，随着孩子的不尽人意而沮丧。然而，您是否知道教育孩子的前提是了解孩子，了解孩子应具备什么样的素质才能适应社会发展的需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692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许多家长的心情颇为复杂，或忧或喜。谁都不能说家长关注孩子的学习成绩不对，但如何看待学习成绩，如何看待孩子成长中的基本素质，如何评价孩子，用什么样的标准去评价自己的孩子，这不只是一个评价的问题，因为您对孩子的评价会影响您对孩子的态度，也会左右孩子的发展。这一切应是我们作为现代家长必须重视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92360" y="836640"/>
            <a:ext cx="3124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家长会议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333520"/>
            <a:ext cx="4190760" cy="5814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校领导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722760"/>
            <a:ext cx="510516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交流教育孩子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370400"/>
            <a:ext cx="5105160" cy="52056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反馈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002040"/>
            <a:ext cx="5562360" cy="5205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汇报班级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1840" y="5646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您的孩子成长在科技高速发展的现代社会里，他们将面临二十一世纪的挑战。当今的少年必须具备什么样的素质，又怎样去培养这些素质，这既是国家、学校教育关注的焦点，也是家长应该给予充分关注的问题。国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教育委员会报告中提出的教育四大支柱，我们赋予它我国教育的特色，即为：用创新的精神学会认知；用亲身体验、勇于实践学会做事；用爱心、合作与竞争精神学会共生活；用坚强的意志直面挫折和失败学会生存。这些素质的培养，既需要学校提高教学质量、教育水平来达到，更需要家庭教育与学校教育同步，用正确的教育思想、教育方法来引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620640"/>
            <a:ext cx="8964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教育的大支柱明确表明，仅仅关注孩子的学习成绩，是不能培养出现代人的。健康、乐观、向上的人格；健全的心理素质；对国家、对社会的责任感，才是孩子成才的决定因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29242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家庭教育是培养孩子成功的重要一环。现代社会是两代人共同成长的社会，我们的家长只有在了解孩子，不断学习，采用新的教育观念与教育方法后，才能培养出成功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首先，家长对成功要有正确的认识。中国科学院心理研究所心理学博士邱炳武是这样论述的：过去人们总是把考大学、读博士看作是成功，其实这只是社会认可的标准的一种，其它还有许多方面，如社会成就、工作能力、待人处事等等。但是从心理学的角度来说，衡量成功还应该有一个主观的标准，也就是说，人在追求成功的时候，要结合自己的能力、情绪、兴趣、人格……如果你对自己做的事情感到很愉快、很感兴趣，并且能尽自己的努力把事情做到最好，就应该算是一种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6000" y="5300640"/>
            <a:ext cx="158400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042920" y="5273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851280" y="5734080"/>
            <a:ext cx="1584360" cy="736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404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现在的家长们总是给孩子定很高的目标，以为孩子达到这样的目标才是成功，其实不然。这些目标不见得是孩子们所喜欢的，所感兴趣的，也未必真正能够体现孩子的生命价值。大千世界丰富多彩，每一个人的价值是完全不同的。而一些家长的做法只是用孩子的痛苦来换取自己所期望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以上论述中可以体会到，了解孩子的需要，帮助孩子达到这个需要，一定要切忌“拔苗助长”。对中学生来说，定一个经过努力能达到的目标，让他（她）体会到成功的喜悦，从而增强自信心，是对成功概念比较科学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307800"/>
            <a:ext cx="84978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次，作父母的在对孩子的教育中应采用民主、平等、引导的态度。忙碌的父母经常在孩子面前扮演教练官或无可奈何的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角色：当孩子做错事时，一味批评、指责，势必造成孩子的反感，有了逆反心理，错误不但不会改正，反而会强化。如果换成“现在你怎样解决这个问题呢？”，让孩子自悟，自己找出解决问题的办法，让孩子参与解决问题的过程。这样做，孩子既能认识到自己的不足，改正错误，同时也维护了孩子的自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013360"/>
            <a:ext cx="1528560" cy="1677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540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第二种角色：因为家长对孩子的一味迁就、娇惯，造成了孩子的任性、无责任感。明知孩子乱花零用钱，不整理书包，不愿意做家务事，早上不愿意起床等的不对，但总觉得孩子小，迁就一下，自己多做一些无妨。殊不知，在家长放纵自己疼爱孩子感情影响下成长的孩子，往往任性厌学。家长应该有条件每天给十元零用钱，却只给一元；明知孩子自己整理书包会丢三拉四，还得我去收拾，可偏要他去整理；明知地扫不干净，碗洗不干净，还得我重做，够麻烦，偏还要他去做；明知早上赖床我不催他，他就会迟到挨批评，我偏不管。万事开头难，没有了您过分的呵护，让孩子自己完成他应该完成的事。坚持下去，总有一天孩子会做好自己的事，会具有责任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87280" y="2060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家长交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692360" y="2205000"/>
            <a:ext cx="556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最为有效的解决方法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518160"/>
            <a:ext cx="342720" cy="3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836640"/>
            <a:ext cx="85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育孩子的前提是了解孩子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赏识才能成功，抱怨导致失败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让我们共同携起手来，培养出健康、自律、好学、上进的新一代吧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尊重孩子，了解孩子，与孩子沟通是我们教育好孩子，培养孩子健康人格的前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64000" y="5445000"/>
            <a:ext cx="5040360" cy="141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404640"/>
            <a:ext cx="998280" cy="17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16000" y="1268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让我们携手共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共创孩子美好未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276360" cy="289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114800" y="52578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739880" y="1612800"/>
          <a:ext cx="6095880" cy="3903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期   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    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期   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301560" y="4762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班级成绩对照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42920" y="2924280"/>
            <a:ext cx="68580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感谢各位家长的光临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多提宝贵意见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14560" y="369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学习之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177336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8420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84464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丹萍    盛余      潘书园         刘旻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舒美珍    唐恒杰   杨佳华         梅旦           胡晔雯    周洋      章昊承         丁亦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琳莉   王臻颖    童晓文         方君之  易泽楠   胡天一    陆文豪          苏海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82920" y="4809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进步之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700280"/>
          <a:ext cx="9620280" cy="3984480"/>
        </p:xfrm>
        <a:graphic>
          <a:graphicData uri="http://schemas.openxmlformats.org/drawingml/2006/table">
            <a:tbl>
              <a:tblPr/>
              <a:tblGrid>
                <a:gridCol w="1619280"/>
                <a:gridCol w="1600200"/>
                <a:gridCol w="1600200"/>
                <a:gridCol w="1485720"/>
                <a:gridCol w="1486080"/>
                <a:gridCol w="1828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尹王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哲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张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盛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陈祎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丁亦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黄赛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童晓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朱丹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陈群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泽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赵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梅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严盛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潘书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童之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滕超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炜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卓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章昊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王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杨佳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俞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王臻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童舒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凌雁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孙琳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马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俞唯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25640" y="981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科成绩优异者（数学　１００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余 　　周洋 　　胡晔雯  　　俞唯哲 方君之 　丁亦苑 　孙琳莉 　　易泽楠 陆文豪 　童之昱 　王张杭 　　单哲宇 张雨润 　童嘉成 　章昊承　　朱丹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佳华　 梅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87360" y="110664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科成绩优异者（英语９５分以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7594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丹萍　　盛余　　潘书园　　刘旻雯舒美珍　　陈群燕　杨佳华　　丁亦苑王臻颖　　童晓文　方君之　　易泽楠陆文豪　　苏海虹　俞高凯　　蔡楚蓉黄赛男　　唐恒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87360" y="110664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科成绩优异者（语文８５分以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3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童晓文　潘书园　　舒美珍　　朱丹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87360" y="110664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科成绩优异者（科学９０分以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6949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丹萍　潘书园　舒美珍　张扬　胡天一　唐恒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1:10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0:20Z</dcterms:modified>
  <cp:revision>19</cp:revision>
  <dc:subject>主题班会课件(分28大类): http://shop62905894.taobao.com</dc:subject>
  <dc:title>主题班会课件(分28大类): http://shop62905894.taobao.com</dc:title>
</cp:coreProperties>
</file>