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7.png" ContentType="image/png"/>
  <Override PartName="/ppt/media/image12.png" ContentType="image/png"/>
  <Override PartName="/ppt/media/image4.gif" ContentType="image/gif"/>
  <Override PartName="/ppt/media/image13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9.wmf" ContentType="image/x-wmf"/>
  <Override PartName="/ppt/media/image11.gif" ContentType="image/gif"/>
  <Override PartName="/ppt/media/image8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148D-AF71-4AB2-AF1B-5B4C48C34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C60E-8E5A-4991-8CBA-A2B86A32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2771-3E0F-4F87-961A-1E6084607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D4B4-CEE7-41A4-B7D0-313B773E5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4BF9-67E1-41D5-BF7D-4A4E247FE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EAB9-BEEC-4475-874A-BB8039C5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85EC-C516-4E48-9B15-F3F14606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588C-7221-4DC9-8B32-446BFE60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5726-CFA9-4A4D-9523-CD7A4E41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446A-3DEE-4CC2-81FF-E5BE25F9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BC5A-D828-40EC-90A6-E3F8E6EC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67DF-40A3-4AB2-8A38-35B9AA2E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889F-CD3C-4811-B9C4-327C4C52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C50D-B382-4CCF-B471-5521BE35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EE44-2286-4342-B4A6-32ED5FA5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969AC-4A6E-4834-B63F-907549340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7A56-3532-43A0-8ED0-1C71B4EDD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87C5-C097-4E39-9D71-577CDF4B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CD25-339D-4F26-A0D7-5B327C65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9C53-647F-48BA-8FED-51C17A04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DC56-260E-4263-ABC2-D9784B88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BEE1-3EF3-42BB-8380-09EF9CF2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193C-E9EF-47E8-B8E3-38162CD0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BF2C-1023-4545-AD36-2F0F0038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4D5C-8093-44FB-95FA-89277DD4466B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DCF6-67E5-4E86-BA7D-7919F0E21F6A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835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43280" y="836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3564000" y="0"/>
            <a:ext cx="3311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欢迎您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4" name=""/>
          <p:cNvSpPr/>
          <p:nvPr/>
        </p:nvSpPr>
        <p:spPr>
          <a:xfrm>
            <a:off x="4103640" y="3141720"/>
            <a:ext cx="5040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议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学校领导讲话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、班级情况分析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、个别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724280"/>
            <a:ext cx="3816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班主任：陈老师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联系电话：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826811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403280" y="1844640"/>
            <a:ext cx="1079640" cy="14511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8016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95280" y="1052640"/>
            <a:ext cx="84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ff"/>
                </a:solidFill>
                <a:latin typeface="Times New Roman"/>
              </a:rPr>
              <a:t>五、教育学生遵守纪律。家有家法，校有校规，班级也有班级的纪律。这些规定和纪律，是同学们提高成绩的保证，学生们只有好好的遵守这些纪律，才能够形成一个良好的班级，才能够全面提高自己的水平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36450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ff"/>
                </a:solidFill>
                <a:latin typeface="Times New Roman"/>
              </a:rPr>
              <a:t>六、堵不如疏，要适当，不能太严也不能不管，比如一点不让看电视，这也不现实。但是不负责任的放任，不管不问，则是更不明智的做法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27280" cy="1125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0"/>
            <a:ext cx="71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几点希望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981000"/>
            <a:ext cx="80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6666ff"/>
                </a:solidFill>
                <a:latin typeface="Times New Roman"/>
              </a:rPr>
              <a:t>、树立人人成才和全面发展的观念，。如果您不放弃教育，每个孩子都是可造之才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989000"/>
            <a:ext cx="87501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6666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6666ff"/>
                </a:solidFill>
                <a:latin typeface="Times New Roman"/>
              </a:rPr>
              <a:t>、严格管理时间，科学安排时间。有以下几个方面需家长注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6666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6666ff"/>
                </a:solidFill>
                <a:latin typeface="Times New Roman"/>
              </a:rPr>
              <a:t>）早晨到校时间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00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6666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6666ff"/>
                </a:solidFill>
                <a:latin typeface="Times New Roman"/>
              </a:rPr>
              <a:t>。做到不早到，不迟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6666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6666ff"/>
                </a:solidFill>
                <a:latin typeface="Times New Roman"/>
              </a:rPr>
              <a:t>）星期天也要按时作息，做到劳逸结合，建议每天学习平均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4--6</a:t>
            </a:r>
            <a:r>
              <a:rPr b="1" lang="zh-CN" sz="3200" spc="-1" strike="noStrike">
                <a:solidFill>
                  <a:srgbClr val="6666ff"/>
                </a:solidFill>
                <a:latin typeface="Times New Roman"/>
              </a:rPr>
              <a:t>小时以上（对一周所学知识归纳、巩固复习和提高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6666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6666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6666ff"/>
                </a:solidFill>
                <a:latin typeface="Times New Roman"/>
              </a:rPr>
              <a:t>） 下午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00</a:t>
            </a:r>
            <a:r>
              <a:rPr b="1" lang="zh-CN" sz="3200" spc="-1" strike="noStrike">
                <a:solidFill>
                  <a:srgbClr val="6666ff"/>
                </a:solidFill>
                <a:latin typeface="Times New Roman"/>
              </a:rPr>
              <a:t>前放学，家长要掌握时间，要求学生放学按时回家，不能在外逗留、玩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6666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6666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6666ff"/>
                </a:solidFill>
                <a:latin typeface="Times New Roman"/>
              </a:rPr>
              <a:t>）每天晚上的学习时间应达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6666ff"/>
                </a:solidFill>
                <a:latin typeface="Times New Roman"/>
              </a:rPr>
              <a:t>小时以上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940360" y="0"/>
            <a:ext cx="2210040" cy="1139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68360" y="692280"/>
            <a:ext cx="7561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6666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6666ff"/>
                </a:solidFill>
                <a:latin typeface="Times New Roman"/>
              </a:rPr>
              <a:t>、 家长要经常过问孩子的学习，了解孩子的学习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6666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6666ff"/>
                </a:solidFill>
                <a:latin typeface="Times New Roman"/>
              </a:rPr>
              <a:t>、 创造和睦、祥和、稳定的家庭气氛。一个成天吵架问题成堆的家庭是无法教育好孩子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ff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6666ff"/>
                </a:solidFill>
                <a:latin typeface="Times New Roman"/>
              </a:rPr>
              <a:t>、经常与老师取得联系，与老师密切配合。及时了解学生每月在校的学习、纪律等情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6666ff"/>
                </a:solidFill>
                <a:latin typeface="Times New Roman"/>
              </a:rPr>
              <a:t>、注重培养孩子的劳动观念，要求孩子在家必需干一定数量的家务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396360" cy="68594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700360" y="5084640"/>
            <a:ext cx="129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ff00ff"/>
                </a:solidFill>
                <a:latin typeface="Comic Sans MS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59280" y="5805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284720" y="5229360"/>
            <a:ext cx="439272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再见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push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57200" y="45720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95640" y="83664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47640" y="141300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413000"/>
            <a:ext cx="8604360" cy="678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6666ff"/>
                </a:solidFill>
                <a:latin typeface="Times New Roman"/>
              </a:rPr>
              <a:t>这一时期的学生不信任父母，却容易受朋友影响，加上心智发育尚未成熟，往往对外界影响缺乏识别能力，容易在感情上出现困惑，有的还会出现吸烟、喝酒等不良现象。另外，这一时期的孩子易反叛，原因很简单：他们往往想在这种尝试中获得一种肯定：我独立了。父母要高度重视对这一关键期和危险期的监护和把关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您了解自己的孩子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1280" y="69228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心理方面分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50920" y="0"/>
            <a:ext cx="8459640" cy="5814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6666ff"/>
                </a:solidFill>
                <a:latin typeface="Times New Roman"/>
              </a:rPr>
              <a:t>这一时期的另一显着特点是生理发育的逐步成熟，他们一方面为自己身体各部分的发育感到新奇，另一方面又充满羞涩和不安，不愿让父母进自己的房间了，有自己的秘密了。心理上的表现是容易兴奋和冲动，神经敏感，产生了爱情的萌芽，有发生早恋的倾向 ，在这一时期，作为家长要高度重视，决不能有不良的刺激对孩子产生影响，特别是性感之类的刺激，要注意从家庭生活到电影，电视节目，一定要有适度的选择。冲动是他们这个时期的最大特征，好奇是他们一生中的高峰。他们自我抑制能力在这段时间最低。所以父母一定要加强教育和引导，尤其是网络的影响。</a:t>
            </a:r>
            <a:r>
              <a:rPr b="0" lang="zh-CN" sz="3200" spc="-1" strike="noStrike">
                <a:solidFill>
                  <a:srgbClr val="6666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32000" y="627120"/>
            <a:ext cx="333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8360" y="12682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6920" y="184464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28360" y="2492280"/>
            <a:ext cx="279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26920" y="3716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87280" y="4653000"/>
            <a:ext cx="64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093080" y="4554360"/>
            <a:ext cx="2050920" cy="2303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0" y="0"/>
            <a:ext cx="51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学生的学习情况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692280"/>
            <a:ext cx="86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6666ff"/>
                </a:solidFill>
                <a:latin typeface="Times New Roman"/>
              </a:rPr>
              <a:t>个别学生，每次考试成绩都不太理想，实际上就是学习习惯差了一点，在校的表现如：早读到校后不能立即抓紧时间早读，上课听讲不高效，课后作业没有弄明白。在家的表现如：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回家不能及时认真地完成作业</a:t>
            </a:r>
            <a:r>
              <a:rPr b="1" lang="zh-CN" sz="3200" spc="-1" strike="noStrike">
                <a:solidFill>
                  <a:srgbClr val="6666ff"/>
                </a:solidFill>
                <a:latin typeface="Times New Roman"/>
              </a:rPr>
              <a:t>，不及时休息，周日等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放假期间不能科学安排学习时间</a:t>
            </a:r>
            <a:r>
              <a:rPr b="1" lang="zh-CN" sz="3200" spc="-1" strike="noStrike">
                <a:solidFill>
                  <a:srgbClr val="6666ff"/>
                </a:solidFill>
                <a:latin typeface="Times New Roman"/>
              </a:rPr>
              <a:t>，劳动观念不强等。对此，我们老师会更进一步加强引导，希望家长能督促子女每天回家后的学习，尤其关注放假在家的学习安排，也及时与子女交谈学习情况和近段的一些努力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11280" y="54936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125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4822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Comic Sans MS"/>
              </a:rPr>
              <a:t>祝贺这些同学本学期光荣加入共青团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550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Comic Sans MS"/>
              </a:rPr>
              <a:t>吴丽莎（团支部书记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Comic Sans MS"/>
              </a:rPr>
              <a:t>王雯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Comic Sans MS"/>
              </a:rPr>
              <a:t>许梦媛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Comic Sans MS"/>
              </a:rPr>
              <a:t>诸男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Comic Sans MS"/>
              </a:rPr>
              <a:t>许艳娜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Comic Sans MS"/>
              </a:rPr>
              <a:t>于青燕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64000" y="1628640"/>
            <a:ext cx="4097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Comic Sans MS"/>
              </a:rPr>
              <a:t>于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Comic Sans MS"/>
              </a:rPr>
              <a:t>刘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Comic Sans MS"/>
              </a:rPr>
              <a:t>周泽萍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Comic Sans MS"/>
              </a:rPr>
              <a:t>曹丽娜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Comic Sans MS"/>
              </a:rPr>
              <a:t>吴泽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Comic Sans MS"/>
              </a:rPr>
              <a:t>江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203640" y="4581360"/>
            <a:ext cx="2160360" cy="201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476360" y="3189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17440" y="1197000"/>
            <a:ext cx="279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16000" y="32130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4149720"/>
            <a:ext cx="871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84720" y="0"/>
            <a:ext cx="1800360" cy="12682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0" y="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期中考试情况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20640"/>
            <a:ext cx="8459640" cy="20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取得优秀成绩的同学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科总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ff"/>
                </a:solidFill>
                <a:latin typeface="Times New Roman"/>
              </a:rPr>
              <a:t>吴丽莎</a:t>
            </a:r>
            <a:r>
              <a:rPr b="1" lang="zh-CN" sz="2800" spc="-1" strike="noStrike">
                <a:solidFill>
                  <a:srgbClr val="6666ff"/>
                </a:solidFill>
                <a:latin typeface="Times New Roman"/>
              </a:rPr>
              <a:t>(384)   </a:t>
            </a:r>
            <a:r>
              <a:rPr b="1" lang="zh-CN" sz="2800" spc="-1" strike="noStrike">
                <a:solidFill>
                  <a:srgbClr val="6666ff"/>
                </a:solidFill>
                <a:latin typeface="Times New Roman"/>
              </a:rPr>
              <a:t>许梦媛</a:t>
            </a:r>
            <a:r>
              <a:rPr b="1" lang="zh-CN" sz="2800" spc="-1" strike="noStrike">
                <a:solidFill>
                  <a:srgbClr val="6666ff"/>
                </a:solidFill>
                <a:latin typeface="Times New Roman"/>
              </a:rPr>
              <a:t>(382)    </a:t>
            </a:r>
            <a:r>
              <a:rPr b="1" lang="zh-CN" sz="2800" spc="-1" strike="noStrike">
                <a:solidFill>
                  <a:srgbClr val="6666ff"/>
                </a:solidFill>
                <a:latin typeface="Times New Roman"/>
              </a:rPr>
              <a:t>诸男</a:t>
            </a:r>
            <a:r>
              <a:rPr b="1" lang="zh-CN" sz="2800" spc="-1" strike="noStrike">
                <a:solidFill>
                  <a:srgbClr val="6666ff"/>
                </a:solidFill>
                <a:latin typeface="Times New Roman"/>
              </a:rPr>
              <a:t>(375)       </a:t>
            </a:r>
            <a:r>
              <a:rPr b="1" lang="zh-CN" sz="2800" spc="-1" strike="noStrike">
                <a:solidFill>
                  <a:srgbClr val="6666ff"/>
                </a:solidFill>
                <a:latin typeface="Times New Roman"/>
              </a:rPr>
              <a:t>张丽</a:t>
            </a:r>
            <a:r>
              <a:rPr b="1" lang="zh-CN" sz="2800" spc="-1" strike="noStrike">
                <a:solidFill>
                  <a:srgbClr val="6666ff"/>
                </a:solidFill>
                <a:latin typeface="Times New Roman"/>
              </a:rPr>
              <a:t>(368)      </a:t>
            </a:r>
            <a:r>
              <a:rPr b="1" lang="zh-CN" sz="2800" spc="-1" strike="noStrike">
                <a:solidFill>
                  <a:srgbClr val="6666ff"/>
                </a:solidFill>
                <a:latin typeface="Times New Roman"/>
              </a:rPr>
              <a:t>吴泽峰（</a:t>
            </a:r>
            <a:r>
              <a:rPr b="1" lang="zh-CN" sz="2800" spc="-1" strike="noStrike">
                <a:solidFill>
                  <a:srgbClr val="6666ff"/>
                </a:solidFill>
                <a:latin typeface="Times New Roman"/>
              </a:rPr>
              <a:t>368</a:t>
            </a:r>
            <a:r>
              <a:rPr b="1" lang="zh-CN" sz="2800" spc="-1" strike="noStrike">
                <a:solidFill>
                  <a:srgbClr val="6666ff"/>
                </a:solidFill>
                <a:latin typeface="Times New Roman"/>
              </a:rPr>
              <a:t>）   倪玉笛（</a:t>
            </a:r>
            <a:r>
              <a:rPr b="1" lang="zh-CN" sz="2800" spc="-1" strike="noStrike">
                <a:solidFill>
                  <a:srgbClr val="6666ff"/>
                </a:solidFill>
                <a:latin typeface="Times New Roman"/>
              </a:rPr>
              <a:t>368</a:t>
            </a:r>
            <a:r>
              <a:rPr b="1" lang="zh-CN" sz="2800" spc="-1" strike="noStrike">
                <a:solidFill>
                  <a:srgbClr val="6666ff"/>
                </a:solidFill>
                <a:latin typeface="Times New Roman"/>
              </a:rPr>
              <a:t>）       于敏（</a:t>
            </a:r>
            <a:r>
              <a:rPr b="1" lang="zh-CN" sz="2800" spc="-1" strike="noStrike">
                <a:solidFill>
                  <a:srgbClr val="6666ff"/>
                </a:solidFill>
                <a:latin typeface="Times New Roman"/>
              </a:rPr>
              <a:t>367</a:t>
            </a:r>
            <a:r>
              <a:rPr b="1" lang="zh-CN" sz="2800" spc="-1" strike="noStrike">
                <a:solidFill>
                  <a:srgbClr val="6666ff"/>
                </a:solidFill>
                <a:latin typeface="Times New Roman"/>
              </a:rPr>
              <a:t>）      王雯斌（</a:t>
            </a:r>
            <a:r>
              <a:rPr b="1" lang="zh-CN" sz="2800" spc="-1" strike="noStrike">
                <a:solidFill>
                  <a:srgbClr val="6666ff"/>
                </a:solidFill>
                <a:latin typeface="Times New Roman"/>
              </a:rPr>
              <a:t>362</a:t>
            </a:r>
            <a:r>
              <a:rPr b="1" lang="zh-CN" sz="2800" spc="-1" strike="noStrike">
                <a:solidFill>
                  <a:srgbClr val="6666ff"/>
                </a:solidFill>
                <a:latin typeface="Times New Roman"/>
              </a:rPr>
              <a:t>）  曹丽娜（</a:t>
            </a:r>
            <a:r>
              <a:rPr b="1" lang="zh-CN" sz="2800" spc="-1" strike="noStrike">
                <a:solidFill>
                  <a:srgbClr val="6666ff"/>
                </a:solidFill>
                <a:latin typeface="Times New Roman"/>
              </a:rPr>
              <a:t>358</a:t>
            </a:r>
            <a:r>
              <a:rPr b="1" lang="zh-CN" sz="2800" spc="-1" strike="noStrike">
                <a:solidFill>
                  <a:srgbClr val="6666ff"/>
                </a:solidFill>
                <a:latin typeface="Times New Roman"/>
              </a:rPr>
              <a:t>）   于青燕（</a:t>
            </a:r>
            <a:r>
              <a:rPr b="1" lang="zh-CN" sz="2800" spc="-1" strike="noStrike">
                <a:solidFill>
                  <a:srgbClr val="6666ff"/>
                </a:solidFill>
                <a:latin typeface="Times New Roman"/>
              </a:rPr>
              <a:t>355</a:t>
            </a:r>
            <a:r>
              <a:rPr b="1" lang="zh-CN" sz="2800" spc="-1" strike="noStrike">
                <a:solidFill>
                  <a:srgbClr val="6666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2781360"/>
            <a:ext cx="802800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进步明显的同学：（与上学期末相比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ff"/>
                </a:solidFill>
                <a:latin typeface="Times New Roman"/>
              </a:rPr>
              <a:t>张丽       于敏           曹丽娜       许汉祥      吴文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ff"/>
                </a:solidFill>
                <a:latin typeface="Times New Roman"/>
              </a:rPr>
              <a:t>彭春花     谭春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979640" y="59500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3203640" y="6248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4572000" y="60213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6012000" y="6248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7667640" y="62485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0" y="4508640"/>
            <a:ext cx="914400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这些同学成绩有下滑趋势，请家长引起重视，帮助找找原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ff"/>
                </a:solidFill>
                <a:latin typeface="Comic Sans MS"/>
              </a:rPr>
              <a:t>              </a:t>
            </a:r>
            <a:r>
              <a:rPr b="1" lang="zh-CN" sz="2800" spc="-1" strike="noStrike">
                <a:solidFill>
                  <a:srgbClr val="6666ff"/>
                </a:solidFill>
                <a:latin typeface="Comic Sans MS"/>
              </a:rPr>
              <a:t>瞿飞翔   汪棋峰   戴兆灿   郁春权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835280" y="1341360"/>
            <a:ext cx="6095880" cy="17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0000"/>
                </a:solidFill>
                <a:latin typeface="汉仪圆叠体简"/>
              </a:rPr>
              <a:t>给家长的几点建议</a:t>
            </a:r>
            <a:endParaRPr b="0" lang="en-US" sz="4800" spc="1" strike="noStrike">
              <a:ln w="9360">
                <a:solidFill>
                  <a:srgbClr val="cc0000"/>
                </a:solidFill>
                <a:miter/>
              </a:ln>
              <a:solidFill>
                <a:srgbClr val="000000"/>
              </a:solidFill>
              <a:latin typeface="汉仪圆叠体简"/>
              <a:ea typeface="汉仪圆叠体简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3213000"/>
            <a:ext cx="9144000" cy="2820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26920" y="69228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47640" y="1773360"/>
            <a:ext cx="72169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49080" y="43657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7236000" y="1197000"/>
            <a:ext cx="1223640" cy="2016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24000" y="40464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6666ff"/>
                </a:solidFill>
                <a:latin typeface="Times New Roman"/>
              </a:rPr>
              <a:t>一、家庭教育与学校教育要紧密配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ff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6666ff"/>
                </a:solidFill>
                <a:latin typeface="Times New Roman"/>
              </a:rPr>
              <a:t>孩子的智力基础和品质基础是在家庭中奠定的，倘若没有良好、正确合理的家庭教育配合，再好的师资和学校都不可能产生好的教育效果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0920" y="3068640"/>
            <a:ext cx="824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ff"/>
                </a:solidFill>
                <a:latin typeface="Times New Roman"/>
              </a:rPr>
              <a:t>二、不以成绩论英雄，您的子女学习成绩好，并不意味着思想好、能力高，您的子女学习成绩落后，并不意味着思想差、能力低。现在的社会需要各种各样的人才。只要有能力，任何一个学生都能在社会上立足，并且成就一番事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266840" y="47628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7080" y="7650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20509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7080" y="299736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28360" y="40766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979640" y="5300640"/>
            <a:ext cx="1727280" cy="12193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11280" y="4762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ff"/>
                </a:solidFill>
                <a:latin typeface="Times New Roman"/>
              </a:rPr>
              <a:t>三、抓好子女在家的行为习惯。如良好的休息、科学的安排学习、适量的家务劳动（劳动是教育人的较好方式，只有劳动，他才懂得来之不易，懂得珍惜）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4360" y="278136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ff"/>
                </a:solidFill>
                <a:latin typeface="Times New Roman"/>
              </a:rPr>
              <a:t>四、多给孩子一点信心，做孩子成长的强有力的后盾。由于孩子的个体差异，免不了学生的成绩有好有坏，面对成绩不理想的孩子我们该做的是跟他一起努力，想想怎样才能把他成绩搞上去，多关心他的学习情况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2T01:07:22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1:30:57Z</dcterms:modified>
  <cp:revision>75</cp:revision>
  <dc:subject>主题班会课件(分28大类): http://shop62905894.taobao.com</dc:subject>
  <dc:title>主题班会课件(分28大类): http://shop62905894.taobao.com</dc:title>
</cp:coreProperties>
</file>