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4.jpeg" ContentType="image/jpeg"/>
  <Override PartName="/ppt/media/image8.png" ContentType="image/png"/>
  <Override PartName="/ppt/media/image28.gif" ContentType="image/gif"/>
  <Override PartName="/ppt/media/image30.gif" ContentType="image/gif"/>
  <Override PartName="/ppt/media/image3.jpeg" ContentType="image/jpeg"/>
  <Override PartName="/ppt/media/image27.gif" ContentType="image/gif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6.jpeg" ContentType="image/jpeg"/>
  <Override PartName="/ppt/media/image25.gif" ContentType="image/gif"/>
  <Override PartName="/ppt/media/image16.jpeg" ContentType="image/jpeg"/>
  <Override PartName="/ppt/media/image17.jpeg" ContentType="image/jpeg"/>
  <Override PartName="/ppt/media/image23.gif" ContentType="image/gif"/>
  <Override PartName="/ppt/media/image22.gif" ContentType="image/gif"/>
  <Override PartName="/ppt/media/image18.jpeg" ContentType="image/jpeg"/>
  <Override PartName="/ppt/media/image14.jpeg" ContentType="image/jpeg"/>
  <Override PartName="/ppt/media/image19.gif" ContentType="image/gif"/>
  <Override PartName="/ppt/media/image21.gif" ContentType="image/gif"/>
  <Override PartName="/ppt/media/image13.png" ContentType="image/png"/>
  <Override PartName="/ppt/media/image20.gif" ContentType="image/gif"/>
  <Override PartName="/ppt/media/image24.gif" ContentType="image/gif"/>
  <Override PartName="/ppt/media/image26.gif" ContentType="image/gif"/>
  <Override PartName="/ppt/media/image29.gif" ContentType="image/gif"/>
  <Override PartName="/ppt/media/image1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27D-6040-4519-9317-EC1E8583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7A1-AB15-4F6B-986A-2145188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444B-790C-4D4C-A25A-71A5790C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8805-3F79-4FC8-8AAB-9AE7ED2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91CC-A9FF-4156-8064-16C9E1DF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9617E-7E02-4E7A-B2B7-8FBD54C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3FA4-B288-484F-910B-82F90D0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828C1-3B19-484F-88E0-8CBC5B6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2E7F-0331-4618-8439-86D2D3A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15F5-79B6-429C-8D51-BF4531B8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CF6B-BE0B-41DF-B6DF-BB8DB33A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0C21E-F195-4DD7-B2E0-01D8B447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0F4-1EFF-4A52-9144-DCD263B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1809-352E-44C4-81EE-7106775B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E6B2F-6D4B-4146-A1AA-917B54C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8E512-2DAF-4B18-96E7-92C7D7B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51F7C-7198-4176-86AE-D56BE061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9CEE6-1DB7-4C3E-989D-AD27000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8989D-B0DF-4224-8D9F-30DF78F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66F54-8AB6-4E3A-8321-C297BA8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13555-7533-40F3-9AE0-5652286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9D76-7239-422F-936A-3804AF75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B7EE-AF82-4C1E-9063-C8983386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53A-4CC6-4082-91E0-F41BE19D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45EE3-B87F-44DC-8AD1-BA5FA6FC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91CA0-8325-49E0-9957-A5040C98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8F2EB-5C59-4E91-B026-8151185F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B56FE-83FE-4086-8F6B-679D830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7BF93-A0C8-4D65-8577-9EB0C3F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114D-7BBD-4491-9FB7-4B185F23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4FC8-8ABB-4036-9492-C3CC7118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6EE60-C000-4A4A-8D3E-1372619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1B9DE-6179-4132-A2C1-7DDEBDF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3693F-CEF9-4102-95E1-985F668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18D9-BCD8-4FDE-B135-0E70ACBC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AC984-45EF-48E2-8E50-14EF2AD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F5D61-0EE0-4ED6-8DE1-42ECAC4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51841-B606-459C-8371-742E59FF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42CB-86D9-4FF8-9EB5-22150CA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7B6A-5EA5-4DB2-9ACF-CA619F7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1B87B-132B-44B5-8BF8-98B3FA9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9534-2270-4023-9621-1266A18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B5BD9-5468-4A8D-B80D-66EAABB6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E7E4D-840C-4C75-B178-33E39467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4B5B-F128-4386-9F28-4AF95D1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0C7-BE63-4C19-9DC3-5105F1D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7A0C-E47C-4678-8BDE-EBF7210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1295-5096-4B18-B673-EAC76D5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73A2-70A0-4726-9505-7C8E9884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925A-975E-4B9E-92F4-F1EC5DA1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BD408-3D9A-4AFF-97D4-A76DCDAC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3599C-59B7-47B2-BB8A-13BD035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29D84-FE3D-458B-9809-A4F120F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1015-5D33-4D78-B8A9-C328A5EA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0DE3C-CB44-4921-A4DD-B866C9A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4EDCD-04D8-4B26-A99C-F11BC64D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96F-0021-4E75-BF5C-5489A9AE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6CA2E-700F-454B-8D34-45690BD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54DC5-1D47-4CAB-A618-3968C7B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9255A-EF78-4A0A-BDC2-F65CDCE0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9C64B-3B2D-4815-83E7-5A084DD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B7D22-29F9-4ADB-BCE9-9154963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F1424-45B6-47C6-9E36-1733D066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161DA-C2B7-41B2-9C4B-9230A123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3AF74-3E47-439F-9886-0D7187DD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91B5E-346D-43CB-8FBA-B30968C1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93416-7D33-484F-ADEA-528841D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30DD-A3E5-427C-BF66-3CFEE33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86879-F71A-4773-8F4E-304B7AB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CC376-F577-4BFD-AA33-DC9ED500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E2B1B-1482-4F44-ABBF-1AB49183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72767-8E1E-44C5-9B0D-7975A83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8406D-A6C1-42BA-B8E1-38E12F9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05ED0-D702-48CC-9015-C37C6F6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0C673-55D2-45BC-A04D-D11268E0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40D10-84F0-4845-B8AB-A776601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B9DCD-3EB9-43B0-A808-66BC2DB5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E4F2E-32E5-424E-8A7E-D8112CA1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225-6020-4271-9F03-B0BFEA2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B9E3B-D2C5-43BB-9FE3-822F82F0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69C81-4389-4AF9-8176-BF50DD7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C0BDD-7DC5-4C06-9EF2-00303D26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C6F34-1B24-4CF1-B776-3FE4DEC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02DF7-229F-4FF4-8B0C-5E6224E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6BD11-5D0A-4D62-98E6-6C79090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F8345-3EF0-4B3A-B8C3-C6AB7E6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198CB-74BA-4D8D-8705-1F66EA4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8F0B9-5FCE-43F3-BCE4-62A92A4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CA4FF-0D08-4F9C-BC1E-1B20C968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526-954B-4BCE-92BF-AA30395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329FC-8923-4CE5-8762-AEC2CD83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5F6BF-9E3B-4BCC-BC3F-CFE29B3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5EC10-D936-4064-B7F1-932EC3B6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846E6-A082-4877-A06F-3BDC34DE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0FD72-70C7-4B7E-A181-00F3C31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5B9E9-0850-482B-B7F7-D6B6A8A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3CA47-63AB-4F38-9934-76F7740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AC7A-E96C-4FF5-9F15-A7708427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A9AA1-B920-4304-85E2-22BD217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3D884-C49B-4C21-B31A-E19321B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E30E-A9D2-4871-B435-CD57D89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96C24-95D7-44A9-A39A-78489AE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44C52-4E40-48DF-A478-13A4AE25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F9927-59C6-40D6-AA59-4AE9E4A0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D91-080A-418C-98EA-B7E23BA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2D6B-49B6-4B4D-93B4-1C0FC3B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92D-B150-4962-807F-7B8BCB8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D6ED-3218-49F0-8E1D-432452E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B74A-F2AF-4119-90C4-AB8F7220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B8C-A49E-4F85-A00F-E3A98A44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8CD-799B-4D81-A6B1-322BC63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0AD7-2F16-4AFE-9D54-3E29489F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BBE6-8908-4F42-AE65-D5B577C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4EF1-A188-4513-BEFB-2D7504A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F73-74BF-4839-9FE9-3D78B93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F642-910A-418A-B649-41F480E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5925-482E-40DB-8067-C70064B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6149-5199-4402-9327-086CB9B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175A-4199-44FC-8EA7-DFF4F476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FAB3-EEB2-41ED-A5F5-19A6D72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6E4A-91E4-4A7B-9053-329AF16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4B78-2F8B-4426-A5C4-42850DC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570D-AC35-4B93-B1D6-62139F04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37B6-5290-456E-8A4B-FC8494A6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E35E-306B-489E-8BB8-EE5D0B38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D02-C93F-4741-A3A5-F4AEB63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FB9D-5BD7-4ECC-B1E9-9FA27A6B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5AF6-0783-4E1A-9E95-7E2DD19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36F1-2156-4DA3-B652-23D6836E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1076-A494-4D66-9FA0-D44454D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B53B-F92A-4EA6-8AF5-AB6B993E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4A08-4C30-488B-958C-4747214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98D5-A35C-46FC-A7AC-6F75C9F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EDB4-91FB-454B-8AE4-7C2CB51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49E7-6065-41E0-8A47-E68DB680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B83D-0921-416B-9F3E-4A64CBDB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7F4-A9BC-4B47-BF4A-F3FFA16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EAC2-0B66-4AD9-AB62-E8777DD4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3C65-081E-4BC5-B572-868EC389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12EE-18CB-435E-ADB1-CEC06B4E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A810-A8A1-4DF2-968C-CF6BF92B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C685-7F3B-48CE-9542-CBA4677A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2FF5-79B2-40DD-9C93-9FD94C7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57722-3EE1-49F3-B84A-2ED27A83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5CA3-C575-46ED-AFC0-0D189F3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153A-1E26-4C82-9D3F-EC0E64E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F39F-0FDB-4AD9-AB55-3AA5C2B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997-C289-4F06-8114-5488C88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7718-4487-4C8D-BFD1-A56AD11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EA86-E8AD-48E7-AA4D-72F4CEF2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9714-B4C6-4945-AFAE-945900C2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BFA6-FAAC-4807-A824-E45C842C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9B8B-2141-4DE3-9CFD-B6FD5FDB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F379-97D5-4934-A474-6EBD7190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1B2A-E554-4277-8BD2-211C88C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7B11-A2F8-44FD-979D-0131DA5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2E6F-F7FA-4ECD-A57C-AB408555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426D-FA93-4524-AED5-3EE70A9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A89-EB6A-4C7B-8FC4-6F39D96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81D2-6FA8-4611-89A6-F290E9A9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553E-6EB6-433B-8EFB-82F8507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29EC-7E8F-401E-B958-E6DCC514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A9E9-3D1B-4764-9585-E8B0F85A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579E6-92AB-4983-9C81-5A4EBA64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661A-311F-4077-B8B2-A98A387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AE7F-441E-43F8-B250-C5EE428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55DD-EB7C-4576-86AC-0038467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FA9D-2E75-4E8F-A202-E070007C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2031-9478-46BF-A7EF-E0590A2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270-5834-429A-A4F8-6DA3D00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B563-752F-4E93-9C2B-0721A71D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5136-3C63-471B-A743-E949313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53E3-CD2F-4A17-87F2-04D0B93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97654-E4B1-43D9-B04D-DA767561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44C7-B83E-4DBA-B4C2-CE53A41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5A6F-0E9A-4B34-89A5-956F4772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CCE3-FAE7-4DA2-9A39-B25F052C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3183-0729-4935-AB8B-EDBDEB24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879F-12B8-4329-9A30-9D78518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FFD4-5063-48C7-BF2A-3B41C27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64E9-1666-4BA1-8F62-0149E01B8D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EE7-C763-4A7B-8AEF-301CB3C4F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1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1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5A77-2BB5-4BB5-90AC-232DB5DAE4F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5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6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30E-AD25-4FDF-8800-5A1132C30E3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3B39-11B2-464C-BBF8-AAFC7BD157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2AA4-1BFA-4F4E-BE4D-581564F212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0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06EA-9DB7-40AB-B90C-47868824B3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3DE-7FDA-4F17-82E7-E668AC2357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236B-B328-4F6E-8D7E-DB702D72A3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1EE-6EF9-470B-B069-5512F39A98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4A0-39D1-49EB-AF4A-71BE60D8E9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27BA-062E-45D8-9AF6-51D81437F9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5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6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6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7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8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DF3-4F83-48A2-B2E8-2FB55091BAB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3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4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5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5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6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6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7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EBE-15D9-446D-848D-52F1364402E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DD9-70BE-46DA-ABE7-0EC6195A2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>
            <a:off x="2195640" y="1341360"/>
            <a:ext cx="5689440" cy="24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latin typeface="幼圆"/>
              </a:rPr>
              <a:t>欢迎各位家长</a:t>
            </a:r>
            <a:endParaRPr b="0" lang="en-US" sz="4000" spc="1" strike="noStrike">
              <a:ln w="63360">
                <a:solidFill>
                  <a:srgbClr val="ff0000"/>
                </a:solidFill>
                <a:miter/>
              </a:ln>
              <a:solidFill>
                <a:srgbClr val="ff0000">
                  <a:alpha val="95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767" name=""/>
          <p:cNvSpPr/>
          <p:nvPr/>
        </p:nvSpPr>
        <p:spPr>
          <a:xfrm>
            <a:off x="4192560" y="1417680"/>
            <a:ext cx="30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203280" y="188640"/>
            <a:ext cx="59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Arial"/>
                <a:ea typeface="隶书"/>
              </a:rPr>
              <a:t>对各位家长的要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8066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我校周六放学时间是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11:20.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正常情况下孩子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12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点应已到家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星期天返校时间是下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点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天气逐渐转冷，希望家长叮嘱孩子带足衣物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希望家长能认真检查孩子的作业，如发现错误、少做或不认真现象，请及时给予纠正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孩子在学校的活动中难免会出现意想不到的事，希望家长能理解和体谅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各位家长想了解孩子在校的情况，可以打电话到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8991244     13586078297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与我联系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7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646200"/>
            <a:ext cx="9144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致家长的一封公开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亲爱的家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一个稚嫩的生命诞生时，他（她）给作父母的您带来了多少喜悦与企盼。随着孩子的长大、上学、读书，孩子的成绩成了许多家庭的晴雨表，您的心也随着孩子的成功而喜悦，随着孩子的不尽人意而沮丧。然而，您是否知道教育孩子的前提是了解孩子，了解孩子应具备什么样的素质才能适应社会发展的需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许多家长的心情颇为复杂，或忧或喜。谁都不能说家长关注孩子的学习成绩不对，但如何看待学习成绩，如何看待孩子成长中的基本素质，如何评价孩子，用什么样的标准去评价自己的孩子，这不只是一个评价的问题，因为您对孩子的评价会影响您对孩子的态度，也会左右孩子的发展。这一切应是我们作为现代家长必须重视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524720" y="692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点击放大"/>
          <p:cNvPicPr/>
          <p:nvPr/>
        </p:nvPicPr>
        <p:blipFill>
          <a:blip r:embed="rId2"/>
          <a:stretch/>
        </p:blipFill>
        <p:spPr>
          <a:xfrm>
            <a:off x="7812000" y="90792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79280" y="62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的孩子成长在科技高速发展的现代社会里，他们将面临二十一世纪的挑战。当今的少年必须具备什么样的素质，又怎样去培养这些素质，这既是国家、学校教育关注的焦点，也是家长应该给予充分关注的问题。国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教育委员会报告中提出的教育四大支柱，我们赋予它我国教育的特色，即为：用创新的精神学会认知；用亲身体验、勇于实践学会做事；用爱心、合作与竞争精神学会共生活；用坚强的意志直面挫折和失败学会生存。这些素质的培养，既需要学校提高教学质量、教育水平来达到，更需要家庭教育与学校教育同步，用正确的教育思想、教育方法来引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育的四大支柱明确表明，仅仅关注孩子的学习成绩，是不能培养出现代人的。健康、乐观、向上的人格；健全的心理素质；对国家、对社会的责任感，才是孩子成才的决定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7956720" y="5373720"/>
            <a:ext cx="1187280" cy="11509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点击放大"/>
          <p:cNvPicPr/>
          <p:nvPr/>
        </p:nvPicPr>
        <p:blipFill>
          <a:blip r:embed="rId3"/>
          <a:stretch/>
        </p:blipFill>
        <p:spPr>
          <a:xfrm>
            <a:off x="6443640" y="6165720"/>
            <a:ext cx="108108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79280" y="907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家庭教育是培养孩子成功的重要一环。现代社会是两代人共同成长的社会，我们的家长只有在了解孩子，不断学习，采用新的教育观念与教育方法后，才能培养出成功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首先，家长对成功要有正确的认识。中国科学院心理研究所心理学博士邱炳武是这样论述的：过去人们总是把考大学、读博士看作是成功，其实这只是社会认可的标准的一种，其它还有许多方面，如社会成就、工作能力、待人处事等等。但是从心理学的角度来说，衡量成功还应该有一个主观的标准，也就是说，人在追求成功的时候，要结合自己的能力、情绪、兴趣、人格……如果你对自己做的事情感到很愉快、很感兴趣，并且能尽自己的努力把事情做到最好，就应该算是一种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7236000" y="5300640"/>
            <a:ext cx="1584000" cy="120168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755640" y="501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"/>
          <a:stretch/>
        </p:blipFill>
        <p:spPr>
          <a:xfrm>
            <a:off x="3851280" y="5589720"/>
            <a:ext cx="1584360" cy="73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395280" y="83664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的家长们总是给孩子定很高的目标，以为孩子达到这样的目标才是成功，其实不然。这些目标不见得是孩子们所喜欢的，所感兴趣的，也未必真正能够体现孩子的生命价值。大千世界丰富多彩，每一个人的价值是完全不同的。而一些家长的做法只是用孩子的痛苦来换取自己所期望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以上论述中可以体会到，了解孩子的需要，帮助孩子达到这个需要，一定要切忌“拔苗助长”。对小学生来说，定一个经过努力能达到的目标，让他（她）体会到成功的喜悦，从而增强自信心，是对成功概念比较科学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，作父母的在对孩子的教育中应采用民主、平等、引导的态度。忙碌的父母经常在孩子面前扮演教练官或无可奈何的角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7380360" y="5013360"/>
            <a:ext cx="1528560" cy="167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5493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种角色：当孩子做错事时，一味批评、指责，势必造成孩子的反感，有了逆反心理，错误不但不会改正，反而会强化。如果换成“现在你怎样解决这个问题呢？”，让孩子自悟，自己找出解决问题的办法，让孩子参与解决问题的过程。这样做，孩子既能认识到自己的不足，改正错误，同时也维护了孩子的自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种角色：因为家长对孩子的一味迁就、娇惯，造成了孩子的任性、无责任感。明知孩子乱花零用钱，不整理书包，不愿意做家务事，早上不愿意起床等的不对，但总觉得孩子小，迁就一下，自己多做一些无妨。殊不知，在家长放纵自己疼爱孩子感情影响下成长的孩子，往往任性厌学。家长应该有条件每天给十元零用钱，却只给一元；明知孩子自己整理书包会丢三拉四，还得我去收拾，可偏要他去整理；明知地扫不干净，碗洗不干净，还得我重做，够麻烦，偏还要他去做；明知早上赖床我不催他，他就会迟到挨批评，我偏不管。万事开头难，没有了您过分的呵护，让孩子自己完成他应该完成的事。坚持下去，总有一天孩子会做好自己的事，会具有责任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6732720" y="6286680"/>
            <a:ext cx="241128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187280" y="2205000"/>
            <a:ext cx="72010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育孩子的前提是了解孩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赏识才能成功，抱怨导致失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让我们共同携起手来，培养出健康、自律、好学、上进的新一代吧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尊重孩子，了解孩子，与孩子沟通是我们教育好孩子，培养孩子健康人格的前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42920" y="1125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亲爱的家长，请记住以下几句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564000" y="5445000"/>
            <a:ext cx="5040360" cy="14130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998280" cy="17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755640" y="100008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携手合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让我们共创孩子美好未来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2916360" y="-171360"/>
            <a:ext cx="4968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班委成员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70" name=""/>
          <p:cNvSpPr/>
          <p:nvPr/>
        </p:nvSpPr>
        <p:spPr>
          <a:xfrm>
            <a:off x="2556000" y="1341360"/>
            <a:ext cx="63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长                卢金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副班长            张嘎       杨宇                        学习委员        董灵挺   周人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劳动委员         何骄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委员        卢梦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娱委员        洪灵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育委员        何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宣传委员        金林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委员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啸       卢晓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 rot="5400000">
            <a:off x="-2106720" y="2475000"/>
            <a:ext cx="5329440" cy="16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隶书"/>
              </a:rPr>
              <a:t>班级公约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73" name=""/>
          <p:cNvSpPr/>
          <p:nvPr/>
        </p:nvSpPr>
        <p:spPr>
          <a:xfrm>
            <a:off x="2987640" y="260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35280" y="98100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47800" y="3260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042920" y="0"/>
            <a:ext cx="81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不迟到，不早退，有病有事不能到校要请假。放学后，按时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尊敬长辈，团结同学，并能主动帮助生活上和学习上有困难的同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佩带好校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参加学校的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专心听讲，大胆发言，声音响亮，不懂就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独立按时完成作业，有错及时订正，书写工整，卷面洁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前有预习，课后能认真复习。能按要求完成口头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间做到文明休息，不骂人、不打人，不在校园里大声吵闹和奔  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诚实守信，不说谎话，有错就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爱惜粮食，爱惜学习用品，节约水电，不乱花钱，不在校内吃零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随便拿别人的东西，借东西要还，爱护公物，损坏公物要赔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热爱劳动，认真做好值日生工作，自己能做的事自己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培养孩子良好的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380664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生活卫生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学习的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劳动的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文明礼貌的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429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幼圆"/>
              </a:rPr>
              <a:t>生活卫生习惯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良好的生活卫生习惯与孩子的身心健康有着直接的关系，有规律的生活有助于培养乐观的性格、顽强的毅力、勇敢的进取精神。它包括：饮食起居习惯，体育锻炼习惯，个人卫生习惯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2" action="ppaction://hlinksldjump"/>
          </p:cNvPr>
          <p:cNvSpPr/>
          <p:nvPr/>
        </p:nvSpPr>
        <p:spPr>
          <a:xfrm>
            <a:off x="6948360" y="5373720"/>
            <a:ext cx="935280" cy="8650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9933">
                  <a:alpha val="74117"/>
                </a:srgbClr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3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良好的学习习惯是提高学习有效的必要条件，一个具有良好学习习惯的学生，即使智力平平，也同样能走上成才之路。它包括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认真完成作业的习惯，积极思考的习惯，阅读课外书的习惯，写读书笔记、摘抄的习惯，使用工具书的习惯，善于支配时间的习惯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835280" y="98100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良好的学习习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6" name="Litebulb">
            <a:hlinkClick r:id="rId2" action="ppaction://hlinksldjump"/>
          </p:cNvPr>
          <p:cNvSpPr/>
          <p:nvPr/>
        </p:nvSpPr>
        <p:spPr>
          <a:xfrm>
            <a:off x="2411280" y="5734080"/>
            <a:ext cx="387360" cy="3650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是人生的必修课，我们要有意识、有目的地让孩子经常参加一些力所能及的家务劳动，将会对孩子的成长起到有益的作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可以培养孩子的观察能力、分析能力、判断能力、创造能力和动手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能培养孩子勤快、主动的工作态度，能锻炼孩子吃苦耐劳、克服困难的坚强意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可以培养孩子珍惜劳动果实，养成勤俭节约的习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有益于孩子大脑的开发，促进逻辑思维和形象思维的发展，有助于学习能力的提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劳动能培养孩子自己创造整洁的学习和生活环境的能力，从中感受到劳动能创造美好的生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835280" y="90792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劳动的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9" name="">
            <a:hlinkClick r:id="rId2" action="ppaction://hlinksldjump"/>
          </p:cNvPr>
          <p:cNvSpPr/>
          <p:nvPr/>
        </p:nvSpPr>
        <p:spPr>
          <a:xfrm>
            <a:off x="6804000" y="5734080"/>
            <a:ext cx="504720" cy="43164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1476360" y="2707920"/>
            <a:ext cx="739152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讲文明语言的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礼貌待人的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敬老爱幼的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与同伴和睦相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16000" y="1700280"/>
            <a:ext cx="5832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文明礼貌的习惯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2556000" y="765000"/>
            <a:ext cx="43336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谢谢家长的配合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93" name=""/>
          <p:cNvSpPr/>
          <p:nvPr/>
        </p:nvSpPr>
        <p:spPr>
          <a:xfrm>
            <a:off x="1042920" y="1898640"/>
            <a:ext cx="7058160" cy="17024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培养孩子   身教很重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   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晚上在家看看新闻，看一些专栏节目。这样，孩子从小便养成了一个勤于学习的习惯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随着孩子年龄的增长。父母的知识就很难全面满足孩子的需求，这是必然的。所以父母所能提供的，便是一种学习的习惯，坚持学习的毅力，这是孩子受益无穷的精神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1:25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2:55Z</dcterms:modified>
  <cp:revision>35</cp:revision>
  <dc:subject>主题班会课件(分28大类): http://shop62905894.taobao.com</dc:subject>
  <dc:title>主题班会课件(分28大类): http://shop62905894.taobao.com</dc:title>
</cp:coreProperties>
</file>