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0.gif" ContentType="image/gif"/>
  <Override PartName="/ppt/media/image9.gif" ContentType="image/gif"/>
  <Override PartName="/ppt/media/image18.jpeg" ContentType="image/jpeg"/>
  <Override PartName="/ppt/media/image7.png" ContentType="image/png"/>
  <Override PartName="/ppt/media/image15.gif" ContentType="image/gif"/>
  <Override PartName="/ppt/media/image1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724-E7AE-4641-819D-36EC9D1D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C26-D749-4887-AC60-AA6CBDF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127-0061-4078-88D6-2D5872C5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E1E-FFFA-4A3D-9F59-773629C8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12D-3926-4A7B-AD7C-38BCE936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1944-729E-4454-8107-9E4E957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2B7F-034C-4877-AD26-A276F07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56BA-BCDE-4632-8886-35D5BAD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43A2-2A7E-4AC8-A8D6-C35660E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201D-2370-47A1-9888-3797645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33D6-3630-4D32-81EF-A9DB2E9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95A-3EF5-4EC8-AAC1-BB3A2F6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C34A-88EB-4EDB-9EE4-6A7BD9D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2A50-AC81-4B14-8823-8E87E30E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8CE5-4676-4435-A30F-3A8383A8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CB92-7865-45E7-A946-EE1D9563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058-3393-4DA0-BF07-4CA1342F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E5CA-599B-43FC-B722-0A3B6AC8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BC0A-2D8C-4F3F-813D-B3D0A10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2DF3-ED14-4AE0-9078-F9713BE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0DD0-7971-4378-A221-2DC69A72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0D7C-EADB-4437-A8B4-A5513CEB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B1E-A238-43A9-BFCA-D1AB89F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7713-835F-4A30-8BDF-8603B997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F9F8-4EFB-433E-BB36-C813650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AAA4-164C-4AAE-94D0-84DF614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0433-2914-4C21-BE30-94E112FF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6F6C-8127-4AFF-A096-D72FAFA8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932F-0FF2-460F-B28E-584239D5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9246-3349-4F0E-8BDD-4EAAC3D9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958A-2745-4C2D-961A-800C18E3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4365-0D2B-41E4-B381-8B962A07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707D-77C5-4814-B8A1-CA07C8BE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08E-9709-4E8B-AA9A-1306FB3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0C21-213E-4382-BC0B-5FABAF6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6838-AC01-4123-92BE-A1732C4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5387-B241-4D31-82E5-1AE1FCB7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56AC-10AF-4230-97B1-2FDE2E1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C80C-FCDD-4BF1-A7A7-A458D92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63C7-25DC-4418-AA16-673F01D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7EBA-8C00-49A1-86F7-110BE10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3FAE-FE99-4865-92F4-35898DB7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0967-5597-4406-9B24-6090FD55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5A8B-A87D-41F7-9ACF-C2D022B4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1FD-8783-4ED1-9234-48214CB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8AE2-2200-496E-80D8-150864A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8945-EA9F-45F4-AD6F-E19EA292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5E2D-144D-4E90-931D-455E7E83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8578-9C7A-4B9E-BF6C-416BB0D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683C7-4742-4C04-BFD5-9CEBA7AB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1E60-4E0E-4C81-A35B-76A2549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F738-938F-4974-848F-BD7BBE6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E5CC-AFF7-467B-AD88-5DC63A4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8BAC-EC45-40D2-A8DC-15D5F880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8BF7-772F-43DF-8F36-7268A39B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2A6-8F54-4A19-99B8-66723CEB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7A00-B4C3-4A4E-9D32-DB35143D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2B4A-E264-41E3-9778-21DFB124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1B20-C253-466A-80CC-B047D02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DD2C-753B-4FFA-BEE2-268911AD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311D-9312-483E-8090-4D9230F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4175B-2D47-4DDA-9429-1B318D1E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F2B0-95A3-4C7E-9F3C-31628F72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C0D0-392E-41DF-912E-6CEB1AD9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E75B5-A1A5-4470-8973-BBA57FD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05A0-AC34-4C3A-BBA9-1FF9E1B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445-FA10-4A2B-9ABD-8AB6067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C194-4720-4427-A5D3-D2E88B73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8F093-4DDA-4E91-ACE6-BD9EE543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44E7-8195-451C-8CD9-9CF59A58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6F9F-DE9F-4A12-B0FF-78D60315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78B66-BC16-486C-A521-ADCD6209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B6DD4-3707-485B-AFB6-17DEAFC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AC9EE-AF41-4423-BC83-040AE2BA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2D1F2-EB57-43B8-BAAB-5EC99467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1EB3-22A7-446A-B052-FE3C970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EE84-8827-4953-8414-4D27602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FA6-D28D-4842-89CF-A9B3F13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419B7-B24F-401B-88B6-02391B5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E9E16-FFC9-4D0C-A255-F6FA45CD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E6A6-3B65-49EF-84D6-A9E4F869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818C-D661-4438-BED2-9BAFC884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0989C-8174-493C-A773-CC980BB7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E70D5-704D-45F9-9802-67713BD4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0886C-F778-431F-BC23-BA5251E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BC28A-D992-4DC1-AA43-CB6CDDAC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DFDD5-8599-4039-8B59-2E8AACD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600C6-E7CE-4FA0-A1F3-0A8CFEF2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4DB-3893-407E-B72F-0C33E7E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C32EE-3D71-4FF3-A19E-8FA9D3F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96F3-EA78-4E74-B0D3-DC686B9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7AC64-5D4F-4CDF-9B8B-7F744E63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8673-85AB-436B-BA3F-5518F1B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11A1-DCE9-4D77-8735-B1AEDBB6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9871-40CC-43A3-A186-162B4B1A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0F5C-BD5A-4402-BFDE-6CD0880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5E1-3A77-4F23-BD72-B29CEE6E8E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C90E-3BE9-47B0-9929-F62C557A0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9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3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5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6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8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9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0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2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2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2267-893D-4DF8-97B1-07224AA77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8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9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79AD-BCB3-47F6-884C-81C4BC1DD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4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928B-5A13-4867-A9CD-0C7E25379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B405-4E87-4A9E-AFFA-54B67249B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3FA-CB26-4F77-A1F6-D3C45B05E68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8D34-3150-4A31-A600-BE4E145D26B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8.jpe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image" Target="../media/image18.jpeg"/><Relationship Id="rId23" Type="http://schemas.openxmlformats.org/officeDocument/2006/relationships/image" Target="../media/image18.jpeg"/><Relationship Id="rId24" Type="http://schemas.openxmlformats.org/officeDocument/2006/relationships/image" Target="../media/image18.jpeg"/><Relationship Id="rId25" Type="http://schemas.openxmlformats.org/officeDocument/2006/relationships/image" Target="../media/image18.jpeg"/><Relationship Id="rId26" Type="http://schemas.openxmlformats.org/officeDocument/2006/relationships/image" Target="../media/image18.jpeg"/><Relationship Id="rId27" Type="http://schemas.openxmlformats.org/officeDocument/2006/relationships/image" Target="../media/image18.jpeg"/><Relationship Id="rId28" Type="http://schemas.openxmlformats.org/officeDocument/2006/relationships/image" Target="../media/image18.jpeg"/><Relationship Id="rId29" Type="http://schemas.openxmlformats.org/officeDocument/2006/relationships/image" Target="../media/image18.jpeg"/><Relationship Id="rId30" Type="http://schemas.openxmlformats.org/officeDocument/2006/relationships/image" Target="../media/image18.jpeg"/><Relationship Id="rId31" Type="http://schemas.openxmlformats.org/officeDocument/2006/relationships/image" Target="../media/image18.jpeg"/><Relationship Id="rId32" Type="http://schemas.openxmlformats.org/officeDocument/2006/relationships/image" Target="../media/image18.jpeg"/><Relationship Id="rId33" Type="http://schemas.openxmlformats.org/officeDocument/2006/relationships/image" Target="../media/image18.jpeg"/><Relationship Id="rId34" Type="http://schemas.openxmlformats.org/officeDocument/2006/relationships/image" Target="../media/image18.jpeg"/><Relationship Id="rId35" Type="http://schemas.openxmlformats.org/officeDocument/2006/relationships/image" Target="../media/image18.jpeg"/><Relationship Id="rId36" Type="http://schemas.openxmlformats.org/officeDocument/2006/relationships/image" Target="../media/image18.jpeg"/><Relationship Id="rId37" Type="http://schemas.openxmlformats.org/officeDocument/2006/relationships/image" Target="../media/image18.jpeg"/><Relationship Id="rId38" Type="http://schemas.openxmlformats.org/officeDocument/2006/relationships/image" Target="../media/image18.jpeg"/><Relationship Id="rId39" Type="http://schemas.openxmlformats.org/officeDocument/2006/relationships/image" Target="../media/image18.jpeg"/><Relationship Id="rId40" Type="http://schemas.openxmlformats.org/officeDocument/2006/relationships/image" Target="../media/image18.jpeg"/><Relationship Id="rId41" Type="http://schemas.openxmlformats.org/officeDocument/2006/relationships/image" Target="../media/image18.jpeg"/><Relationship Id="rId42" Type="http://schemas.openxmlformats.org/officeDocument/2006/relationships/image" Target="../media/image18.jpeg"/><Relationship Id="rId43" Type="http://schemas.openxmlformats.org/officeDocument/2006/relationships/image" Target="../media/image18.jpeg"/><Relationship Id="rId44" Type="http://schemas.openxmlformats.org/officeDocument/2006/relationships/image" Target="../media/image18.jpeg"/><Relationship Id="rId45" Type="http://schemas.openxmlformats.org/officeDocument/2006/relationships/image" Target="../media/image18.jpeg"/><Relationship Id="rId4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 txBox="1"/>
          <p:nvPr/>
        </p:nvSpPr>
        <p:spPr>
          <a:xfrm>
            <a:off x="1547640" y="1700280"/>
            <a:ext cx="6337440" cy="2520720"/>
          </a:xfrm>
          <a:prstGeom prst="rect">
            <a:avLst/>
          </a:prstGeom>
        </p:spPr>
        <p:txBody>
          <a:bodyPr wrap="none" fromWordArt="1" lIns="90000" rIns="90000" tIns="46800" bIns="468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方正舒体"/>
              </a:rPr>
              <a:t>让孩子的明天更美好</a:t>
            </a:r>
            <a:endParaRPr b="1" lang="en-US" sz="5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方正舒体"/>
              <a:ea typeface="方正舒体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826920" y="1459080"/>
            <a:ext cx="763272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906720" indent="-3906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最负责的班干部：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赵亚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06720" indent="-39067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最能干的班干部：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赵亚凯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莫蒙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06720" indent="-3906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最负责的课代表：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沈 阳     杜斌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06720" indent="-3906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赵亚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187280" y="1341360"/>
            <a:ext cx="44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上课发言积极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2871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赵亚凯   杜斌彬     陈  程     沈 阳      陶迪勇     张栋栋   莫蒙迪   张晨炳     朱  珍 费丹       唐陈潇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258920" y="1197000"/>
            <a:ext cx="6705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56000" y="6181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关心集体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79280" y="323712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赵亚凯 唐陈潇贲 陈程 沈 阳 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杜斌彬 施艳艳 莫蒙迪 朱 珍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张晨炳 沈青青 傅佳楠 李紫奕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陶迪勇 童佳楠 桑吉垟 凌 佳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方佳丽 费 丹  张栋栋 王如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84360" y="1341360"/>
            <a:ext cx="7561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目前班级情况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优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部分学生能遵纪守纪；能认真学习，及时完成作业；有较强的集体荣誉感；能处理好各种人际关系；热爱 劳动；有责任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7329600" y="5300640"/>
            <a:ext cx="1814400" cy="155736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39640" y="765000"/>
            <a:ext cx="86043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缺点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决心没有恒心，光说不做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后和回家后的学习时间没有保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家作业质量差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少自觉学习、复习、钻研难题、订正错题等好的学习习惯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时间利用率不高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学会主动学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7667640" y="5673600"/>
            <a:ext cx="1476360" cy="11844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1902240" y="80820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家长们的几点希望与要求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1440" y="1700280"/>
            <a:ext cx="83516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要教育孩子怎样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做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关心孩子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思想动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使孩子有正确的思想导向、明确的奋斗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２、做好子女在家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学习督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工作，保证在家 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学习时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努力创建 一个学习型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３、多培养孩子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进取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责任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吃苦耐劳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４、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良好习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养成非常重要，包括学习习惯、思维习惯、生活习惯、饮食习惯、卫生习惯等，这些都有助于孩子的成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５、要尽量控制孩子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零用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上学、回家的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教育孩子少与社会上或其他学校的人搭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197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95280" y="1341360"/>
            <a:ext cx="90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0920" y="1052640"/>
            <a:ext cx="876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要教育孩子在上课时专心听老师讲课。要教育儿女不懂就是不懂，不耻下问。学习上要“认真”二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们做父母的，要了解自己的子女在校学习或其它有关情况。使他们在学习、精神上得到父母的支持和鼓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生活上要关心照顾，身体是革命的本钱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上下学要教育儿女注意交通安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16080" y="271800"/>
            <a:ext cx="2779920" cy="642600"/>
          </a:xfrm>
          <a:prstGeom prst="rect">
            <a:avLst/>
          </a:prstGeom>
          <a:solidFill>
            <a:srgbClr val="ffd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家长的寄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专家的建议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11280" y="174456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灌输命运要靠自己开拓的思想，让孩子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独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对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宽容大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心去容纳孩子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幼稚和毛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加以适当的指导，使孩子有一个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宽松和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与顺利时，给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称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使他更坚定地走自己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败与逆境时，给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鼓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使他看到胜利的曙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33200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684360" y="2997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让孩子成为敢于搏击风浪的海燕，而不是温室中的花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32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3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4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35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36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37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8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9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40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41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42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43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44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45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 txBox="1"/>
          <p:nvPr/>
        </p:nvSpPr>
        <p:spPr>
          <a:xfrm>
            <a:off x="2411280" y="1052640"/>
            <a:ext cx="4751640" cy="1655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总结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9640" y="2766600"/>
            <a:ext cx="8028000" cy="100836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4572000" cy="220968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8372520" y="3268800"/>
            <a:ext cx="1143000" cy="360"/>
            <a:chOff x="8372520" y="3268800"/>
            <a:chExt cx="1143000" cy="360"/>
          </a:xfrm>
        </p:grpSpPr>
        <p:grpSp>
          <p:nvGrpSpPr>
            <p:cNvPr id="765" name=""/>
            <p:cNvGrpSpPr/>
            <p:nvPr/>
          </p:nvGrpSpPr>
          <p:grpSpPr>
            <a:xfrm>
              <a:off x="8372520" y="3268800"/>
              <a:ext cx="1143000" cy="360"/>
              <a:chOff x="8372520" y="3268800"/>
              <a:chExt cx="1143000" cy="360"/>
            </a:xfrm>
          </p:grpSpPr>
          <p:sp>
            <p:nvSpPr>
              <p:cNvPr id="766" name=""/>
              <p:cNvSpPr/>
              <p:nvPr/>
            </p:nvSpPr>
            <p:spPr>
              <a:xfrm>
                <a:off x="8372520" y="3268800"/>
                <a:ext cx="1143000" cy="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72520" y="3268800"/>
                <a:ext cx="1143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8372520" y="3268800"/>
              <a:ext cx="1143000" cy="360"/>
            </a:xfrm>
            <a:prstGeom prst="rect">
              <a:avLst/>
            </a:prstGeom>
            <a:noFill/>
            <a:ln w="0">
              <a:solidFill>
                <a:srgbClr val="00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600440" y="3268800"/>
            <a:ext cx="8686800" cy="360"/>
            <a:chOff x="4600440" y="3268800"/>
            <a:chExt cx="8686800" cy="360"/>
          </a:xfrm>
        </p:grpSpPr>
        <p:sp>
          <p:nvSpPr>
            <p:cNvPr id="770" name=""/>
            <p:cNvSpPr/>
            <p:nvPr/>
          </p:nvSpPr>
          <p:spPr>
            <a:xfrm>
              <a:off x="4600440" y="3268800"/>
              <a:ext cx="8686800" cy="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440" y="3268800"/>
              <a:ext cx="8686800" cy="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1295280" cy="103824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 txBox="1"/>
          <p:nvPr/>
        </p:nvSpPr>
        <p:spPr>
          <a:xfrm>
            <a:off x="1187280" y="1484280"/>
            <a:ext cx="6409080" cy="24494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光荣榜</a:t>
            </a:r>
            <a:endParaRPr b="1" lang="en-US" sz="60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914400" y="1752480"/>
            <a:ext cx="822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547640" y="62064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ff">
                      <a:alpha val="38000"/>
                    </a:srgbClr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行规表现优秀名单</a:t>
            </a:r>
            <a:endParaRPr b="0" lang="en-US" sz="2400" spc="1" strike="noStrike">
              <a:ln w="19080">
                <a:solidFill>
                  <a:srgbClr val="0000ff">
                    <a:alpha val="38000"/>
                  </a:srgbClr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934320" y="5410080"/>
            <a:ext cx="1752480" cy="10288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343400" y="51814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1403280" y="343548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00" y="324036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莫蒙迪  杜斌彬  赵亚凯  唐陈潇贲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童佳楠  李紫奕  方佳丽  施艳艳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陈 程   沈 阳   凌 佳   高丽燕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费 丹   陶迪勇  蔡斌斌  赵娇娜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朱 珍   桑吉垟  沈青青  童倡倡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马 琦   王如倩  张晨炳  陈燕丽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傅佳楠  马 琦   徐燕娜  陆佳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8580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76520" y="1905120"/>
            <a:ext cx="5943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4000" y="2565360"/>
            <a:ext cx="8280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莫蒙迪   杜斌彬   赵亚凯    沈  阳   童佳楠   唐陈潇贲  高丽燕   方佳丽   陈  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86000" y="42670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5181480"/>
            <a:ext cx="53341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042920" y="54936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rnd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态度认真、成绩优秀</a:t>
            </a:r>
            <a:endParaRPr b="0" lang="en-US" sz="2400" spc="1" strike="noStrike">
              <a:ln cap="rnd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7242120" y="5311800"/>
            <a:ext cx="19018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617400" y="836640"/>
            <a:ext cx="6115320" cy="5619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次月考年级前</a:t>
            </a: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00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位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89" name=""/>
          <p:cNvSpPr/>
          <p:nvPr/>
        </p:nvSpPr>
        <p:spPr>
          <a:xfrm>
            <a:off x="179280" y="2879280"/>
            <a:ext cx="87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杜斌彬  莫蒙迪  童佳楠   </a:t>
            </a: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沈  阳  赵亚凯  方佳丽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  陈  程  陶迪勇  李紫奕   </a:t>
            </a: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蔡斌斌  桑吉垟  唐陈潇贲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611280" y="836640"/>
            <a:ext cx="6114960" cy="5619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次月考年级前</a:t>
            </a: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00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位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1" name=""/>
          <p:cNvSpPr/>
          <p:nvPr/>
        </p:nvSpPr>
        <p:spPr>
          <a:xfrm>
            <a:off x="611280" y="2060640"/>
            <a:ext cx="770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9280" y="298440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莫蒙迪   杜斌彬   赵亚凯</a:t>
            </a: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唐陈潇贲 童佳楠   桑吉垟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沈  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611280" y="836640"/>
            <a:ext cx="6114960" cy="5619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次月考年级前</a:t>
            </a: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00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位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4" name=""/>
          <p:cNvSpPr/>
          <p:nvPr/>
        </p:nvSpPr>
        <p:spPr>
          <a:xfrm>
            <a:off x="611280" y="2060640"/>
            <a:ext cx="770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0920" y="33116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莫蒙迪  杜斌彬   赵亚凯  </a:t>
            </a: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童佳楠  唐陈潇贲 沈  阳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方佳丽  高丽燕   陈  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19784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838080" y="228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7200" y="674280"/>
            <a:ext cx="699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进步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较快的同学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5280" y="284148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莫蒙迪 唐陈潇贲  赵亚凯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朱  珍  高丽燕   沈青青</a:t>
            </a: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张晨炳  高娇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09:58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1:51Z</dcterms:modified>
  <cp:revision>158</cp:revision>
  <dc:subject>主题班会课件(分28大类): http://shop62905894.taobao.com</dc:subject>
  <dc:title>主题班会课件(分28大类): http://shop62905894.taobao.com</dc:title>
</cp:coreProperties>
</file>