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40.gif" ContentType="image/gif"/>
  <Override PartName="/ppt/media/image54.gif" ContentType="image/gif"/>
  <Override PartName="/ppt/media/image37.png" ContentType="image/png"/>
  <Override PartName="/ppt/media/image22.jpeg" ContentType="image/jpeg"/>
  <Override PartName="/ppt/media/image46.gif" ContentType="image/gif"/>
  <Override PartName="/ppt/media/image25.png" ContentType="image/png"/>
  <Override PartName="/ppt/media/image19.jpeg" ContentType="image/jpeg"/>
  <Override PartName="/ppt/media/image59.jpeg" ContentType="image/jpeg"/>
  <Override PartName="/ppt/media/image42.jpeg" ContentType="image/jpeg"/>
  <Override PartName="/ppt/media/image9.wmf" ContentType="image/x-wmf"/>
  <Override PartName="/ppt/media/image5.jpeg" ContentType="image/jpeg"/>
  <Override PartName="/ppt/media/image11.wmf" ContentType="image/x-wmf"/>
  <Override PartName="/ppt/media/image7.png" ContentType="image/png"/>
  <Override PartName="/ppt/media/image62.jpeg" ContentType="image/jpeg"/>
  <Override PartName="/ppt/media/image14.jpeg" ContentType="image/jpeg"/>
  <Override PartName="/ppt/media/image64.jpeg" ContentType="image/jpeg"/>
  <Override PartName="/ppt/media/image38.jpeg" ContentType="image/jpeg"/>
  <Override PartName="/ppt/media/image61.jpeg" ContentType="image/jpeg"/>
  <Override PartName="/ppt/media/image50.jpeg" ContentType="image/jpeg"/>
  <Override PartName="/ppt/media/image27.jpeg" ContentType="image/jpeg"/>
  <Override PartName="/ppt/media/image13.wmf" ContentType="image/x-wmf"/>
  <Override PartName="/ppt/media/image28.jpeg" ContentType="image/jpeg"/>
  <Override PartName="/ppt/media/image15.jpeg" ContentType="image/jpeg"/>
  <Override PartName="/ppt/media/image26.wmf" ContentType="image/x-wmf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36.wmf" ContentType="image/x-wmf"/>
  <Override PartName="/ppt/media/image60.jpeg" ContentType="image/jpeg"/>
  <Override PartName="/ppt/media/image16.jpeg" ContentType="image/jpeg"/>
  <Override PartName="/ppt/media/chimes.wav" ContentType="audio/x-wav"/>
  <Override PartName="/ppt/media/image17.jpeg" ContentType="image/jpeg"/>
  <Override PartName="/ppt/media/image3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31.jpeg" ContentType="image/jpeg"/>
  <Override PartName="/ppt/media/image4.png" ContentType="image/png"/>
  <Override PartName="/ppt/media/image41.gif" ContentType="image/gif"/>
  <Override PartName="/ppt/media/image20.jpeg" ContentType="image/jpeg"/>
  <Override PartName="/ppt/media/image12.wmf" ContentType="image/x-wmf"/>
  <Override PartName="/ppt/media/image51.png" ContentType="image/png"/>
  <Override PartName="/ppt/media/image29.jpeg" ContentType="image/jpeg"/>
  <Override PartName="/ppt/media/image33.wmf" ContentType="image/x-wmf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45.gif" ContentType="image/gif"/>
  <Override PartName="/ppt/media/image6.wmf" ContentType="image/x-wmf"/>
  <Override PartName="/ppt/media/image30.jpeg" ContentType="image/jpeg"/>
  <Override PartName="/ppt/media/image32.jpeg" ContentType="image/jpeg"/>
  <Override PartName="/ppt/media/image34.wmf" ContentType="image/x-wmf"/>
  <Override PartName="/ppt/media/image43.jpeg" ContentType="image/jpeg"/>
  <Override PartName="/ppt/media/image44.jpeg" ContentType="image/jpeg"/>
  <Override PartName="/ppt/media/image47.gif" ContentType="image/gif"/>
  <Override PartName="/ppt/media/image53.jpeg" ContentType="image/jpeg"/>
  <Override PartName="/ppt/media/image35.wmf" ContentType="image/x-wmf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0CE-1A6E-4DCE-9BD4-533C002C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EE3-4C9E-4EAB-BE4C-D43B6EA4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AA4-1DDB-44D4-A444-84F2296C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770-1002-4B38-B0AE-0D07B641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3377-D55E-4924-BD60-F8A8E379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61B8-842A-49F3-8E54-3A5AD454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F8D2-82EE-4019-896B-A61C5929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80EA-B586-49A3-82A3-F05F6CC3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D24D-D266-425A-970F-12666474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4205-A1CC-4BA2-A480-B1667FB0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50C9-3737-43BE-97A6-14AD5BD3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134-EDB4-4743-A996-8107B405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EC57-2B66-4187-B6FD-CFE8191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813A-B818-4DA4-9DA3-496629B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684B-F6AF-4F06-A6CA-FD14EC31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F075-CBCF-4C25-9698-58B71E91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33C4-060D-41EE-802A-1617E4FD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50DE-9F1D-452C-99C9-5C8BB406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D35A-C525-4132-9779-A483446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DB63-4D28-4A61-892F-3A818CDF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621C-B0FF-43B0-AE98-8AA6F133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4A64-DD28-4BA4-9F0B-A8A31756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7D9-1D4D-4DCC-8181-A161DCEB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2119-ADF4-4E95-883F-96D6F316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4BA1-B713-4B57-A058-F913D25D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DA1E-B3C4-43BD-B37A-3AF82EE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03EC-1205-4085-9FB2-A9DB8C2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BAC0-A83A-4292-8CCF-A3D5102C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B470E-3E0E-4101-B418-B23E9EF2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F9F52-95E4-40CA-98D2-08263524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372EB-AC47-4BFA-80F7-B890E6BD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09C6-31AF-4EF6-A06C-32431F03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B7A2-9414-4542-A639-B23F0376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719-2445-4DF9-8720-A502BC33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74EC-5BF0-41C9-8635-136C0BA5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E8407-1A2C-4FD9-9990-773AD43A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D3C37-48B9-45B0-AE88-5BB9DFEF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1E7D-28B9-417A-A445-CB5ABB9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5BFA-01AB-48A0-AC15-BFCD51B5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19C3-086C-4ACB-B09B-CB3E0E9F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A1CD-4171-4B0B-9BED-3B99A5D8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4B64-C0EE-4A3A-A953-C40CBEBE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D667-63AD-465A-8940-BE79555C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2C348-888A-4034-BA46-E8C245BE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B7F-5EDA-406D-98AC-B415FAD0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910D-D70C-4748-9F21-4ABED2DA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58A3-1CB5-4299-8E0F-D9EB5947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CA2A1-2CD4-4C6C-A9C7-7A3B8B5E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6D518-6F7B-4B05-84C6-5A123CB3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034F-F1E9-48E4-A0EB-0EC0DC89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24A2B-F454-4E63-BC36-733D82C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38991-9A6E-43F8-9881-B3DEF50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57F5-015A-478A-9859-C281B62F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7DEC4-C485-4576-9310-247E94A0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11C8-F486-4526-8C14-81DDFD3C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75D-65F6-4CD8-92E7-8FBD31B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C294-4152-4A8C-AB3C-5220C56A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6C482-697C-4C65-8A0E-8C9C7D96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C9525-FA78-4974-8A12-F0521600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F8795-58A2-4A50-8F1A-E0BE2BE6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2BFC9-3E84-41A3-A7A9-86F2D87A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E83F9-37D3-4ABD-8CAF-C4910949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1C575-39C9-449D-ABBD-AB997FBC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7B36A-3748-4CCC-9EC4-4CC8DBA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8A7E0-4997-4DA7-8DED-9777529E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C3DE5-0568-44C3-A6DC-90E220F4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D35-1A45-435F-8751-5A31CE5E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3007B-4F9F-4ECE-A186-AA19A608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956F-DFFA-46AF-98BD-88203C58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D4A09-2E57-4608-84EC-B15F4778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52674-A683-4C3C-BF2E-99F2D214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66600-E284-4860-A6F8-05F1732A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7D98-1F75-4D1E-825C-57EE227B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032B5-3081-4FEC-9B38-EE020326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E58E-2659-4FF9-961D-6D97494F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300CB-9716-409B-9B95-D42A398A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9A5CC-47D1-4E46-BF74-306D0E73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412-BB3C-4097-A973-D771B27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3BCA3-3D93-4E97-AE65-5F76781F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85CE8-92A9-4B0B-8664-5152B083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B60BF-B422-45DB-A605-BD74F37F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66890-FE2E-4D1E-8752-75E35A14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EF287-E87C-4862-B569-92AC62A6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32335-07DD-4B0A-A844-807B8932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D4992-BC1B-4D17-8479-AAA6141F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0A6CE-BCA8-40FF-81DE-1AAD47FC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9A9CF-8A70-45D1-AC00-8A748FB9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E2D07-FC6E-4217-B163-77D15611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848-921A-42E4-864B-3FA56CF2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D9BF3-D645-4208-BE43-FC89760B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DD1FD-DC57-48AA-A570-3F86692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81AB0-BC1A-4B0B-92CF-8B9C5A49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E2E75-8BF7-492B-A56A-FE7C4316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4B72A-4A22-4CCD-9787-F6FF5163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402E5-10C9-42FA-A32D-1EDAF521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2E07A-FF29-4D00-A1A1-8A80D4F6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4791-08CE-40D9-80FE-C8467FA9DC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42" name="框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花4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花3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葉子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0036-0097-42B8-B9F5-91E4806133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框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花4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花3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葉子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8ACB-4440-4AE4-8E9B-52C180DEE4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6769-3AB7-40D1-9148-A8AD86063D61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C84F-922F-4307-8D4C-49C0A6C47F05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351-1306-42EA-9AE9-53B52570EA9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75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276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279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3196-5D0F-4346-95D9-F29705831CD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A75-C5B3-4B74-879A-CB1B69D7D5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0.gif"/><Relationship Id="rId3" Type="http://schemas.openxmlformats.org/officeDocument/2006/relationships/image" Target="../media/image46.gif"/><Relationship Id="rId4" Type="http://schemas.openxmlformats.org/officeDocument/2006/relationships/image" Target="../media/image47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5.gif"/><Relationship Id="rId3" Type="http://schemas.openxmlformats.org/officeDocument/2006/relationships/image" Target="../media/image45.gif"/><Relationship Id="rId4" Type="http://schemas.openxmlformats.org/officeDocument/2006/relationships/image" Target="../media/image4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5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5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5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8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8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63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100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285920" y="4533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79800" y="3279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63600" y="3308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0400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19520" y="260280"/>
            <a:ext cx="36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武平镇中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级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班全家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9983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-100080" y="-235080"/>
            <a:ext cx="3880080" cy="31608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50840" y="909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全体同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倾情奉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846000" y="2793240"/>
            <a:ext cx="2518920" cy="2384280"/>
            <a:chOff x="846000" y="2793240"/>
            <a:chExt cx="2518920" cy="2384280"/>
          </a:xfrm>
        </p:grpSpPr>
        <p:sp>
          <p:nvSpPr>
            <p:cNvPr id="441" name=""/>
            <p:cNvSpPr/>
            <p:nvPr/>
          </p:nvSpPr>
          <p:spPr>
            <a:xfrm rot="1560000">
              <a:off x="1115640" y="3141720"/>
              <a:ext cx="1979640" cy="1687320"/>
            </a:xfrm>
            <a:custGeom>
              <a:avLst/>
              <a:gdLst>
                <a:gd name="textAreaLeft" fmla="*/ 465120 w 1979640"/>
                <a:gd name="textAreaRight" fmla="*/ 1513080 w 1979640"/>
                <a:gd name="textAreaTop" fmla="*/ 198360 h 1687320"/>
                <a:gd name="textAreaBottom" fmla="*/ 1058400 h 16873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260000">
              <a:off x="1865520" y="3501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799360" y="1935000"/>
            <a:ext cx="2358360" cy="2084400"/>
            <a:chOff x="2799360" y="1935000"/>
            <a:chExt cx="2358360" cy="2084400"/>
          </a:xfrm>
        </p:grpSpPr>
        <p:sp>
          <p:nvSpPr>
            <p:cNvPr id="444" name=""/>
            <p:cNvSpPr/>
            <p:nvPr/>
          </p:nvSpPr>
          <p:spPr>
            <a:xfrm rot="1080000">
              <a:off x="2990160" y="2202120"/>
              <a:ext cx="1976400" cy="1549440"/>
            </a:xfrm>
            <a:custGeom>
              <a:avLst/>
              <a:gdLst>
                <a:gd name="textAreaLeft" fmla="*/ 464400 w 1976400"/>
                <a:gd name="textAreaRight" fmla="*/ 1510560 w 1976400"/>
                <a:gd name="textAreaTop" fmla="*/ 182160 h 1549440"/>
                <a:gd name="textAreaBottom" fmla="*/ 972000 h 1549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30960" y="25369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</a:rPr>
                <a:t>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095720" y="3684960"/>
            <a:ext cx="2391120" cy="1894320"/>
            <a:chOff x="4095720" y="3684960"/>
            <a:chExt cx="2391120" cy="1894320"/>
          </a:xfrm>
        </p:grpSpPr>
        <p:sp>
          <p:nvSpPr>
            <p:cNvPr id="447" name=""/>
            <p:cNvSpPr/>
            <p:nvPr/>
          </p:nvSpPr>
          <p:spPr>
            <a:xfrm rot="600000">
              <a:off x="4213080" y="3860280"/>
              <a:ext cx="2156040" cy="1543320"/>
            </a:xfrm>
            <a:custGeom>
              <a:avLst/>
              <a:gdLst>
                <a:gd name="textAreaLeft" fmla="*/ 506520 w 2156040"/>
                <a:gd name="textAreaRight" fmla="*/ 1648080 w 2156040"/>
                <a:gd name="textAreaTop" fmla="*/ 181440 h 1543320"/>
                <a:gd name="textAreaBottom" fmla="*/ 968040 h 15433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420000">
              <a:off x="5011920" y="415548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</a:rPr>
                <a:t>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156720" y="2165760"/>
            <a:ext cx="2378880" cy="2079000"/>
            <a:chOff x="6156720" y="2165760"/>
            <a:chExt cx="2378880" cy="2079000"/>
          </a:xfrm>
        </p:grpSpPr>
        <p:sp>
          <p:nvSpPr>
            <p:cNvPr id="450" name=""/>
            <p:cNvSpPr/>
            <p:nvPr/>
          </p:nvSpPr>
          <p:spPr>
            <a:xfrm rot="20940000">
              <a:off x="6300720" y="2349360"/>
              <a:ext cx="2090880" cy="1711440"/>
            </a:xfrm>
            <a:custGeom>
              <a:avLst/>
              <a:gdLst>
                <a:gd name="textAreaLeft" fmla="*/ 491400 w 2090880"/>
                <a:gd name="textAreaRight" fmla="*/ 1598040 w 2090880"/>
                <a:gd name="textAreaTop" fmla="*/ 201240 h 1711440"/>
                <a:gd name="textAreaBottom" fmla="*/ 1073520 h 1711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280000">
              <a:off x="6966360" y="274716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Arial"/>
                </a:rPr>
                <a:t>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379320" y="-514440"/>
            <a:ext cx="34725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来自偶然像一颗尘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谁看出我的脆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来自何方我情归何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在下一刻呼唤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地虽宽这条路却难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看遍这人间坎坷辛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还有多少爱我还有多少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苍天知道我不认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恩的心感谢有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伴我一生让我有勇气作我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恩的心感谢命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开花落我一样会珍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5400000">
            <a:off x="-1222920" y="1519920"/>
            <a:ext cx="38862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感恩的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6" name=""/>
          <p:cNvSpPr/>
          <p:nvPr/>
        </p:nvSpPr>
        <p:spPr>
          <a:xfrm>
            <a:off x="1395360" y="320760"/>
            <a:ext cx="5461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------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献给我最真最爱的亲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78850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89183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2241360" cy="14162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140640" y="1413000"/>
            <a:ext cx="3228840" cy="1312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方正舒体"/>
              </a:rPr>
              <a:t>不变的誓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2000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7020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85555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900000" y="1920960"/>
            <a:ext cx="727236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、班级情况介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1008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285920" y="4533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179800" y="3279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63600" y="3308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0400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819520" y="260280"/>
            <a:ext cx="36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武平镇中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级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班全家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19983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6804000" y="5302080"/>
            <a:ext cx="2313000" cy="15591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1620720" y="119160"/>
            <a:ext cx="5904000" cy="100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725760" y="1197000"/>
            <a:ext cx="811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本班学生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67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其中男生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32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女生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3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其中校外住宿生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本班共有任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教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名，涉及语文、数学、外语、政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历史、生物、地理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个科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77080" y="587700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76000" y="4221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班风纯，学风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2565360"/>
            <a:ext cx="8820000" cy="825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班训：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“班级是我家，建设靠大家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8200" y="476280"/>
            <a:ext cx="55342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班级管理理念：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关爱每位学生的成长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4508640"/>
            <a:ext cx="5580000" cy="825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班歌：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《姐妹弟兄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840" y="907920"/>
            <a:ext cx="90741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优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尊敬师长，团结同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较强的集体荣誉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绝大多数都具有较为长远的理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)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较好的行为习惯，诚实守信，懂得感恩，独立生活能力强，适应新环境能力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维敏捷，聪明伶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受能力强，综合能力较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较好地遵章守纪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81600" y="44280"/>
            <a:ext cx="169092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生介绍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4920" y="44280"/>
            <a:ext cx="929016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缺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方法不到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的主动性、自觉性不够，有惰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勤奋程度不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上竞争意识不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身体素质有待加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部分学生生活自理能力差，特别是不能正确的分配和使用自己的生活费，乱花钱现象严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生不能很好利用好周末，留守孩子的教育与管理存在严重问题，有极少数学生存在赌博、上网等不良习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6877080" y="5662440"/>
            <a:ext cx="2241360" cy="1198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7020000" y="6093000"/>
            <a:ext cx="2057400" cy="441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0200" y="1917720"/>
            <a:ext cx="1521000" cy="28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班 委 成 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76040" y="177336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清洁委员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刘郎丽芬、何建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644640" y="256536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育委员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刘昊东、岑希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59240" y="3573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娱委员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罗月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13240" y="443700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寝室室长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罗艳、刘林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33480" y="117360"/>
            <a:ext cx="2948040" cy="1440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24040" y="549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你们的骄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86280" y="5661000"/>
            <a:ext cx="39297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班实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班长轮流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值日生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学习委员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人人都是学习的标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84360" y="1341360"/>
            <a:ext cx="7346880" cy="604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006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年秋武平镇中学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009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4" name=""/>
          <p:cNvSpPr/>
          <p:nvPr/>
        </p:nvSpPr>
        <p:spPr>
          <a:xfrm>
            <a:off x="2427120" y="37162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舒体"/>
              </a:rPr>
              <a:t>家长会暨学生素质汇报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13800" y="47242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7.1.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-33480" y="117360"/>
            <a:ext cx="2948040" cy="1440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4040" y="549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你们的骄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-478080" y="3213000"/>
            <a:ext cx="1521000" cy="1871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光荣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87200" y="1484280"/>
            <a:ext cx="48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全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演讲比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淑英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二等奖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王雅戴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三等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42240" y="1989000"/>
            <a:ext cx="432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年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竞赛：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我班囊括所有奖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一等奖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谭红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二等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周小嫚、刘郎丽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三等奖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王玮玲、杨贵华、罗月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754000" y="3645000"/>
            <a:ext cx="46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团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画比赛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王玮玲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二等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王雅戴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三等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4560" y="4221000"/>
            <a:ext cx="255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班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学竞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一等奖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杨贵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二等奖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罗江湖、熊成妮、罗月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三等奖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向俊龙、秦红林、罗艳、谭丽华、刘林伟、李亚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35280" y="5791320"/>
            <a:ext cx="54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班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画比赛：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一等奖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蒋丽娟  唐传真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二等奖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林登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蒋经强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罗月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三等奖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熊其娅  熊成妮  王丽思   宋万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95880" y="44280"/>
            <a:ext cx="2314440" cy="703440"/>
          </a:xfrm>
          <a:prstGeom prst="rect">
            <a:avLst/>
          </a:prstGeom>
          <a:solidFill>
            <a:srgbClr val="ccff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期末成绩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3720" y="1101600"/>
            <a:ext cx="1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24000" y="868320"/>
          <a:ext cx="8229600" cy="6033960"/>
        </p:xfrm>
        <a:graphic>
          <a:graphicData uri="http://schemas.openxmlformats.org/drawingml/2006/table">
            <a:tbl>
              <a:tblPr/>
              <a:tblGrid>
                <a:gridCol w="1079280"/>
                <a:gridCol w="768600"/>
                <a:gridCol w="863280"/>
                <a:gridCol w="825480"/>
                <a:gridCol w="827280"/>
                <a:gridCol w="825480"/>
                <a:gridCol w="1012680"/>
                <a:gridCol w="1014480"/>
                <a:gridCol w="1013040"/>
              </a:tblGrid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熊其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丽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春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贵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谭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静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谭丽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淑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月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小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伟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熊成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小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250920" y="779400"/>
          <a:ext cx="8229600" cy="6078600"/>
        </p:xfrm>
        <a:graphic>
          <a:graphicData uri="http://schemas.openxmlformats.org/drawingml/2006/table">
            <a:tbl>
              <a:tblPr/>
              <a:tblGrid>
                <a:gridCol w="1060200"/>
                <a:gridCol w="787680"/>
                <a:gridCol w="863640"/>
                <a:gridCol w="825480"/>
                <a:gridCol w="826920"/>
                <a:gridCol w="825480"/>
                <a:gridCol w="1013040"/>
                <a:gridCol w="1014120"/>
                <a:gridCol w="101304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满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林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岑希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钟丽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林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蒋经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谭红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任翠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蒋丽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丽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林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"/>
          <p:cNvSpPr/>
          <p:nvPr/>
        </p:nvSpPr>
        <p:spPr>
          <a:xfrm>
            <a:off x="695880" y="44280"/>
            <a:ext cx="2314440" cy="703440"/>
          </a:xfrm>
          <a:prstGeom prst="rect">
            <a:avLst/>
          </a:prstGeom>
          <a:solidFill>
            <a:srgbClr val="ccff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期末成绩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324000" y="765000"/>
          <a:ext cx="8229600" cy="6078600"/>
        </p:xfrm>
        <a:graphic>
          <a:graphicData uri="http://schemas.openxmlformats.org/drawingml/2006/table">
            <a:tbl>
              <a:tblPr/>
              <a:tblGrid>
                <a:gridCol w="1060200"/>
                <a:gridCol w="787680"/>
                <a:gridCol w="863280"/>
                <a:gridCol w="825480"/>
                <a:gridCol w="855720"/>
                <a:gridCol w="797040"/>
                <a:gridCol w="1012680"/>
                <a:gridCol w="1014480"/>
                <a:gridCol w="101304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雪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先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淑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涛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安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蒋丽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越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玉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小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秦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唐传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谭舒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马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宋万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云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695880" y="44280"/>
            <a:ext cx="2314440" cy="703440"/>
          </a:xfrm>
          <a:prstGeom prst="rect">
            <a:avLst/>
          </a:prstGeom>
          <a:solidFill>
            <a:srgbClr val="ccff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期末成绩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395280" y="787320"/>
          <a:ext cx="8229600" cy="6070680"/>
        </p:xfrm>
        <a:graphic>
          <a:graphicData uri="http://schemas.openxmlformats.org/drawingml/2006/table">
            <a:tbl>
              <a:tblPr/>
              <a:tblGrid>
                <a:gridCol w="1060560"/>
                <a:gridCol w="787320"/>
                <a:gridCol w="863640"/>
                <a:gridCol w="825480"/>
                <a:gridCol w="826920"/>
                <a:gridCol w="825480"/>
                <a:gridCol w="1013040"/>
                <a:gridCol w="1014480"/>
                <a:gridCol w="1012680"/>
              </a:tblGrid>
              <a:tr h="54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蒋中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殷翠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林登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江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亚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秦红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雅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丽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春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唐建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红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95880" y="44280"/>
            <a:ext cx="2314440" cy="703440"/>
          </a:xfrm>
          <a:prstGeom prst="rect">
            <a:avLst/>
          </a:prstGeom>
          <a:solidFill>
            <a:srgbClr val="ccff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期末成绩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95880" y="44280"/>
            <a:ext cx="2314440" cy="703440"/>
          </a:xfrm>
          <a:prstGeom prst="rect">
            <a:avLst/>
          </a:prstGeom>
          <a:solidFill>
            <a:srgbClr val="ccff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期末成绩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24000" y="1006560"/>
          <a:ext cx="8229240" cy="5851080"/>
        </p:xfrm>
        <a:graphic>
          <a:graphicData uri="http://schemas.openxmlformats.org/drawingml/2006/table">
            <a:tbl>
              <a:tblPr/>
              <a:tblGrid>
                <a:gridCol w="1060200"/>
                <a:gridCol w="788400"/>
                <a:gridCol w="863280"/>
                <a:gridCol w="825840"/>
                <a:gridCol w="825480"/>
                <a:gridCol w="825840"/>
                <a:gridCol w="1013400"/>
                <a:gridCol w="1013400"/>
                <a:gridCol w="1013400"/>
              </a:tblGrid>
              <a:tr h="102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月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杰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俊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秋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淑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敖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伶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6048360" cy="9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1547640" y="1341360"/>
          <a:ext cx="5904000" cy="4835520"/>
        </p:xfrm>
        <a:graphic>
          <a:graphicData uri="http://schemas.openxmlformats.org/drawingml/2006/table">
            <a:tbl>
              <a:tblPr/>
              <a:tblGrid>
                <a:gridCol w="1954440"/>
                <a:gridCol w="2031840"/>
                <a:gridCol w="19177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姓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分 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 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任翠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 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罗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 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谭红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 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谭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 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杨贵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政 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刘春花 、 刘郎丽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历 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刘春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"/>
          <p:cNvSpPr/>
          <p:nvPr/>
        </p:nvSpPr>
        <p:spPr>
          <a:xfrm>
            <a:off x="6372360" y="44280"/>
            <a:ext cx="2952720" cy="1440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161120" y="40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你们的骄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372360" y="0"/>
            <a:ext cx="2950920" cy="1440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0" y="1197000"/>
          <a:ext cx="7885080" cy="5419800"/>
        </p:xfrm>
        <a:graphic>
          <a:graphicData uri="http://schemas.openxmlformats.org/drawingml/2006/table">
            <a:tbl>
              <a:tblPr/>
              <a:tblGrid>
                <a:gridCol w="1023840"/>
                <a:gridCol w="752400"/>
                <a:gridCol w="827280"/>
                <a:gridCol w="792000"/>
                <a:gridCol w="790560"/>
                <a:gridCol w="789120"/>
                <a:gridCol w="968400"/>
                <a:gridCol w="973080"/>
                <a:gridCol w="9684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熊其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丽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春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贵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谭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静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谭丽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淑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月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小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伟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熊成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小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满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6372360" y="0"/>
            <a:ext cx="2950920" cy="1440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60400" y="360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你们的骄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0"/>
            <a:ext cx="2950920" cy="1440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72360" y="0"/>
            <a:ext cx="2950920" cy="1440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60400" y="360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你们的骄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0" y="907920"/>
          <a:ext cx="8964720" cy="5632560"/>
        </p:xfrm>
        <a:graphic>
          <a:graphicData uri="http://schemas.openxmlformats.org/drawingml/2006/table">
            <a:tbl>
              <a:tblPr/>
              <a:tblGrid>
                <a:gridCol w="1155960"/>
                <a:gridCol w="855360"/>
                <a:gridCol w="941400"/>
                <a:gridCol w="898560"/>
                <a:gridCol w="933480"/>
                <a:gridCol w="866880"/>
                <a:gridCol w="1103400"/>
                <a:gridCol w="1106280"/>
                <a:gridCol w="110340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雪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先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淑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涛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安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蒋丽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越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玉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小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秦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唐传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谭舒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马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宋万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云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95280" y="117360"/>
            <a:ext cx="8209080" cy="8654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3394080" y="260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任课教师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9280" y="9079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胜学，教导处主任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本科，中学语文一级教师，从教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年，一直从事语文教学工作，带数届毕业班，有着丰富的教育教学经验。是我校乃至我县语文教学的骨干教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8000" y="292428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数学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平，班主任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本科，中学数学二级教师，从教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精力充沛，热爱学生，一直从事数学教学工作；带数届毕业班，有着丰富的班级管理经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08000" y="458136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英语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国胜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本科，中学英语二级教师，年富力强，责任心强，热爱教育事业；带数届毕业班，有着丰富的教育教学经验；是我校英语教学的骨干和中坚力量，辅导的学生曾多少次获国家级、省市级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09440" y="190440"/>
            <a:ext cx="8928360" cy="65516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25440" y="477720"/>
            <a:ext cx="3168720" cy="1511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213080" y="476280"/>
            <a:ext cx="4464360" cy="16509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1316160" y="2602080"/>
            <a:ext cx="6511680" cy="16538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468360" y="4508640"/>
            <a:ext cx="6600600" cy="17762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021440" y="616572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093080" y="5302080"/>
            <a:ext cx="2050920" cy="15829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7380360" y="6021360"/>
            <a:ext cx="1554120" cy="52056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7"/>
          <a:stretch/>
        </p:blipFill>
        <p:spPr>
          <a:xfrm>
            <a:off x="8317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7665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395280" y="117360"/>
            <a:ext cx="8209080" cy="8654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394080" y="260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任课教师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9280" y="9079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政治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支良，校长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本科，中学政治一级教师，从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一直从事政治教学工作，有着丰富的教育教学经验。是我校乃至我县政治学科教学的骨干教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8000" y="2708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历史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肖正平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本科，中学历史一级教师，从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年，教学经验丰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645000"/>
            <a:ext cx="88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物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天勇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对工作认真负责，勇于奉献，敢于探索，，有着丰富的教育教学经验，是我校生物教学的骨干教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-31680" y="5157720"/>
            <a:ext cx="91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地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汪李坤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中学地理一级教师，从事地理教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对工作认真负责，兢兢业业，乐于奉献，有着丰富的教育教学经验，是我校地理教学的骨干教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4000" y="1054080"/>
            <a:ext cx="857160" cy="40924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692360" y="1270080"/>
            <a:ext cx="72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文：安胜学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359459080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学：李   平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592373007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语：许国胜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359459934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政治：曹支良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35945991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历史：肖正平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345252829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物：王天勇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399683707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理：汪李坤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345251829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16760" y="333360"/>
            <a:ext cx="481356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了孩子的成长，请多与我们联系和沟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902160" y="3284640"/>
            <a:ext cx="298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教师代表发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1125360"/>
            <a:ext cx="60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学校领导发言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02160" y="3284640"/>
            <a:ext cx="298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学生代表发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家长代表发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077480" y="4149720"/>
            <a:ext cx="24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-----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蒋宗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375920" y="1773360"/>
            <a:ext cx="28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------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吴秋满之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324440" y="2708280"/>
            <a:ext cx="270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-------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谭飞之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47320" y="4724280"/>
            <a:ext cx="24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-----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罗林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147320" y="5373720"/>
            <a:ext cx="24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-----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熊其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44080" y="5950080"/>
            <a:ext cx="24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------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王雅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68440" y="765000"/>
            <a:ext cx="31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------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刘满昌之大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桃树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295280" y="684720"/>
            <a:ext cx="5639040" cy="642600"/>
          </a:xfrm>
          <a:prstGeom prst="rect">
            <a:avLst/>
          </a:prstGeom>
          <a:solidFill>
            <a:srgbClr val="ffd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爸爸妈妈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我想对您们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5640" y="2091600"/>
            <a:ext cx="6172200" cy="4102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妈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娇娃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儿已经长大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事情希望自己作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经常气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撞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我打心里爱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哭泣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看在眼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疼在心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永远爱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……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您爱得死心蹋地的女儿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雅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066680" y="1637640"/>
            <a:ext cx="7315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敬爱的妈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悉的身影，瘦削的脸庞，就是你，使我的生命里，拥有无止境的爱。若不努力，若不奋斗，那我，又怎能对得起您所给予的关怀和期待。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爱您的女儿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王玮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90720" y="3340800"/>
            <a:ext cx="7391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敬爱的爸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您的爱护下，我就是避风港里最安全的船只，顺利渡过人生的彼岸。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您的儿子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刘昊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004752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578" name="004752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579" name="005239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边框3" descr=""/>
          <p:cNvPicPr/>
          <p:nvPr/>
        </p:nvPicPr>
        <p:blipFill>
          <a:blip r:embed="rId1"/>
          <a:stretch/>
        </p:blipFill>
        <p:spPr>
          <a:xfrm>
            <a:off x="0" y="-303120"/>
            <a:ext cx="9144000" cy="71611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1523880" y="1463760"/>
            <a:ext cx="701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92360" y="3550320"/>
            <a:ext cx="6400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爸爸妈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再担心了，笑笑吧！您们昔日心中的孩子已经长大了，已懂得了什么是亲情、什么是孝敬，而这个是不能用语言来表达的，只能以行动表示。而我的行动就是在三年后送给您们一张上面写有“重点高中”四个大字的录取通知书！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您们的女儿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向淑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004752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4114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边框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1547640" y="2952000"/>
            <a:ext cx="6477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亲爱的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虽然我一再说你不爱我，不疼我。可是，我的心是知道的，您为了我们的学费，四处劳碌，双鬓的白发一天一天地增多。您曾说过，给您最好的礼物莫过于儿女们学业有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!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您的女儿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任翠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004752" descr=""/>
          <p:cNvPicPr/>
          <p:nvPr/>
        </p:nvPicPr>
        <p:blipFill>
          <a:blip r:embed="rId2"/>
          <a:stretch/>
        </p:blipFill>
        <p:spPr>
          <a:xfrm>
            <a:off x="960480" y="118908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对鸟边框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447920" y="318708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亲爱的爸爸妈妈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您们每一丝的疼爱，每一丝的关切都是我多年来学习的动力。您们从未给我的学习加以压力，而是不断地鼓励、支持、体谅、理解，我不会辜负您们对我的期望，尽我的努力，争取优异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您们的儿子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蒋金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2920" y="520956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爱的爸爸妈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天，我以你们为荣；明天，我要你们以我为荣。 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您的女儿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熊其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003356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591" name="003356" descr=""/>
          <p:cNvPicPr/>
          <p:nvPr/>
        </p:nvPicPr>
        <p:blipFill>
          <a:blip r:embed="rId3"/>
          <a:stretch/>
        </p:blipFill>
        <p:spPr>
          <a:xfrm>
            <a:off x="960480" y="91440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71640" y="1484280"/>
            <a:ext cx="7129440" cy="3457440"/>
          </a:xfrm>
          <a:custGeom>
            <a:avLst/>
            <a:gdLst>
              <a:gd name="textAreaLeft" fmla="*/ 0 w 7129440"/>
              <a:gd name="textAreaRight" fmla="*/ 7129800 w 712944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ed8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143000" y="1709640"/>
            <a:ext cx="6934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爸爸妈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我的成绩不是位列前茅，但我已尽了我的能力。我会努力学习，不断提高我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您的女儿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殷翠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042920" y="4305960"/>
            <a:ext cx="7010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爸爸妈妈，谢谢你们对我的体谅，你们虽然没有要求我将来要做什么，但，你们好胜的女儿将会在三年之后给你们一个大惊喜——跨进重点高中的大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您的女儿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刘郎丽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004752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595" name="004752" descr=""/>
          <p:cNvPicPr/>
          <p:nvPr/>
        </p:nvPicPr>
        <p:blipFill>
          <a:blip r:embed="rId2"/>
          <a:stretch/>
        </p:blipFill>
        <p:spPr>
          <a:xfrm>
            <a:off x="533520" y="103680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596" name="1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393920" cy="1368720"/>
          </a:xfrm>
          <a:prstGeom prst="rect">
            <a:avLst/>
          </a:prstGeom>
          <a:ln w="0">
            <a:noFill/>
          </a:ln>
        </p:spPr>
      </p:pic>
      <p:pic>
        <p:nvPicPr>
          <p:cNvPr id="597" name="2" descr=""/>
          <p:cNvPicPr/>
          <p:nvPr/>
        </p:nvPicPr>
        <p:blipFill>
          <a:blip r:embed="rId4"/>
          <a:stretch/>
        </p:blipFill>
        <p:spPr>
          <a:xfrm>
            <a:off x="7467480" y="168120"/>
            <a:ext cx="14479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95280" y="190440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亲爱的爸爸妈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感谢您们给了我生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并教会我如何做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您们永远是我前进的动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            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您们的儿子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李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004752" descr=""/>
          <p:cNvPicPr/>
          <p:nvPr/>
        </p:nvPicPr>
        <p:blipFill>
          <a:blip r:embed="rId1"/>
          <a:stretch/>
        </p:blipFill>
        <p:spPr>
          <a:xfrm>
            <a:off x="0" y="1989000"/>
            <a:ext cx="411120" cy="411480"/>
          </a:xfrm>
          <a:prstGeom prst="rect">
            <a:avLst/>
          </a:prstGeom>
          <a:ln w="0">
            <a:noFill/>
          </a:ln>
        </p:spPr>
      </p:pic>
      <p:pic>
        <p:nvPicPr>
          <p:cNvPr id="600" name="003356" descr=""/>
          <p:cNvPicPr/>
          <p:nvPr/>
        </p:nvPicPr>
        <p:blipFill>
          <a:blip r:embed="rId2"/>
          <a:stretch/>
        </p:blipFill>
        <p:spPr>
          <a:xfrm>
            <a:off x="0" y="26028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468360" y="674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敬爱的爸爸妈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您们辛苦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!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明天将会是我以成功回报你们的节日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您的儿子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蒋宗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003356" descr=""/>
          <p:cNvPicPr/>
          <p:nvPr/>
        </p:nvPicPr>
        <p:blipFill>
          <a:blip r:embed="rId3"/>
          <a:stretch/>
        </p:blipFill>
        <p:spPr>
          <a:xfrm>
            <a:off x="0" y="378936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431640" y="4703760"/>
            <a:ext cx="76964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妈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年来的悉心教导。三年后，我一定会考上一间理想的学校，来回报您所会出的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您的女儿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秦红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003356" descr=""/>
          <p:cNvPicPr/>
          <p:nvPr/>
        </p:nvPicPr>
        <p:blipFill>
          <a:blip r:embed="rId4"/>
          <a:stretch/>
        </p:blipFill>
        <p:spPr>
          <a:xfrm>
            <a:off x="0" y="378936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003356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606" name="003356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11120" cy="4114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066680" y="75744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亲爱的妈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您是春雨滋润了我这这快干枯的小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给了我生命育我成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您用太阳般的母爱温暖着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使我充满活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千言万语只想对你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: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妈妈，你辛苦了！”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                                 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---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您们的女儿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罗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56160" y="3068640"/>
            <a:ext cx="614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亲爱的妈妈：在生命的长河中，您给予我的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。给我关爱，给我光明。你是我的最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---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永远爱您的女儿：刘小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6920" y="553500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今天，我的成长是您们一番苦心的结果；明日，我用成绩回报您们的一番苦心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您的儿子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林登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003356" descr=""/>
          <p:cNvPicPr/>
          <p:nvPr/>
        </p:nvPicPr>
        <p:blipFill>
          <a:blip r:embed="rId3"/>
          <a:stretch/>
        </p:blipFill>
        <p:spPr>
          <a:xfrm>
            <a:off x="395280" y="462744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258920" y="1367640"/>
            <a:ext cx="7453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敬爱的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十几年来辛辛苦苦养育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深深地懂得没有您的日子就你没有阳光的黑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如干涸的枯井……妈妈您辛苦了！我爱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您们的女儿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刘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5306400"/>
            <a:ext cx="6477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使在人群中我是渺小的的，但你仍然坚持将我带到夺目之处，我会忘不了的，我会努力的。谢谢您，爸爸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您的女儿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钟丽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004752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614" name="004752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双线边框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971640" y="20710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敬爱的爸爸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多年来的栽培，让我茁壮成长。虽然这次期末考试，我的成绩不理想，但是我会努力的，一定会在以后考试中取得优异成绩。请相信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您们的女儿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蒋丽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42920" y="453636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爸爸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陪我跨过了坎坷，走过了平坦。你是我人生道路上永远的观众，而我会为你上演好每一出好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您的女儿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罗丽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003356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411120" cy="411480"/>
          </a:xfrm>
          <a:prstGeom prst="rect">
            <a:avLst/>
          </a:prstGeom>
          <a:ln w="0">
            <a:noFill/>
          </a:ln>
        </p:spPr>
      </p:pic>
      <p:pic>
        <p:nvPicPr>
          <p:cNvPr id="619" name="003356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双线边框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042920" y="1999800"/>
            <a:ext cx="746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尊敬的爷爷奶奶：您们的养育之恩，我永远铭记于心。放心吧，我一定会迎着“风沙”成长，将来一定好好报答您们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-------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爱您们的孙子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王先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00000" y="5095440"/>
            <a:ext cx="72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至爱的爷爷：真挚地感谢您对我的养育教诲之恩。我是一颗小草，您就是光明的太阳温暖我。就算天荒地老海枯石烂，我将永远铭记您对我的恩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您身体健康！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爱您的孙子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刘满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003356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624" name="003356" descr=""/>
          <p:cNvPicPr/>
          <p:nvPr/>
        </p:nvPicPr>
        <p:blipFill>
          <a:blip r:embed="rId3"/>
          <a:stretch/>
        </p:blipFill>
        <p:spPr>
          <a:xfrm>
            <a:off x="579600" y="57960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684360" y="190620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敬爱的外公外婆：我从一个不听话不懂事的小女孩变成了一个成熟而有感情的人。这都是您们的功劳，春夏秋冬，您们为了我而忙着，您们的手变得粗糙了，是您们用汗水换得我一颗懂得感恩的心，我无以回报，只想真诚地对您们说：“外公外婆，您们辛苦了！祝您们福如东海，寿比南山！！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您们的外孙女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罗林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4360" y="454608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敬爱的外公外婆：感谢您们对我十几年的照顾。我是一个不听话的孩子，经常惹您们生气，请您们原谅。我深深地懂得您们对我出的爱与心血，我爱您们！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您们的外孙女：罗月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004752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628" name="00475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629" name="005239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13840" y="1701720"/>
            <a:ext cx="5248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500" spc="-1" strike="noStrike">
                <a:solidFill>
                  <a:srgbClr val="ff0000"/>
                </a:solidFill>
                <a:latin typeface="Arial"/>
                <a:ea typeface="华文彩云"/>
              </a:rPr>
              <a:t>班主任专题发言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47440" y="3429000"/>
            <a:ext cx="472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家 庭 教 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2852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6600ff"/>
                </a:solidFill>
                <a:latin typeface="Arial"/>
                <a:ea typeface="华文行楷"/>
              </a:rPr>
              <a:t>家庭教育</a:t>
            </a:r>
            <a:endParaRPr b="1" lang="en-US" sz="10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35" name="u=3132392565,3739487510&amp;gp=0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3203640" cy="1731960"/>
          </a:xfrm>
          <a:prstGeom prst="rect">
            <a:avLst/>
          </a:prstGeom>
          <a:ln w="0">
            <a:noFill/>
          </a:ln>
        </p:spPr>
      </p:pic>
      <p:pic>
        <p:nvPicPr>
          <p:cNvPr id="636" name="{F2F2A231-C701-4B66-89D9-9338ABABA2E8}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516720" y="0"/>
            <a:ext cx="2160720" cy="17859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wl-007" descr=""/>
          <p:cNvPicPr/>
          <p:nvPr/>
        </p:nvPicPr>
        <p:blipFill>
          <a:blip r:embed="rId2"/>
          <a:srcRect l="0" t="0" r="0" b="-87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395280" y="189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琥珀"/>
                <a:ea typeface="华文琥珀"/>
              </a:rPr>
              <a:t>家庭教育五大误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1828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华文新魏"/>
              </a:rPr>
              <a:t>2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新魏"/>
              </a:rPr>
              <a:t>过分干涉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许多家长认为，初中是一个关键的时刻，孩子要一门心思的学习，不许做任何与学习无关的事情，对孩子的自由加以限制，这样可能会适得其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297180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华文新魏"/>
              </a:rPr>
              <a:t>3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新魏"/>
              </a:rPr>
              <a:t>过分期待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对孩子的期望值过高，容易挫伤孩子的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480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新魏"/>
              </a:rPr>
              <a:t>过多的零用钱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少数同学往往不是用于学习和营养方面，而是用于非正常消费。对自觉性较差的同学来说钱多并不是好事情，往往会起到适得其反的作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华文新魏"/>
              </a:rPr>
              <a:t>1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新魏"/>
              </a:rPr>
              <a:t>过分保护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把孩子重点保护起来，全家围绕着孩子转，这样会给孩子造成很大的心理压力，增加孩子的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图片22" descr="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0" y="35053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新魏"/>
              </a:rPr>
              <a:t>过分放任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对孩子的表现漠不关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甚至对孩子已经表现出来的影响孩子健康成长的思想习惯不闻不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错过了教育的时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发展到一定的时候已经无法管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悔之晚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285920" y="4533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73080" y="189000"/>
            <a:ext cx="72482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</a:t>
            </a:r>
            <a:r>
              <a:rPr b="0" lang="zh-CN" sz="96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朗诵</a:t>
            </a:r>
            <a:r>
              <a:rPr b="0" lang="en-US" sz="9600" spc="-1" strike="noStrike">
                <a:solidFill>
                  <a:srgbClr val="0000ff"/>
                </a:solidFill>
                <a:latin typeface="方正舒体"/>
                <a:ea typeface="方正舒体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</a:t>
            </a:r>
            <a:r>
              <a:rPr b="0" lang="zh-CN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《</a:t>
            </a:r>
            <a:r>
              <a:rPr b="0" lang="zh-CN" sz="6000" spc="-1" strike="noStrike">
                <a:solidFill>
                  <a:srgbClr val="ff3300"/>
                </a:solidFill>
                <a:latin typeface="方正舒体"/>
              </a:rPr>
              <a:t>爸爸</a:t>
            </a:r>
            <a:r>
              <a:rPr b="0" lang="zh-CN" sz="6000" spc="-1" strike="noStrike">
                <a:solidFill>
                  <a:srgbClr val="ff0000"/>
                </a:solidFill>
                <a:latin typeface="方正舒体"/>
              </a:rPr>
              <a:t>妈妈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您是我的最爱</a:t>
            </a:r>
            <a:r>
              <a:rPr b="0" lang="zh-CN" sz="87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997360"/>
            <a:ext cx="25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演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9800" y="3279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63600" y="3308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26920" y="3645000"/>
            <a:ext cx="685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蒋丽娟、刘春花、向箫、刘朗丽芬、杨桃华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刘林伟、林丽、马军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钟丽容、林登涛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7236000" y="5805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80400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19459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00000" y="334800"/>
            <a:ext cx="726768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99"/>
                </a:solidFill>
                <a:latin typeface="Tahoma"/>
              </a:rPr>
              <a:t>几种不正确的家庭教育观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032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孩子太小，教育是以后的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树大自然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教育孩子，无师自通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教育是学校的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是老师，我不懂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让老人带孩子，省心又省力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9" name="无标题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443640" y="2133720"/>
            <a:ext cx="2592360" cy="32400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847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华文彩云"/>
              </a:rPr>
              <a:t>第一、以鼓励代替责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年轻的儿女所能承担的压力很有限，如同一颗幼苗，需要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施肥、灌溉，如果有太强烈的阳光，太寒冷的风雨，会摧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它。所以教育子女要如春风化雨，能够给他鼓励，儿女得到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母的鼓励，就加倍的要做好人、做好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华文彩云"/>
              </a:rPr>
              <a:t>第二、以慈爱代替呵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不要以为自己是父母，就有权威，就可以任意喝斥、打骂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女，那是不会收到好效果的。你要以慈爱，甚至以父母的辛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培养儿女的共识，父母很辛苦的做饭菜给他吃，很辛苦的替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缝制衣服，儿女会感动，会觉得父母的慈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华文彩云"/>
              </a:rPr>
              <a:t>第三、以关怀代替放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现在的子女太多受到放纵，你没有关心他，他认为横竖你不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心他，他就随便外出，随便乱来。所以父母要关心子女的生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关心他的工作，关心他的朋友。儿女受到父母无微不至关 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</a:rPr>
              <a:t>他会自爱自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371600" y="119520"/>
            <a:ext cx="6095880" cy="642600"/>
          </a:xfrm>
          <a:prstGeom prst="rect">
            <a:avLst/>
          </a:prstGeom>
          <a:solidFill>
            <a:srgbClr val="f3a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如何教育自己的子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219320" y="4572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幼圆"/>
                <a:ea typeface="幼圆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项征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50920" y="1405080"/>
            <a:ext cx="86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爱说谎话，黑话，脏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及喜欢说话时带有江湖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穿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穿制服时特别将胸前两个扣子解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型怪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身上有刺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有外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较为标新立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为诡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敢让家人知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长时间反锁自己房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且神色紧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易于动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情绪极端变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与家人赌气或自暴自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620640"/>
            <a:ext cx="8893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早出晚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无端数日不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天蒙头大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黑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出去向不交代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物品：有不良刊物、武器、药物、空胶罐、香烟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类，甚至不明巨款或当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业：一下子成绩一落千丈，经常迟到早退、逃学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书时间骤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友：有社会人士的朋友，电话、书信量突增，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朋友也不敢介绍给家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习惯：有吸烟喝酒习惯，生活不正常，用钱需求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所列举的特征与孩子的行为相似愈多，父母就应该愈加注意，愈早防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FR_050" descr=""/>
          <p:cNvPicPr/>
          <p:nvPr/>
        </p:nvPicPr>
        <p:blipFill>
          <a:blip r:embed="rId1"/>
          <a:stretch/>
        </p:blipFill>
        <p:spPr>
          <a:xfrm>
            <a:off x="0" y="-2271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6417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421160" y="3505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752480" y="2133720"/>
            <a:ext cx="609624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9933ff"/>
                </a:solidFill>
                <a:latin typeface="汉仪圆叠体简"/>
              </a:rPr>
              <a:t>给家长的几点希望和要求</a:t>
            </a:r>
            <a:endParaRPr b="0" lang="en-US" sz="4800" spc="1" strike="noStrike">
              <a:ln w="22320">
                <a:solidFill>
                  <a:srgbClr val="ff00ff"/>
                </a:solidFill>
                <a:miter/>
              </a:ln>
              <a:solidFill>
                <a:srgbClr val="9933ff"/>
              </a:solidFill>
              <a:latin typeface="汉仪圆叠体简"/>
              <a:ea typeface="汉仪圆叠体简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156360" y="1557360"/>
            <a:ext cx="2987640" cy="2448000"/>
          </a:xfrm>
          <a:prstGeom prst="flowChartMultidocumen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26920" y="2204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</a:rPr>
              <a:t>怎样使孩子安心做功课</a:t>
            </a:r>
            <a:r>
              <a:rPr b="1" lang="zh-CN" sz="4800" spc="-1" strike="noStrike">
                <a:solidFill>
                  <a:srgbClr val="0000ff"/>
                </a:solidFill>
                <a:latin typeface="Tahoma"/>
              </a:rPr>
              <a:t>?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需要家长配合的方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mato2" descr=""/>
          <p:cNvPicPr/>
          <p:nvPr/>
        </p:nvPicPr>
        <p:blipFill>
          <a:blip r:embed="rId1"/>
          <a:stretch/>
        </p:blipFill>
        <p:spPr>
          <a:xfrm>
            <a:off x="0" y="0"/>
            <a:ext cx="5200560" cy="69343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89840" y="45072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家长积极配合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445480" y="160164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老师倾情教育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93960" y="2676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孩子努力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842080" y="3933720"/>
            <a:ext cx="23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孩子的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587680" y="1066680"/>
            <a:ext cx="64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华文彩云"/>
              </a:rPr>
              <a:t>       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华文彩云"/>
              </a:rPr>
              <a:t>孩子是祖国的未来，民族的希望，更是我们每一个家庭的寄托。在此衷心祝愿我们每一个孩子健康成长，每一个家庭幸福平安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rose" descr=""/>
          <p:cNvPicPr/>
          <p:nvPr/>
        </p:nvPicPr>
        <p:blipFill>
          <a:blip r:embed="rId1"/>
          <a:stretch/>
        </p:blipFill>
        <p:spPr>
          <a:xfrm>
            <a:off x="0" y="152280"/>
            <a:ext cx="2521080" cy="670572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BJ30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,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 </a:t>
            </a: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为了孩子的一切</a:t>
            </a: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,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为了一切孩子</a:t>
            </a: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,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.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5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99"/>
                            </p:stCondLst>
                            <p:childTnLst>
                              <p:par>
                                <p:cTn id="5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3" dur="161408" fill="hold"/>
                                        <p:tgtEl>
                                          <p:spTgt spid="6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-28440" y="-90360"/>
            <a:ext cx="2189160" cy="200808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6600" y="893880"/>
            <a:ext cx="153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4440" y="2060640"/>
            <a:ext cx="2994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当我还是一个懵懂的女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遇到爱不懂爱从过去到现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直到他也离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留我在云海徘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明白没人能取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他曾给我的信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e me f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'm proud to fly up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不能一直依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别人给我拥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lieve me i can f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am singing in th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就算风雨覆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也不怕重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02200" y="2060640"/>
            <a:ext cx="2994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已不是那个懵懂的女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遇到爱用力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仍信着真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风雨来不避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谦虚把头低下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像沙鸥来去天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只为寻一个奇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e me f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'm proud to fly up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生命已经打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要你总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lieve me i can f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am singing in th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你曾经对我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做勇敢的女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431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23160" y="2060640"/>
            <a:ext cx="299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盼有一天能和你相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骄傲的对着天空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是借着你的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t me f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'm proud to fly up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生命已经打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要你总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lieve me i can f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am singing in th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你曾经对我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做勇敢的女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不会孤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因为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都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6324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630600" y="117360"/>
            <a:ext cx="188748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挥着翅膀的女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03640" y="1990800"/>
            <a:ext cx="73080" cy="518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56360" y="2062080"/>
            <a:ext cx="73080" cy="5256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83960" y="765000"/>
            <a:ext cx="109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-----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写给自信、自强、自立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自尊、自爱的女孩的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560" y="620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全体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生演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804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5652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0570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7006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来看看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03480" y="2666880"/>
            <a:ext cx="459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2241360" cy="141444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8000" y="-19080"/>
            <a:ext cx="2448000" cy="23684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53480" y="62064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男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联袂演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71840" y="244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27160" y="1054080"/>
            <a:ext cx="22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《懂　你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2638440"/>
            <a:ext cx="307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表演者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86080" y="3502080"/>
            <a:ext cx="13467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罗艳、罗月萍、罗丽华、敖容、罗林丽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殷翠华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向淑英、刘昊东、蒋宗祥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谭红丽、王雅戴、熊其娅、林丽、向箫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刘林伟、罗杰昆、周小嫚、任翠华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76280" y="344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61120" y="1341360"/>
            <a:ext cx="28112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静静的离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步一步孤独的背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多想伴着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告诉你我其实多么的爱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花静静的绽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在我忽然想你的夜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多想告诉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其实你一直都是我的奇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年一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风霜遮盖了笑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寂寞的心有谁还能够体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是不是春花秋月无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春去秋来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的爱已无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爱全给了我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世界给了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从此不知你心中苦与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多想靠近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告诉你我其实一直都懂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爱全给了我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世界给了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从此不知你心中苦与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多想靠近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依偎在你温暖寂寞的怀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83040" y="57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46040" y="117360"/>
            <a:ext cx="2201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花静静的绽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在我忽然想你的夜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多想靠近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告诉你其实我一直都懂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年一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风霜遮盖了笑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寂寞的心有谁还能够体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是不是春花秋月无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春去秋来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的爱已无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爱全给了我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世界给了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从此不知你心中苦与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多想靠近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告诉你其实我一直都懂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爱全给了我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世界给了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从此不知你心中苦与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多想靠近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依偎在你温暖寂寞的怀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多想告诉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的寂寞我的心痛在一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45080" y="549360"/>
            <a:ext cx="142920" cy="6308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61080" y="189000"/>
            <a:ext cx="1188000" cy="7034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懂   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10920" y="909720"/>
            <a:ext cx="19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------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献给父母亲的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21440" y="6238800"/>
            <a:ext cx="2057400" cy="52092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8101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1837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588000" y="5302080"/>
            <a:ext cx="2556000" cy="1582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4393080" y="1773360"/>
            <a:ext cx="244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《我想有个家》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053360" y="44280"/>
            <a:ext cx="2581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0000ff"/>
                </a:solidFill>
                <a:latin typeface="Arial"/>
                <a:ea typeface="方正舒体"/>
              </a:rPr>
              <a:t>小品：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8560" y="31417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ff"/>
                </a:solidFill>
                <a:latin typeface="Arial"/>
              </a:rPr>
              <a:t>表演者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01800" y="4292640"/>
            <a:ext cx="90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王雅戴、何建红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任翠华、林丽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877080" y="6021360"/>
            <a:ext cx="2057400" cy="52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3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514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01-04T05:48:5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900-01-04T05:48:54Z</cp:lastPrinted>
  <dcterms:modified xsi:type="dcterms:W3CDTF">2013-04-13T20:57:22Z</dcterms:modified>
  <cp:revision>60</cp:revision>
  <dc:subject>主题班会课件(分28大类): http://shop62905894.taobao.com</dc:subject>
  <dc:title>主题班会课件(分28大类): http://shop62905894.taobao.com</dc:title>
</cp:coreProperties>
</file>