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02D-7581-4FCF-9857-F0CB0DE9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7268-96D0-442D-8D84-48F61D33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970-DF67-4133-9C65-0B7B6BBD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73E-F9C7-4E24-AC51-D7022AD9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D35F-3889-46D0-8701-779196B4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AEEA-9752-411A-8BCD-D1D767F5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2D7D-A6BE-405C-9055-F0F958E9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9463-E99C-48E0-BF20-2CB33E83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1E33-6458-48CD-97C1-C97053BC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1B08-D4CD-4090-9A1C-08B8C86A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F36F-4C75-4AED-BED7-C1B5475E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F16-AB62-46DF-9DDD-53D9E2E4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40DC-4A1A-4695-839B-6FA2D94C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2CB8-5143-4F3B-A429-3961F9A2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ECBF-BF91-41B4-95CD-4AD3EDBA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6434-4B2C-42BE-BA59-D9757E42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F07D-5FDD-417B-B451-DC7DA1DA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FCF-C1B9-4423-AD85-160FC0DD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032-2370-41B9-B5E4-09A77AC1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DFB-ACA8-4413-AF00-B70CE80C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CD4-B2C5-4B7B-8688-07F8703D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1D1-65DE-4961-9580-9849476B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93C-959D-41CA-A14F-FEAE328D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08E-5E4E-47EA-9B4F-5C479512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4927-9CA1-480E-8C43-CDDABD984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FC18-1507-4779-B532-7B04877CA38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6"/>
          <p:cNvSpPr/>
          <p:nvPr/>
        </p:nvSpPr>
        <p:spPr>
          <a:xfrm>
            <a:off x="1643040" y="618156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合肥一六八中学高二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(15)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班下学期家长会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WordArt 3"/>
          <p:cNvSpPr txBox="1"/>
          <p:nvPr/>
        </p:nvSpPr>
        <p:spPr>
          <a:xfrm>
            <a:off x="1143000" y="1500120"/>
            <a:ext cx="378612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欢迎您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53" name="WordArt 4"/>
          <p:cNvSpPr txBox="1"/>
          <p:nvPr/>
        </p:nvSpPr>
        <p:spPr>
          <a:xfrm>
            <a:off x="3429000" y="3286080"/>
            <a:ext cx="50720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宋体"/>
              </a:rPr>
              <a:t>家长朋友们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3"/>
          <p:cNvSpPr/>
          <p:nvPr/>
        </p:nvSpPr>
        <p:spPr>
          <a:xfrm>
            <a:off x="1928880" y="5143680"/>
            <a:ext cx="514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cc00"/>
                </a:solidFill>
                <a:latin typeface="华文彩云"/>
                <a:ea typeface="华文彩云"/>
              </a:rPr>
              <a:t>个别交流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Picture 2" descr="BJ3057"/>
          <p:cNvPicPr/>
          <p:nvPr/>
        </p:nvPicPr>
        <p:blipFill>
          <a:blip r:embed="rId1"/>
          <a:stretch/>
        </p:blipFill>
        <p:spPr>
          <a:xfrm>
            <a:off x="530280" y="244440"/>
            <a:ext cx="5059440" cy="38275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5"/>
          <p:cNvSpPr/>
          <p:nvPr/>
        </p:nvSpPr>
        <p:spPr>
          <a:xfrm>
            <a:off x="5786280" y="946080"/>
            <a:ext cx="2857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让我们携起手来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孩子的进步是我们共同的心愿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214200" y="1429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华文琥珀"/>
                <a:ea typeface="华文琥珀"/>
              </a:rPr>
              <a:t>期中考试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WordArt 2"/>
          <p:cNvSpPr txBox="1"/>
          <p:nvPr/>
        </p:nvSpPr>
        <p:spPr>
          <a:xfrm>
            <a:off x="3214800" y="71424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成绩优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642960" y="1500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沈  阳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王  瑶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张  媛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陶延年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董燕妮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张婉玉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谭凯耀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郭孝翠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台  雪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王  涛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王骥腾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周斯艾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王  艳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张叶峰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仰小云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TextBox 6"/>
          <p:cNvSpPr/>
          <p:nvPr/>
        </p:nvSpPr>
        <p:spPr>
          <a:xfrm>
            <a:off x="642960" y="45324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张叶峰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王少美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蔡筱霄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王骥腾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钱  潇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鹿梦茹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李子彦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谭凯耀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郭孝翠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沈志强左申云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张  媛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陶延年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朱荣俊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刘彦峰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WordArt 2"/>
          <p:cNvSpPr txBox="1"/>
          <p:nvPr/>
        </p:nvSpPr>
        <p:spPr>
          <a:xfrm>
            <a:off x="3286080" y="378612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进步最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2"/>
          <p:cNvSpPr/>
          <p:nvPr/>
        </p:nvSpPr>
        <p:spPr>
          <a:xfrm>
            <a:off x="500040" y="857160"/>
            <a:ext cx="82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时间：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2010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年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月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9-20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日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科目：所有学科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及格率：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95%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合肥市为单位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重要性：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．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获取高中毕业证书（必须所有学科及格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．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影响高考录取（高校招生依据：高考成绩、综合素质评价、学业水平测试成绩。），易出现退档，而且高招政策可能有变，高招形式多样化和指标多元化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285840" y="21420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华文琥珀"/>
                <a:ea typeface="华文琥珀"/>
              </a:rPr>
              <a:t>学业水平测试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1"/>
          <p:cNvSpPr/>
          <p:nvPr/>
        </p:nvSpPr>
        <p:spPr>
          <a:xfrm>
            <a:off x="285840" y="21420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华文琥珀"/>
                <a:ea typeface="华文琥珀"/>
              </a:rPr>
              <a:t>面临高三，需要我们共同努力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428760" y="10270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现象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：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考试成绩下来后，很少有学生因成绩不好而痛哭流涕，甚至连心里难过都没有，更少有主动找老师探讨如何学习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428760" y="2036880"/>
            <a:ext cx="857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原因分析：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．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心里素质过硬，胜不骄败不馁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．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在过于优越的环境中长大，已经安排好毕业后的去向（或出国，或找人上学，或到私企里当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小老板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”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），没有忧患、没有追求，胜骄败不馁。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．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一直认真学习，多次考试成绩均不理想，没有任何进步，对学习已失去信心，只能败不馁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428760" y="487188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对策：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１．唤起他们的忧患意识和求知欲，确立能为之奋斗的目标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２．鼓励和减压，让他们重新找到自信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1"/>
          <p:cNvSpPr/>
          <p:nvPr/>
        </p:nvSpPr>
        <p:spPr>
          <a:xfrm>
            <a:off x="571680" y="21420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现象２：周末回家后，学生以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作业在学校已做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”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、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老师没有布置作业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”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等为借口，基本不学习，周日返校后再抄袭或迟交作业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642960" y="171468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原因分析：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．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老师的确没有明确布置作业，学生自我学习能力不足，感觉没有作业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．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不想学、厌学，没有完成作业的愿望和动力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．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家长因工作繁忙或教育认识上的偏差，对孩子学习没有明确的要求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．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学生缺少自我控制能力，或从小没有养成好的学习习惯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714240" y="4714920"/>
            <a:ext cx="792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对策：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．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加强家校联系、家校配合、严格要求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．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给更多的时间和精力给孩子，这一年很重要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．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培养学生的学习兴趣和良好的学习习惯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2"/>
          <p:cNvSpPr/>
          <p:nvPr/>
        </p:nvSpPr>
        <p:spPr>
          <a:xfrm>
            <a:off x="428760" y="3240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影响高三学生学习的四大因素：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857160" y="11095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网吧（在家或用手机上网）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TextBox 5"/>
          <p:cNvSpPr/>
          <p:nvPr/>
        </p:nvSpPr>
        <p:spPr>
          <a:xfrm>
            <a:off x="857160" y="189540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小说（书、电子储存器、学习用的电子类产品）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TextBox 6"/>
          <p:cNvSpPr/>
          <p:nvPr/>
        </p:nvSpPr>
        <p:spPr>
          <a:xfrm>
            <a:off x="857160" y="268128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异性交往（家长和孩子多引导并表明态度）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TextBox 7"/>
          <p:cNvSpPr/>
          <p:nvPr/>
        </p:nvSpPr>
        <p:spPr>
          <a:xfrm>
            <a:off x="857160" y="35622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家庭内务：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一是经济不很宽裕的家庭给子女的生活费太少，孩子营养不良，难以完成每天的学习重负。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二是父母不和，要么父母关系不好，要么对孩子的要求意见不一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1"/>
          <p:cNvSpPr/>
          <p:nvPr/>
        </p:nvSpPr>
        <p:spPr>
          <a:xfrm>
            <a:off x="357120" y="27288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我们会做到：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TextBox 2"/>
          <p:cNvSpPr/>
          <p:nvPr/>
        </p:nvSpPr>
        <p:spPr>
          <a:xfrm>
            <a:off x="785880" y="5786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不放弃每一个学生，给每一个学生足够的改正错误的机会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785880" y="4429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严抓班级管理，创造良好的学习环境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TextBox 5"/>
          <p:cNvSpPr/>
          <p:nvPr/>
        </p:nvSpPr>
        <p:spPr>
          <a:xfrm>
            <a:off x="785880" y="32148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关注学生的心里、行为变化，做好疏导工作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785880" y="2286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分析学生在学习上的困难，并给予学法指导，帮助制定学习计划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TextBox 7"/>
          <p:cNvSpPr/>
          <p:nvPr/>
        </p:nvSpPr>
        <p:spPr>
          <a:xfrm>
            <a:off x="785880" y="171468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帮助每一位同学树立自信、确立高考目标、养成习惯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TextBox 8"/>
          <p:cNvSpPr/>
          <p:nvPr/>
        </p:nvSpPr>
        <p:spPr>
          <a:xfrm>
            <a:off x="785880" y="107172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分层开会，备考学业水平考试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TextBox 9"/>
          <p:cNvSpPr/>
          <p:nvPr/>
        </p:nvSpPr>
        <p:spPr>
          <a:xfrm>
            <a:off x="785880" y="378612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了解学生在学习上、生活中的困难，给予帮助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TextBox 10"/>
          <p:cNvSpPr/>
          <p:nvPr/>
        </p:nvSpPr>
        <p:spPr>
          <a:xfrm>
            <a:off x="785880" y="51436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分数固然重要，升学率要抓，但“成人率”我们更要抓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1"/>
          <p:cNvSpPr/>
          <p:nvPr/>
        </p:nvSpPr>
        <p:spPr>
          <a:xfrm>
            <a:off x="500040" y="28584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家长！您是我的坚强后盾，我的严格管理需要您的支持！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TextBox 2"/>
          <p:cNvSpPr/>
          <p:nvPr/>
        </p:nvSpPr>
        <p:spPr>
          <a:xfrm>
            <a:off x="571680" y="16794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场景：在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D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班主任办公室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A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同学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同学因旷课在操场打篮球被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C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领导带回交给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D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班主任。经过一席话的教育，发现两位同学并没有意识到这种行为是多么大的错误，不太在乎。于是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D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班主任打电话给两位学生家长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A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同学家长说：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老师，我家小孩我已经管不到了，你吃点亏，没办法。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”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同学家长来了以后先与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同学在外面交谈了一会，进来后，说好话的还是家长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同学的表现依然没有太大的变化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571680" y="458640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思考：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家长用心都管不了的学生老师能管教得好吗？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家长说好话还是让孩子认识到错误？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285840" y="428760"/>
            <a:ext cx="63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需要请家长配合的事情</a:t>
            </a:r>
            <a:r>
              <a:rPr b="1" lang="en-US" sz="3200" spc="-1" strike="noStrike">
                <a:solidFill>
                  <a:srgbClr val="ffcc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609480" y="1484280"/>
            <a:ext cx="882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．协助学校落实学生行为规范：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（头发、首饰、奇装异服、手机、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P4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等）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2845080" y="5181480"/>
            <a:ext cx="5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．多关注孩子周末的生活和学习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642960" y="43243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．加强家校联系，多沟通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TextBox 9"/>
          <p:cNvSpPr/>
          <p:nvPr/>
        </p:nvSpPr>
        <p:spPr>
          <a:xfrm>
            <a:off x="642960" y="35384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．以身作则，在家庭中培养良好学习氛围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TextBox 10"/>
          <p:cNvSpPr/>
          <p:nvPr/>
        </p:nvSpPr>
        <p:spPr>
          <a:xfrm>
            <a:off x="642960" y="28576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．切实解决学生心理问题， 树立信心，轻装上阵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0:59:1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33:23Z</dcterms:modified>
  <cp:revision>10</cp:revision>
  <dc:subject>主题班会课件(分28大类): http://shop62905894.taobao.com</dc:subject>
  <dc:title>主题班会课件(分28大类): http://shop62905894.taobao.com</dc:title>
</cp:coreProperties>
</file>