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AD3-A92F-45CD-9932-9CC3ADE0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178-D0CC-4704-82A0-587787B5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37A-60AF-47CF-8208-CAD7F943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380-DFB2-4AFD-B7FD-82D2B800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B5E6-708F-4393-8E4B-E597B08F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7A08-3388-4901-8189-E6021B5E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010B-DEC7-4FC4-A82F-1825925D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C62F-AFF9-4CEC-BA2B-792F4C88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430F-1C41-4A94-A722-0DE1D8FA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EBC2-C5B7-4AB2-955F-BCCC92D4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BA5E-F1B9-443E-A3E3-9ADDA311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8E1-1748-4AD2-B170-044C0A93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7C35-42A3-4A13-8672-63C3CCEE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6FFC-0493-4CE5-84AB-506A6379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5BE5-04B7-40F1-A5AD-A401A719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4594-E20F-48A1-A0C7-F894A3B7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B381-26C0-4742-B795-85359C1B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2BDF3-BB1A-46EC-8677-7D6966E3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71D6-DBC7-4F2B-B649-157F0FAA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507A-5FFA-4589-B13C-CCDF3FB9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B740-3F8C-4B18-B378-8A46E154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D3FC-ED0C-4E92-9E8C-E06D939B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B76-33BE-4BC8-8DA6-D574CB5D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BB1D-1631-4AD1-ADFD-07086C1A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3CED8-D555-4900-BA3E-CBD188CB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2F8D-6FCA-4FBE-BF13-46EC3908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C2EC-2452-47F3-9255-C4CF30C4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EFB1-C75E-415D-B13B-FC287A27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1344-46CF-4F5F-A9F5-6A09CF20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491F6-C19E-4DBB-A38A-2A24215D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3DE-A20F-4641-BD5C-26D41BF6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ED253-EC8F-45D0-85EF-01AAA932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BE4-1B06-4335-AD11-001E616A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641AD-D968-45A1-BD66-B4F4E3B9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8E304-5754-4631-9559-9C9F59E8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51720-66DE-4755-9DB8-0DD75EA3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893E-ABBA-4424-81DE-6C37039B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3C72B-850E-4DBD-8385-3582164B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B9C7F-4796-4CAB-B503-D9913CDB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8C97-5F38-4E7B-9658-A31E9B26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32AB-4994-41EF-A881-134EE0A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CEF4B-53E5-4225-A24A-1F86F175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A0AEA-6468-4511-A154-464A69D3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61E-99F2-483C-970C-A475DF1F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B60A0-66C5-438B-95CE-B5B767F1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658C7-5462-4025-8D47-697253A8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CA9EA-B91D-4904-BF55-8110FB02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91896-3CAA-486E-8B2D-7816DA0F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AFBFB-D806-4FE7-878C-23534363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464DF-D4FC-4B65-B5F9-7A369E1C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B7C0C-8F3E-4724-88CB-A563E6DC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89FE-6F06-4B48-858A-848201E0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AC66-2DEA-4D53-8530-E2F54B1A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706EF-E550-4613-8F5D-7715E212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7A4-D20F-42DC-855F-B319EF2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39687-1481-4D2C-8A07-2533D3F5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09F67-5166-499C-A52C-046A1016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520CD-4DBE-4509-A423-56F294B1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DC25B-EA85-42B0-B47D-124B2CAB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FEBCB-B01D-4680-9734-4724E17E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76304-FC42-48B6-AA7B-71647010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72A3C-524D-40BD-AA9D-74C58EE7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D8484-ABBB-4B78-9DF9-051508A0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14B9B-C235-4986-B8C7-D2B8BA46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5394A-71D8-4310-81D0-7E9E3A5F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AF6-7913-4419-9645-D85A2C53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7A8B4-28DA-403C-A930-AD1CC61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C1D74-FA2B-477D-92A9-F454D7DE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7CFC-7685-4824-84AB-3019192B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8C335-8D6F-4090-A16A-2DB08D80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13CE2-FF26-4343-BFC3-CBFE9023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92849-4ABD-45DA-B6CC-7042BA1D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670BE-547D-4AE5-89A8-3E95A4A6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9D2B8-3F1E-4D6D-A6B4-97A87107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A8750-4B84-4EB8-B8AE-B0CD57D9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69FFF-EB0A-41DF-8446-8D432319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BC5-82E0-470E-BCD9-B969CF7B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7CF82-4BC3-4B55-9F43-8EFB8AD0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342C1-B7D9-4AC3-8712-57A349A4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691B4-AAB0-4E01-918E-0E8780DF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A8C64-95F7-4D85-8805-A4A7B0C0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B1D89-6075-453F-8932-DC54C6AE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315D0-3297-42EB-ADB1-B201AA21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E0689-4E42-464C-A8F7-DA17C380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51A2-D8E4-4D28-89C7-209A76842D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291E-F406-43DF-B3BF-263CB4456E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50000">
              <a:srgbClr val="0000a4"/>
            </a:gs>
            <a:gs pos="100000">
              <a:srgbClr val="00004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313920"/>
            <a:ext cx="380880" cy="6543720"/>
            <a:chOff x="0" y="313920"/>
            <a:chExt cx="380880" cy="6543720"/>
          </a:xfrm>
        </p:grpSpPr>
        <p:sp>
          <p:nvSpPr>
            <p:cNvPr id="83" name=""/>
            <p:cNvSpPr/>
            <p:nvPr/>
          </p:nvSpPr>
          <p:spPr>
            <a:xfrm flipH="1" rot="5400000">
              <a:off x="-256680" y="339876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5400000">
              <a:off x="-256680" y="43416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rot="5400000">
              <a:off x="-257400" y="52830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5400000">
              <a:off x="-252720" y="6224400"/>
              <a:ext cx="885960" cy="380160"/>
            </a:xfrm>
            <a:prstGeom prst="parallelogram">
              <a:avLst>
                <a:gd name="adj" fmla="val 123408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5400000">
              <a:off x="-256680" y="5713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5400000">
              <a:off x="-257400" y="150804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5400000">
              <a:off x="-257400" y="24541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0" y="0"/>
            <a:ext cx="8825040" cy="228600"/>
          </a:xfrm>
          <a:custGeom>
            <a:avLst/>
            <a:gdLst>
              <a:gd name="textAreaLeft" fmla="*/ 360 w 8825040"/>
              <a:gd name="textAreaRight" fmla="*/ 8825760 w 88250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9320" y="2128680"/>
            <a:ext cx="1908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39080" y="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00" y="1955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sp>
          <p:nvSpPr>
            <p:cNvPr id="97" name=""/>
            <p:cNvSpPr/>
            <p:nvPr/>
          </p:nvSpPr>
          <p:spPr>
            <a:xfrm rot="16200000">
              <a:off x="-256320" y="38707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-257040" y="481428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-257400" y="575640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-257040" y="103932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-257400" y="198144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00000">
              <a:off x="-257400" y="29275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00" y="0"/>
              <a:ext cx="37872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6445080"/>
              <a:ext cx="3254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282680" y="2197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1369800" y="6464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8"/>
          </p:nvPr>
        </p:nvSpPr>
        <p:spPr>
          <a:xfrm>
            <a:off x="3808080" y="64641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9"/>
          </p:nvPr>
        </p:nvSpPr>
        <p:spPr>
          <a:xfrm>
            <a:off x="7237440" y="6464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8AE9-3034-4FEC-AD00-B555C04C8C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50000">
              <a:srgbClr val="0000a4"/>
            </a:gs>
            <a:gs pos="100000">
              <a:srgbClr val="00004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313920"/>
            <a:ext cx="380880" cy="6543720"/>
            <a:chOff x="0" y="313920"/>
            <a:chExt cx="380880" cy="6543720"/>
          </a:xfrm>
        </p:grpSpPr>
        <p:sp>
          <p:nvSpPr>
            <p:cNvPr id="147" name=""/>
            <p:cNvSpPr/>
            <p:nvPr/>
          </p:nvSpPr>
          <p:spPr>
            <a:xfrm flipH="1" rot="5400000">
              <a:off x="-256680" y="339876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5400000">
              <a:off x="-256680" y="43416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rot="5400000">
              <a:off x="-257400" y="52830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5400000">
              <a:off x="-252720" y="6224400"/>
              <a:ext cx="885960" cy="380160"/>
            </a:xfrm>
            <a:prstGeom prst="parallelogram">
              <a:avLst>
                <a:gd name="adj" fmla="val 123408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5400000">
              <a:off x="-256680" y="5713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5400000">
              <a:off x="-257400" y="150804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rot="5400000">
              <a:off x="-257400" y="24541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0" y="0"/>
            <a:ext cx="8825040" cy="228600"/>
          </a:xfrm>
          <a:custGeom>
            <a:avLst/>
            <a:gdLst>
              <a:gd name="textAreaLeft" fmla="*/ 360 w 8825040"/>
              <a:gd name="textAreaRight" fmla="*/ 8825760 w 88250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9320" y="2128680"/>
            <a:ext cx="1908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39080" y="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00" y="1955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sp>
          <p:nvSpPr>
            <p:cNvPr id="161" name=""/>
            <p:cNvSpPr/>
            <p:nvPr/>
          </p:nvSpPr>
          <p:spPr>
            <a:xfrm rot="16200000">
              <a:off x="-256320" y="38707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-257040" y="481428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-257400" y="575640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-257040" y="103932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-257400" y="198144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-257400" y="29275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00" y="0"/>
              <a:ext cx="37872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6445080"/>
              <a:ext cx="3254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8897-CAF6-4C72-AC93-5E20D91FF6B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4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4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4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4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6052-22B7-47C2-B15A-BE480161D59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9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0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1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8A10-64BD-4AE6-89C8-C070AFBF43E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EFEE-B51B-4E3C-905C-B87C5F9D045C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64176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97480" y="3124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554688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衷心感谢各位家长抽空参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高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班 家长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09680" y="30492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孩子的成长</a:t>
            </a:r>
            <a:endParaRPr b="0" lang="en-US" sz="32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219320" y="1523880"/>
            <a:ext cx="6476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需要家长与老师共同努力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3124080" cy="57150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533520" y="2895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0"/>
            <a:ext cx="4897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    长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袁玉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团  支书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林晓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副  班长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叶    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劳动委员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黄   冰、谢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习委员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赵伯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宣传委员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黄雅妮、文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生活委员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黄   冰、谢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体育委员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李嘉豪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艺委员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卓柽柳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2040" y="152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班干部名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3657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学习成绩优秀的同学有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806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林晓光（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645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）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马    驰（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608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叶    平（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605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黄雅妮（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605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黄    冰（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60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钟美玲（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600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王子豪（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599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林晓飞（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597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邓嘉慧（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595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王优民（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590</a:t>
            </a:r>
            <a:r>
              <a:rPr b="1" lang="zh-CN" sz="31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）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511812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成绩进步的同学有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黄佩贤、林文杰、谢建辉、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卓柽柳、裘智、曾美玲、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严惠满、李宝宜、何剑群、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张雄盛、彭赛琼、罗鸿安、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黄展聪、张谨、蔡惠敏、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朱惠茜、严立君、邓秀莲、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林子军、杨伦、郭文珊、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袁玉彬、吴一凡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49568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4114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01706"/>
                </a:solidFill>
                <a:latin typeface="Arial"/>
              </a:rPr>
              <a:t>2008</a:t>
            </a:r>
            <a:r>
              <a:rPr b="0" lang="zh-CN" sz="4000" spc="-1" strike="noStrike">
                <a:solidFill>
                  <a:srgbClr val="f01706"/>
                </a:solidFill>
                <a:latin typeface="Arial"/>
              </a:rPr>
              <a:t>年湖南高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01706"/>
                </a:solidFill>
                <a:latin typeface="Arial"/>
              </a:rPr>
              <a:t>理科录取分数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01706"/>
                </a:solidFill>
                <a:latin typeface="Arial"/>
              </a:rPr>
              <a:t>重点：</a:t>
            </a:r>
            <a:r>
              <a:rPr b="0" lang="zh-CN" sz="4000" spc="-1" strike="noStrike">
                <a:solidFill>
                  <a:srgbClr val="f01706"/>
                </a:solidFill>
                <a:latin typeface="Arial"/>
              </a:rPr>
              <a:t>5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01706"/>
                </a:solidFill>
                <a:latin typeface="Arial"/>
              </a:rPr>
              <a:t>本 </a:t>
            </a:r>
            <a:r>
              <a:rPr b="0" lang="zh-CN" sz="4000" spc="-1" strike="noStrike">
                <a:solidFill>
                  <a:srgbClr val="f01706"/>
                </a:solidFill>
                <a:latin typeface="Arial"/>
              </a:rPr>
              <a:t>A:   5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01706"/>
                </a:solidFill>
                <a:latin typeface="Arial"/>
              </a:rPr>
              <a:t>本 </a:t>
            </a:r>
            <a:r>
              <a:rPr b="0" lang="zh-CN" sz="4000" spc="-1" strike="noStrike">
                <a:solidFill>
                  <a:srgbClr val="f01706"/>
                </a:solidFill>
                <a:latin typeface="Arial"/>
              </a:rPr>
              <a:t>B:   4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01706"/>
                </a:solidFill>
                <a:latin typeface="Arial"/>
              </a:rPr>
              <a:t>专 </a:t>
            </a:r>
            <a:r>
              <a:rPr b="0" lang="zh-CN" sz="4000" spc="-1" strike="noStrike">
                <a:solidFill>
                  <a:srgbClr val="f01706"/>
                </a:solidFill>
                <a:latin typeface="Arial"/>
              </a:rPr>
              <a:t>A:   4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50000">
              <a:srgbClr val="0000a4"/>
            </a:gs>
            <a:gs pos="100000">
              <a:srgbClr val="00004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914400" y="152280"/>
            <a:ext cx="755964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启体简体"/>
              </a:rPr>
              <a:t>学生现状之忧虑点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启体简体"/>
              <a:ea typeface="方正启体简体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7e7ff"/>
                </a:solidFill>
                <a:latin typeface="方正硬笔楷书简体"/>
                <a:ea typeface="方正硬笔楷书简体"/>
              </a:rPr>
              <a:t>1</a:t>
            </a:r>
            <a:r>
              <a:rPr b="1" lang="zh-CN" sz="3200" spc="-1" strike="noStrike">
                <a:solidFill>
                  <a:srgbClr val="b7e7ff"/>
                </a:solidFill>
                <a:latin typeface="方正硬笔楷书简体"/>
                <a:ea typeface="方正硬笔楷书简体"/>
              </a:rPr>
              <a:t>、有些同学压力过大，心态调整不好，影响了考试成绩，甚至是平时的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7e7ff"/>
                </a:solidFill>
                <a:latin typeface="方正硬笔楷书简体"/>
                <a:ea typeface="方正硬笔楷书简体"/>
              </a:rPr>
              <a:t>2</a:t>
            </a:r>
            <a:r>
              <a:rPr b="1" lang="zh-CN" sz="3200" spc="-1" strike="noStrike">
                <a:solidFill>
                  <a:srgbClr val="b7e7ff"/>
                </a:solidFill>
                <a:latin typeface="方正硬笔楷书简体"/>
                <a:ea typeface="方正硬笔楷书简体"/>
              </a:rPr>
              <a:t>、有些同学存在瘸腿科目、答题不够仔细和规范，影响整体成绩的提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7e7ff"/>
                </a:solidFill>
                <a:latin typeface="方正硬笔楷书简体"/>
                <a:ea typeface="方正硬笔楷书简体"/>
              </a:rPr>
              <a:t>3</a:t>
            </a:r>
            <a:r>
              <a:rPr b="1" lang="zh-CN" sz="3200" spc="-1" strike="noStrike">
                <a:solidFill>
                  <a:srgbClr val="b7e7ff"/>
                </a:solidFill>
                <a:latin typeface="方正硬笔楷书简体"/>
                <a:ea typeface="方正硬笔楷书简体"/>
              </a:rPr>
              <a:t>、部分学生由于处于生理危险期而焦躁不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7e7ff"/>
                </a:solidFill>
                <a:latin typeface="方正硬笔楷书简体"/>
                <a:ea typeface="方正硬笔楷书简体"/>
              </a:rPr>
              <a:t>4</a:t>
            </a:r>
            <a:r>
              <a:rPr b="1" lang="zh-CN" sz="3200" spc="-1" strike="noStrike">
                <a:solidFill>
                  <a:srgbClr val="b7e7ff"/>
                </a:solidFill>
                <a:latin typeface="方正硬笔楷书简体"/>
                <a:ea typeface="方正硬笔楷书简体"/>
              </a:rPr>
              <a:t>、学习态度好，但效率不高，不会合理利用时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7e7ff"/>
                </a:solidFill>
                <a:latin typeface="方正硬笔楷书简体"/>
                <a:ea typeface="方正硬笔楷书简体"/>
              </a:rPr>
              <a:t>5</a:t>
            </a:r>
            <a:r>
              <a:rPr b="1" lang="zh-CN" sz="3200" spc="-1" strike="noStrike">
                <a:solidFill>
                  <a:srgbClr val="b7e7ff"/>
                </a:solidFill>
                <a:latin typeface="方正硬笔楷书简体"/>
                <a:ea typeface="方正硬笔楷书简体"/>
              </a:rPr>
              <a:t>、成绩相比较稍后的学生自信心不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7e7ff"/>
                </a:solidFill>
                <a:latin typeface="方正硬笔楷书简体"/>
                <a:ea typeface="方正硬笔楷书简体"/>
              </a:rPr>
              <a:t>6</a:t>
            </a:r>
            <a:r>
              <a:rPr b="1" lang="zh-CN" sz="3200" spc="-1" strike="noStrike">
                <a:solidFill>
                  <a:srgbClr val="b7e7ff"/>
                </a:solidFill>
                <a:latin typeface="方正硬笔楷书简体"/>
                <a:ea typeface="方正硬笔楷书简体"/>
              </a:rPr>
              <a:t>、个别学生缺乏学习动力，学习习惯懒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50000">
              <a:srgbClr val="0000a4"/>
            </a:gs>
            <a:gs pos="100000">
              <a:srgbClr val="00004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55368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1219320" y="53352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汉仪圆叠体简"/>
              </a:rPr>
              <a:t>给家长的几点建议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汉仪圆叠体简"/>
              <a:ea typeface="汉仪圆叠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1000" fill="hold"/>
                                        <p:tgtEl>
                                          <p:spTgt spid="48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50000">
              <a:srgbClr val="0000a4"/>
            </a:gs>
            <a:gs pos="100000">
              <a:srgbClr val="00004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75960"/>
            <a:ext cx="8540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Arial"/>
                <a:ea typeface="方正舒体"/>
              </a:rPr>
              <a:t>请家长配合教育的工作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校方工作要： 理解   信任    配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稳定学生情绪，制造充满关怀的家庭氛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工作再忙也要抽点时间来多了解孩子在校的表现，多与学校联系。多关心孩子在学校遇到的困难和学习成绩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引导他们度过生理危险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不要给孩子太大的心理压力，根据学生自身情况提出切实可行的目标，要多鼓励，多赞赏，让他们发现自己的价值，才能激发孩子的潜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给孩子找好出路的不要过早告诉孩子，让他坚持下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0880" y="685800"/>
            <a:ext cx="838224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感谢您的指导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孩子的进步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是我们共同的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心愿！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10000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3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" dur="3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50000">
              <a:srgbClr val="0000a4"/>
            </a:gs>
            <a:gs pos="100000">
              <a:srgbClr val="00004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2666880" y="1600200"/>
            <a:ext cx="44960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4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50000">
              <a:srgbClr val="0000a4"/>
            </a:gs>
            <a:gs pos="100000">
              <a:srgbClr val="00004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533520" y="2819520"/>
            <a:ext cx="8208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硬笔行书简体"/>
              </a:rPr>
              <a:t>2010</a:t>
            </a:r>
            <a:r>
              <a:rPr b="1" lang="zh-CN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硬笔行书简体"/>
              </a:rPr>
              <a:t>年</a:t>
            </a: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硬笔行书简体"/>
              </a:rPr>
              <a:t>6</a:t>
            </a:r>
            <a:r>
              <a:rPr b="1" lang="zh-CN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硬笔行书简体"/>
              </a:rPr>
              <a:t>月</a:t>
            </a: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硬笔行书简体"/>
              </a:rPr>
              <a:t>7</a:t>
            </a:r>
            <a:r>
              <a:rPr b="1" lang="zh-CN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硬笔行书简体"/>
              </a:rPr>
              <a:t>、</a:t>
            </a: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硬笔行书简体"/>
              </a:rPr>
              <a:t>8</a:t>
            </a:r>
            <a:r>
              <a:rPr b="1" lang="zh-CN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硬笔行书简体"/>
              </a:rPr>
              <a:t>、９日三天，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硬笔行书简体"/>
              <a:ea typeface="方正硬笔行书简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硬笔行书简体"/>
              </a:rPr>
              <a:t>是金色的日子，是成功的开始！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硬笔行书简体"/>
              <a:ea typeface="方正硬笔行书简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0880" y="228600"/>
            <a:ext cx="597708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启体简体"/>
              </a:rPr>
              <a:t>让我们共同努力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启体简体"/>
              <a:ea typeface="方正启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1706"/>
                </a:solidFill>
                <a:latin typeface="Times New Roman"/>
                <a:ea typeface="华文行楷"/>
              </a:rPr>
              <a:t>如果没有整个社会首先</a:t>
            </a:r>
            <a:br>
              <a:rPr sz="3600"/>
            </a:br>
            <a:r>
              <a:rPr b="1" lang="zh-CN" sz="3600" spc="-1" strike="noStrike">
                <a:solidFill>
                  <a:srgbClr val="f01706"/>
                </a:solidFill>
                <a:latin typeface="Times New Roman"/>
                <a:ea typeface="华文行楷"/>
              </a:rPr>
              <a:t>是家庭的高度教育素养，那么不管老师付出多大的努力，都收不到完美的效果，学校里的一切问题都会在家庭里折射出来，而学校复杂的教育过程产生困难的根源也都可以追溯到家庭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9343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514600" y="4343400"/>
            <a:ext cx="48355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常过来看看！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4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62720" y="304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01706"/>
                </a:solidFill>
                <a:latin typeface="华文行楷"/>
                <a:ea typeface="华文行楷"/>
              </a:rPr>
              <a:t>名校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486400" y="1219320"/>
            <a:ext cx="3657600" cy="56386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609480" y="380880"/>
            <a:ext cx="8305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华文行楷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北京大学</a:t>
            </a:r>
            <a:r>
              <a:rPr b="1" lang="zh-CN" sz="4000" spc="-1" strike="noStrike">
                <a:solidFill>
                  <a:srgbClr val="f01706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综合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华文行楷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华大学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理工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华文行楷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旦大学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综合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华文行楷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浙江大学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综合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华文行楷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京大学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综合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上海交通大学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综合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吉林大学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综合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8.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武汉大学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综合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9.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国人民大学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综合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.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四川大学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综合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648320" y="127080"/>
            <a:ext cx="4495680" cy="75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11. 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华中科技大学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理工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12.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中山大学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综合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13.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南开大学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综合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14.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北京师范大学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师范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15.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中国科技大学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理工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16.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西安交通大学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综合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17.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中南大学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综合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18.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哈尔滨理工大学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理工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19.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山东大学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综合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20.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厦门大学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综合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湖南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0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高考模式简介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838080"/>
            <a:ext cx="82296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、考试科目设置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语文、数学、英语   （每科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150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分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物理、化学、生物   （每科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100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分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2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、学业水平考试设置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政治、历史、地理     （分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A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、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B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、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C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、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D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等次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、综合素质评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总学分、学校评价，竞赛获奖情况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、录取形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       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高考成绩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+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学业水平等级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+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综合素质评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5</a:t>
            </a:r>
            <a:r>
              <a:rPr b="1" lang="zh-CN" sz="2500" spc="-1" strike="noStrike">
                <a:solidFill>
                  <a:srgbClr val="0c0100"/>
                </a:solidFill>
                <a:latin typeface="Arial"/>
              </a:rPr>
              <a:t>、志愿填报       知分后填，平行与层次相结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38080" y="533520"/>
            <a:ext cx="701064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班级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01706"/>
                </a:solidFill>
                <a:latin typeface="Arial"/>
                <a:ea typeface="隶书"/>
              </a:rPr>
              <a:t>奋力拼搏   冲击名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3048120"/>
            <a:ext cx="754380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教师宗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01706"/>
                </a:solidFill>
                <a:latin typeface="Arial"/>
                <a:ea typeface="隶书"/>
              </a:rPr>
              <a:t>严而有爱   精雕细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21932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0920" y="20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科任教师情况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280" y="1268280"/>
            <a:ext cx="792504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语文：   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易老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电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01706"/>
                </a:solidFill>
                <a:latin typeface="Times New Roman"/>
                <a:ea typeface="华文新魏"/>
              </a:rPr>
              <a:t>省骨干教师，多年高三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马老师   电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1706"/>
                </a:solidFill>
                <a:latin typeface="华文新魏"/>
                <a:ea typeface="华文新魏"/>
              </a:rPr>
              <a:t>高级教师，市核心备课组成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英语：   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郭老师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电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01706"/>
                </a:solidFill>
                <a:latin typeface="Times New Roman"/>
                <a:ea typeface="华文新魏"/>
              </a:rPr>
              <a:t>骨干教师，多次获奖，多年高三经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28600" y="762120"/>
            <a:ext cx="89154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理：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赵老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电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1706"/>
                </a:solidFill>
                <a:latin typeface="Arial"/>
                <a:ea typeface="华文新魏"/>
              </a:rPr>
              <a:t>学科带头人，硕士研究生，多年高三经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化学：</a:t>
            </a:r>
            <a:r>
              <a:rPr b="1" lang="zh-CN" sz="3600" spc="-1" strike="noStrike">
                <a:solidFill>
                  <a:srgbClr val="f01706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张老师</a:t>
            </a:r>
            <a:r>
              <a:rPr b="1" lang="zh-CN" sz="3600" spc="-1" strike="noStrike">
                <a:solidFill>
                  <a:srgbClr val="f01706"/>
                </a:solidFill>
                <a:latin typeface="Arial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0c0100"/>
                </a:solidFill>
                <a:latin typeface="Arial"/>
                <a:ea typeface="华文新魏"/>
              </a:rPr>
              <a:t>电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1706"/>
                </a:solidFill>
                <a:latin typeface="Arial"/>
                <a:ea typeface="华文新魏"/>
              </a:rPr>
              <a:t>高级教师，市首席教师，多年高三经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物：</a:t>
            </a:r>
            <a:r>
              <a:rPr b="1" lang="zh-CN" sz="3600" spc="-1" strike="noStrike">
                <a:solidFill>
                  <a:srgbClr val="f01706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陈老师</a:t>
            </a:r>
            <a:r>
              <a:rPr b="1" lang="zh-CN" sz="3600" spc="-1" strike="noStrike">
                <a:solidFill>
                  <a:srgbClr val="f01706"/>
                </a:solidFill>
                <a:latin typeface="Arial"/>
                <a:ea typeface="华文新魏"/>
              </a:rPr>
              <a:t>           电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1706"/>
                </a:solidFill>
                <a:latin typeface="Arial"/>
                <a:ea typeface="华文新魏"/>
              </a:rPr>
              <a:t>高级教师，学科骨干，多年高三经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1706"/>
                </a:solidFill>
                <a:latin typeface="黑体"/>
                <a:ea typeface="黑体"/>
              </a:rPr>
              <a:t>班级基本情况介绍</a:t>
            </a:r>
            <a:r>
              <a:rPr b="1" lang="zh-CN" sz="2400" spc="-1" strike="noStrike">
                <a:solidFill>
                  <a:srgbClr val="f01706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762120"/>
            <a:ext cx="8534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高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班共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学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6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，其中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3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人，女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按高一两个学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期末考试平均成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结合个人文、理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愿取理科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6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组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572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07:35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37:47Z</dcterms:modified>
  <cp:revision>112</cp:revision>
  <dc:subject>主题班会课件(分28大类): http://shop62905894.taobao.com</dc:subject>
  <dc:title>主题班会课件(分28大类): http://shop62905894.taobao.com</dc:title>
</cp:coreProperties>
</file>