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821-D0FD-4486-A08C-7E7457FF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27B-22B4-49C3-8B3F-D2FFDC96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419-E30C-4C6C-A66A-C3133AB7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361-DB9E-4434-B1FC-7D715FE0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77A-C5AE-4F44-84ED-5C6393C8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1E9-AC1A-4395-BE9A-FF0FC298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C5B-629D-4E5E-90B1-D0F3B4F2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75E-E0DD-4473-A741-318FD17B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147-1635-4E7F-B7F4-61694DD7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948-6F97-42EF-AC6C-08D787EC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8C5-C356-43BE-8446-50158680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904-84EC-417C-A1DA-D365545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4AF4-B647-43EF-AC39-5291FB861C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9625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学生家长们莅临指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523880"/>
            <a:ext cx="6934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99ff"/>
                </a:solidFill>
                <a:latin typeface="Arial"/>
              </a:rPr>
              <a:t>热  烈  欢  迎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22:18Z</dcterms:modified>
  <cp:revision>1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