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3.gif" ContentType="image/gif"/>
  <Override PartName="/ppt/media/image14.wmf" ContentType="image/x-wmf"/>
  <Override PartName="/ppt/media/image7.jpeg" ContentType="image/jpeg"/>
  <Override PartName="/ppt/media/image18.png" ContentType="image/png"/>
  <Override PartName="/ppt/media/image21.jpeg" ContentType="image/jpeg"/>
  <Override PartName="/ppt/media/image20.jpeg" ContentType="image/jpeg"/>
  <Override PartName="/ppt/media/image19.gif" ContentType="image/gif"/>
  <Override PartName="/ppt/media/image17.png" ContentType="image/png"/>
  <Override PartName="/ppt/media/image16.gif" ContentType="image/gif"/>
  <Override PartName="/ppt/media/image1.wmf" ContentType="image/x-wmf"/>
  <Override PartName="/ppt/media/image9.jpeg" ContentType="image/jpeg"/>
  <Override PartName="/ppt/media/image12.wmf" ContentType="image/x-wmf"/>
  <Override PartName="/ppt/media/chimes.wav" ContentType="audio/x-wav"/>
  <Override PartName="/ppt/media/drumroll.wav" ContentType="audio/x-wav"/>
  <Override PartName="/ppt/media/image15.png" ContentType="image/png"/>
  <Override PartName="/ppt/media/image13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4E6-29E4-4478-9C0E-1BB6D1B5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FB5-AA55-40D3-83A2-C7F18D11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843-71FF-4ABC-852F-F3B7890D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940-7488-4933-BBF2-8735414D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FFE-00E4-430F-91C3-C1A9D38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DD6-96F5-41F6-81E4-6421DEF1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18B-247A-4C83-9E4D-ABA0B64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B34-8261-45A4-A3D1-E478902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C6D-54D0-4DF4-B740-0C3CD4E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23D-CAD3-4D19-A62A-4C6AAE40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213-170D-4499-8706-1E81A90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D64-0F04-45F6-A0BC-0269035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93C-743C-4E3A-9DD3-8A92A70DF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4122d"/>
                </a:solidFill>
                <a:latin typeface="Arial"/>
              </a:rPr>
              <a:t>Welco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924280"/>
            <a:ext cx="860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幼圆"/>
              </a:rPr>
              <a:t>热烈欢迎家长的到来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03480" y="2155680"/>
            <a:ext cx="65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838080"/>
            <a:ext cx="7925040" cy="30492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存在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偏科严重，主要是英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343400"/>
            <a:ext cx="9144000" cy="2311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因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学习态度（重视、勤奋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学习方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英语基础以及与老师的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17236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本学期学生情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13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6360" y="1978200"/>
            <a:ext cx="8459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１、大部分学生基本进入初三状态，学习自觉性、主动性增强。（表现在预习、复习、作业、读书以及宿舍的自觉管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3352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２、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黑体"/>
              </a:rPr>
              <a:t>有些学生学习目的性不明确，导致学习无动力，主动性欠缺，没有充分挖掘自己的潜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240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背书要反复强调．作业虽然能够按时上交，但完成作业的质量不高，有些甚至以抄答案来应付交任务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目前已开始进入复习，学生的自觉性和主动性尤为重要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1911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不按要求做练习、作业，没能合理安排时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是中午和周六、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基础训练不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停留在听懂就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不再深刻思考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3880"/>
            <a:ext cx="79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３、有些学生的学习方法有待进一步的指导和提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0020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有部分同学课前不去预习，课后又不去复习和总结．听课显得有些被动，造成学习效率不够高．有些同学很为苦读，却缺乏巧读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2720" y="1413000"/>
            <a:ext cx="9369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、大部分同学心理素质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有待家长和老师的重点关注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765840" y="4365720"/>
            <a:ext cx="27021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68421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学校教育必须要有家庭教育的配合，家庭教育既是学校教育的基础，又是学校教育的延续与升华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53280" y="151920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828036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外留宿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回家很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带同学回家住宿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打电话时间长，次数多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受伤回家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消费，上网吧、酒吧、游戏厅、舞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出友谊的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成绩突然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穿奇装异服，爱好打扮，沉默寡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老是玩电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3333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问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249228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尽量表扬孩子，孩子具有一定的自信心，才会肯去学习要使孩子每天都感觉到他在学习上取得了一定进步，哪怕是改正一个缺点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5813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多关心孩子的学习内容和实际进步程度，家长要多询问孩子最近学习了什么掌握得如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创造和睦、祥和、稳定的家庭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4520" y="404640"/>
            <a:ext cx="42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平时应注意的问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尽量不要在孩子面前议论老师，尤其不要在孩子面前贬低老师。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订下家庭学习规矩，并且自始至终执行，以形成良好的学习习惯，作息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685800"/>
            <a:ext cx="8458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家长们事业一帆风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孩子们学业有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衷心祝愿您的孩子在岔南中学健康幸福的成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67184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838440" cy="207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首先感谢您在百忙之中抽空来参加家长会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1d0deb"/>
                </a:solidFill>
                <a:latin typeface="Times New Roman"/>
              </a:rPr>
              <a:t>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4640"/>
            <a:ext cx="597672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41a34"/>
                </a:solidFill>
                <a:latin typeface="Times New Roman"/>
              </a:rPr>
              <a:t>尊敬的各位家长</a:t>
            </a:r>
            <a:r>
              <a:rPr b="1" lang="zh-CN" sz="5400" spc="-1" strike="noStrike">
                <a:solidFill>
                  <a:srgbClr val="009999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5029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111640" cy="143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765000"/>
            <a:ext cx="8388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各位家长和任课老师自由交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553080" y="3716280"/>
            <a:ext cx="3200400" cy="3141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71800" y="1295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取得的成绩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666880"/>
            <a:ext cx="3504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286000"/>
            <a:ext cx="4114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月考期中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征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运动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常规评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60680" y="1241280"/>
            <a:ext cx="557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197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彩云"/>
              </a:rPr>
              <a:t>谢谢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各位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家长   合作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6016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在家庭教育中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,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请各位家长在</a:t>
            </a:r>
            <a:br>
              <a:rPr sz="4000"/>
            </a:b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以下几方面与我们形成共识</a:t>
            </a:r>
            <a:r>
              <a:rPr b="1" i="1" lang="zh-CN" sz="4000" spc="-1" strike="noStrike">
                <a:solidFill>
                  <a:srgbClr val="f4122d"/>
                </a:solidFill>
                <a:latin typeface="Arial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掌握孩子的特点，有的放矢地进行教育。</a:t>
            </a:r>
            <a:r>
              <a:rPr b="1" lang="zh-CN" sz="2400" spc="-1" strike="noStrike">
                <a:solidFill>
                  <a:srgbClr val="1d0d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00280"/>
            <a:ext cx="71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要全面而准确地估计自己孩子的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210280"/>
            <a:ext cx="763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4800" spc="-1" strike="noStrike">
                <a:solidFill>
                  <a:srgbClr val="1d0deb"/>
                </a:solidFill>
                <a:latin typeface="Times New Roman"/>
              </a:rPr>
              <a:t>要正确看待孩子的分数。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6922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多给孩子一点信心，做孩     子成长的强有力的后盾。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590920"/>
            <a:ext cx="67053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教育学生遵守纪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538440"/>
            <a:ext cx="691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4400" spc="-1" strike="noStrike">
                <a:solidFill>
                  <a:srgbClr val="1d0deb"/>
                </a:solidFill>
                <a:latin typeface="Times New Roman"/>
              </a:rPr>
              <a:t>要创设一种良好的家庭育    人环境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029200"/>
            <a:ext cx="747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⑺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要与老师坦诚相待，保持一致</a:t>
            </a:r>
            <a:r>
              <a:rPr b="1" lang="zh-CN" sz="3600" spc="-1" strike="noStrike">
                <a:solidFill>
                  <a:srgbClr val="0c0b0a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4. 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具体来说</a:t>
            </a:r>
            <a:r>
              <a:rPr b="1" i="1" lang="zh-CN" sz="4400" spc="-1" strike="noStrike">
                <a:solidFill>
                  <a:srgbClr val="1d0de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819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掌握学生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好学生的生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上学、放学的时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生早、中餐的问题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600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好学生的常规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校服、学生证、鞋套、不留长发、长指甲、染发等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114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⑶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学习方面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关心学生每一天的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督促学生晚上在家独立完成各科家庭作业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并进行适当的复习和预习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对于学有余力的学生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安排适当的课外习题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1066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⑷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生交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他们的想法和需要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5909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⑸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多和学校、老师联系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了解学生在校的表现及学习情况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.(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给班主任打电话、来校了解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149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⑹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配合好学校、老师的工作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122d"/>
                </a:solidFill>
                <a:latin typeface="Arial"/>
              </a:rPr>
              <a:t>需要注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d0d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十问：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在外留宿。     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回家很迟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带同学住宿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打电话时间长，次数多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受伤回家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超消费要问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超出友谊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成绩突然下降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穿奇装异服，爱好打扮，沉默寡言。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1d0deb"/>
                </a:solidFill>
                <a:latin typeface="Arial"/>
              </a:rPr>
              <a:t>、老是玩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4122d"/>
                </a:solidFill>
                <a:latin typeface="Arial"/>
              </a:rPr>
              <a:t>再次感谢各位家长的到来</a:t>
            </a:r>
            <a:r>
              <a:rPr b="1" i="1" lang="zh-CN" sz="4800" spc="-1" strike="noStrike">
                <a:solidFill>
                  <a:srgbClr val="f4122d"/>
                </a:solidFill>
                <a:latin typeface="Arial"/>
              </a:rPr>
              <a:t>!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73392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1d0deb"/>
                </a:solidFill>
                <a:latin typeface="Arial"/>
                <a:ea typeface="幼圆"/>
              </a:rPr>
              <a:t>谢谢</a:t>
            </a:r>
            <a:r>
              <a:rPr b="1" i="1" lang="zh-CN" sz="8000" spc="-1" strike="noStrike">
                <a:solidFill>
                  <a:srgbClr val="1d0deb"/>
                </a:solidFill>
                <a:latin typeface="Arial"/>
                <a:ea typeface="幼圆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5335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些学生考试成绩退步的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05120"/>
            <a:ext cx="727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对考试不重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92428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73392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方法不合适。（习惯差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82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态度差。（学习不刻苦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767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06668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7:39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3:16Z</dcterms:modified>
  <cp:revision>1</cp:revision>
  <dc:subject>主题班会课件(分28大类): http://shop62905894.taobao.com</dc:subject>
  <dc:title>主题班会课件(分28大类): http://shop62905894.taobao.com</dc:title>
</cp:coreProperties>
</file>