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F24-58BC-4072-8E2D-3015E15B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CF8-9A40-4128-8F68-9090B408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72E-687F-43BD-882B-F8ABADD4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B08-731E-46D6-BBD6-062332AA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90A-3A15-4C79-9BA1-F0B11D6D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E47-3049-48AB-B72D-5DF91616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845-AEEF-4576-80D6-DB10ACB9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FBE-EE00-45BA-A820-68F272E0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AA3-7E24-4B01-9C75-202A1101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A5C-3BDC-4BD2-9350-283EB1DA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FED-CD22-4852-970E-811F288D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E87-025E-4C07-BBD1-A6BBB93A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1477-BC9F-4478-ABCB-F67BBC1B16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148cn.org/space/?uid-25-action-viewspace-itemid-2582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5460.xaonline.com/gy5460/jsp/picture/dictlist.jsp?pdid=24733469&amp;userid=15422613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tmx.hhit.edu.cn/xuesheng/guizhangzhidu.html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dwedu.net/2006/jiazhang/ShowElite.asp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fgx.gov.cn:8080/app?component=gxdtLink&amp;page=Index&amp;service=direct&amp;sp=S8ad324c814fce70e011502d3256c001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dwomen.org.cn/modules/data/article.php?storyid=1998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yqbk.com/d/?&#31185;&#23398;@479.htm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hedu.sh.cn/~knkj/xx-gongzuo/dy-gz/jt/jt-jy1.htm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asia-edu.com/news/20061128/n6512p1.shtml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chinadaily.com.cn/hqph/2006-12/27/content_768919.htm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全面启动家长学校课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师成长发展的需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师的知识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体性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业知识，基础。我们往往过高地估计了这一类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社会文化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宽阔的社会文化知识，是做好老师的重要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实践性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自于教育实践的经验和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条件性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育学、心理学知识，做好教师的必要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师成长发展的需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师的职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育好学生，必然需要家长的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师的职责：国民素质的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家长的补课，更好地与成人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促进教学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家长学校，促进教师开阔视野，深入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父母学校”管理模式的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出民工子女家庭教育问题研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长学校的功能及作用的研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长学校管理模式的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长学校办学模式的实践和探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题学生家庭状况对应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成长问题社会关注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0600" y="3703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研究型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三）教师在家长学校里的角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学习者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师首先应当谦虚，在对待每一个孩子方面，每个家长都是专家，至少比你了解孩子的信息更全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研究者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抱着研究者的心态，研究家长，研究孩子。教师都是教育家。行动研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帮助者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到帮助者的作用，帮助家长处理好有关于孩子相关的事情，包括家庭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朋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家长交朋友，才能更好地赢得家长的信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专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后才是某个方面的专家，我们不是全才，但我们愿意研究。我们更客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四）家长学校教师的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关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四）家长学校教师的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尊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尊重家长的人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官职有大小，职业有不同，人格一样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尊重家长的现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家庭有贫富，收入有高低，都有求学的权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尊重家长的观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环境不一样，角度有差别，允许观念有差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尊重家长的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历有高低，能力有不同，学问各千秋，不可轻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尊重家长的个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生有差异，其貌有俊丑，个性大不同，尊重差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敬人之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恒敬之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爱人之人，人恒爱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沟通他人，从尊敬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四）家长学校教师的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做到尊敬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学会倾听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让人家把话说完，听完整的意思，安静地倾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学会宽容接纳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允许有不同意见和行为爱好；接纳自己不喜欢的学生和家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学会控制情绪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平静、平等，以成人方式交谈——讲道理，而不是争输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学会感恩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感谢家长的配合，感谢家长的聆听，感谢家长的启发、感谢家长的参与和贡献等等。懂得感谢的人才能收获更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学会谦虚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谦虚的人不是被人瞧不起，而是更被人尊敬。越是有学问的人，越是谦虚。三人行必有我师。每个家长都可能是某个方面的行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问、多听、多了解。真心接受，真诚地对待家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四）家长学校教师的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自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信的人最有力量。我们所做的是高尚的，利他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专业知识上找自信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熟悉专业知识，业务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对学生的理解上找自信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熟悉自己的学生，熟悉学生成长的规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对家长课程的熟悉上找自信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读教材，吃透教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自身人格上找自信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纳自己，你就是你；承认自己的暂时无知，因为人无完人。这是大自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四）家长学校教师的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是我们终生的任务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人行必有我师。每个家长都有值得学习的地方。他们的阅历经验，他们的社会知识，他们的为人处事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天都要有收获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次家长会都要从家长那里学到更多的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要有不同观点和看法，就有学习的可能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长学校为我们提供了向优秀的人学习的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四）家长学校教师的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关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人都有被关怀的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怀家长就是关怀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怀他人就是关怀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怀让我们高尚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次培训的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培养研究型教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流感情增进友谊，提高水平促进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提高家长学校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家长学校发挥更大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促进大教育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办好家长学校，促进全民素质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家长的态度及把握的角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予家长充分的尊重、体谅、理解、启发、探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时刻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重科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教理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宣传和渗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正如赵忠心教授所说：“家庭教育的重点要关注家长培养教育孩子的思想观念问题”。（理论清、方向明、干劲大、效果丰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长是孩子的第一任老师，家庭是孩子成长的“第一道染缸”，家庭教育对孩子的成长起着基础的奠基作用，而且贯穿于人的一生。家庭教育的责任和意义重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6292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孩子的成长是有规律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四好”——好动的、好奇的、好模仿的、好游戏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四喜欢”——喜欢成功的、喜欢野外活动的、喜欢合群的、喜欢称赞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，家庭教育是有规律可循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没有不能成才的孩子，只有不会教育的家 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高家庭教育水平的根本途径和关键是家长加强学习，提高自身素质，按规律办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家庭教育的不可逆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错过了教育时机，难于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5920"/>
            <a:ext cx="8713800" cy="6516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赶火车误了，可以坐下一列；赶飞机误了可以搭下一班；赶轮船误了，可以等下一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但孩子的成长中，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她的心灵向父母开放的时间却是不可逆的。一旦错过了，你就很难走进孩子的心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367160"/>
            <a:ext cx="24843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正确使用家长课程教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年级一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路：是什么——为什么——怎么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孩子的实际需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（内化，产生内趋力）摆脱靠外力压力让孩子被动接受的局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孩子的需要，从孩子的需要出发实施教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才能产生预想的效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依据孩子的需要，找到家长在实施此方面教育的做法和误区，分析家长实施教育出现问题的根本原因，从原因入手，提出解决问题的有效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55120" y="13478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节课 专题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家长学校课程教学的一般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473200"/>
            <a:ext cx="1303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通读教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43200" y="274968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95680" y="2473200"/>
            <a:ext cx="13032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分析学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8880" y="27496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29120" y="1674720"/>
            <a:ext cx="13017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借鉴教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8440" y="276876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29120" y="2455920"/>
            <a:ext cx="1301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分析家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05600" y="3068640"/>
            <a:ext cx="1800" cy="14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2473200"/>
            <a:ext cx="1303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编写教案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324480" y="494820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9360" y="4653000"/>
            <a:ext cx="1303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临场发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184640" y="494820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00800" y="4653000"/>
            <a:ext cx="1303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课前准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33200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4672080"/>
            <a:ext cx="1303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指导家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40160" y="3273120"/>
            <a:ext cx="1440" cy="12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41920" y="1571760"/>
            <a:ext cx="1676520" cy="2217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29120" y="3213000"/>
            <a:ext cx="1301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寻找支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640" y="4446720"/>
            <a:ext cx="13035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课后跟踪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完成作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044800" y="496872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755640" y="3300480"/>
            <a:ext cx="7919640" cy="2936520"/>
            <a:chOff x="755640" y="3300480"/>
            <a:chExt cx="7919640" cy="2936520"/>
          </a:xfrm>
        </p:grpSpPr>
        <p:sp>
          <p:nvSpPr>
            <p:cNvPr id="120" name=""/>
            <p:cNvSpPr/>
            <p:nvPr/>
          </p:nvSpPr>
          <p:spPr>
            <a:xfrm>
              <a:off x="755640" y="3983760"/>
              <a:ext cx="1280160" cy="45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通读教材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35800" y="4193640"/>
              <a:ext cx="73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2800" y="3983760"/>
              <a:ext cx="1279800" cy="45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分析学生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52600" y="4193640"/>
              <a:ext cx="72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6280" y="3378240"/>
              <a:ext cx="1278360" cy="45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借鉴教材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28600" y="4208040"/>
              <a:ext cx="7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6280" y="3970800"/>
              <a:ext cx="127836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分析家长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89120" y="4590720"/>
              <a:ext cx="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34640" y="3983760"/>
              <a:ext cx="1280160" cy="45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编写教案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436440" y="5860440"/>
              <a:ext cx="73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95800" y="5636880"/>
              <a:ext cx="127980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临场发挥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335120" y="5860440"/>
              <a:ext cx="73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5120" y="5636880"/>
              <a:ext cx="128016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课前准备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409760" y="4590360"/>
              <a:ext cx="1615320" cy="12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5320" y="5651280"/>
              <a:ext cx="127980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指导家长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603960" y="4590360"/>
              <a:ext cx="0" cy="10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82320" y="3300480"/>
              <a:ext cx="1646280" cy="180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66280" y="4544640"/>
              <a:ext cx="127836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寻找支持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1480" y="5480280"/>
              <a:ext cx="1280160" cy="75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课后跟踪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完成作业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233440" y="5876280"/>
              <a:ext cx="73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16000" y="692280"/>
            <a:ext cx="6551640" cy="2089080"/>
          </a:xfrm>
          <a:prstGeom prst="wedgeRectCallout">
            <a:avLst>
              <a:gd name="adj1" fmla="val -40694"/>
              <a:gd name="adj2" fmla="val 978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读教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师一定要对本教材熟悉。教材的脉络结构，教材的理论、案例、观点、态度、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04640"/>
            <a:ext cx="7704000" cy="2592720"/>
          </a:xfrm>
          <a:prstGeom prst="wedgeRectCallout">
            <a:avLst>
              <a:gd name="adj1" fmla="val -19648"/>
              <a:gd name="adj2" fmla="val 8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析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定要结合自己班级的情况。根据本班学生实际，找出要解决的问题，从而提出该次家长课堂的主题。这是家长最为关注的问题，也最能吸引家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33360"/>
            <a:ext cx="8135640" cy="2376360"/>
          </a:xfrm>
          <a:prstGeom prst="wedgeRectCallout">
            <a:avLst>
              <a:gd name="adj1" fmla="val 3560"/>
              <a:gd name="adj2" fmla="val 78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借鉴教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到相应的部分，全面理解专家分析。如果不能完全对应，可以补充相应内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476280"/>
            <a:ext cx="8569080" cy="2448000"/>
          </a:xfrm>
          <a:prstGeom prst="wedgeRectCallout">
            <a:avLst>
              <a:gd name="adj1" fmla="val 11745"/>
              <a:gd name="adj2" fmla="val 120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寻找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质资料支持：课件资源、成型教案、案例资料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寻求专家支持：家教中心专家、同事、领导、朋友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寻找家长帮助：家长中的专家，优秀家长，征询家长意见……家长式重要资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333360"/>
            <a:ext cx="8675640" cy="2664000"/>
          </a:xfrm>
          <a:prstGeom prst="wedgeRectCallout">
            <a:avLst>
              <a:gd name="adj1" fmla="val 37064"/>
              <a:gd name="adj2" fmla="val 84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编写教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教学计划并设计教案——备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好要使用的课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准备授课资料，编写教案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8675640" cy="2305080"/>
          </a:xfrm>
          <a:prstGeom prst="wedgeRectCallout">
            <a:avLst>
              <a:gd name="adj1" fmla="val -703"/>
              <a:gd name="adj2" fmla="val 104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分析家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查了解本班学生家长存在的问题，调动家长的学习动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些家长做得好，能帮助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些家长做得不够，需要重要照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长首选应当转变的是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684360" y="-171360"/>
            <a:ext cx="7919640" cy="2936520"/>
            <a:chOff x="684360" y="-171360"/>
            <a:chExt cx="7919640" cy="2936520"/>
          </a:xfrm>
        </p:grpSpPr>
        <p:sp>
          <p:nvSpPr>
            <p:cNvPr id="147" name=""/>
            <p:cNvSpPr/>
            <p:nvPr/>
          </p:nvSpPr>
          <p:spPr>
            <a:xfrm>
              <a:off x="684360" y="511920"/>
              <a:ext cx="1280160" cy="45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通读教材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64520" y="721800"/>
              <a:ext cx="73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01520" y="511920"/>
              <a:ext cx="1279800" cy="45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分析学生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81320" y="721800"/>
              <a:ext cx="72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95000" y="-93240"/>
              <a:ext cx="1278360" cy="45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借鉴教材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57320" y="736200"/>
              <a:ext cx="7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5000" y="498960"/>
              <a:ext cx="127836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分析家长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17840" y="1118880"/>
              <a:ext cx="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3360" y="511920"/>
              <a:ext cx="1280160" cy="45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编写教案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365160" y="2388600"/>
              <a:ext cx="73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4520" y="2165040"/>
              <a:ext cx="127980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临场发挥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263840" y="2388600"/>
              <a:ext cx="73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23840" y="2165040"/>
              <a:ext cx="128016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课前准备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1338480" y="1118520"/>
              <a:ext cx="1615320" cy="12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84040" y="2179440"/>
              <a:ext cx="127980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指导家长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32680" y="1118520"/>
              <a:ext cx="0" cy="10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11040" y="-171360"/>
              <a:ext cx="1646280" cy="180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5000" y="1072800"/>
              <a:ext cx="127836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寻找支持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200" y="2008440"/>
              <a:ext cx="1280160" cy="75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课后跟踪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Times New Roman"/>
                </a:rPr>
                <a:t>完成作业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162160" y="2404440"/>
              <a:ext cx="73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55640" y="3573360"/>
            <a:ext cx="7777080" cy="2880000"/>
          </a:xfrm>
          <a:prstGeom prst="wedgeRectCallout">
            <a:avLst>
              <a:gd name="adj1" fmla="val 39814"/>
              <a:gd name="adj2" fmla="val -80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前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培训中有家长互动、对话，最好提前为某些家长做好准备。要现场组织交流，就要准备好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本次要讲授的内容，适当演练，关键是掌握时间、节奏，明确重点，争取好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3645000"/>
            <a:ext cx="8353440" cy="2879640"/>
          </a:xfrm>
          <a:prstGeom prst="wedgeRectCallout">
            <a:avLst>
              <a:gd name="adj1" fmla="val 10185"/>
              <a:gd name="adj2" fmla="val -83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临场发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家长的情况，根据家长的反应，根据当时的可能的变化，如果出现了不尽人意的事情，不要慌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如：如果家长参与度不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长有出入、电话响起、表现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3645000"/>
            <a:ext cx="8424720" cy="3024000"/>
          </a:xfrm>
          <a:prstGeom prst="wedgeRectCallout">
            <a:avLst>
              <a:gd name="adj1" fmla="val -12314"/>
              <a:gd name="adj2" fmla="val -82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指导家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堂中要与家长互动、交流，了解家长的观点和看法，而不是一味的自顾自地讲授。最好能够做到个别指导家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布置作业。引导家长阅读某一部分教材，通过出思考题，补充有关信息，指导家长阅读教材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个别指导家长解决班内的问题，指导家长做好学生的工作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3573360"/>
            <a:ext cx="8424720" cy="3024360"/>
          </a:xfrm>
          <a:prstGeom prst="wedgeRectCallout">
            <a:avLst>
              <a:gd name="adj1" fmla="val -38787"/>
              <a:gd name="adj2" fmla="val -79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跟踪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后要跟踪家长的反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私下询问家长对自己的教学的建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孩子介绍有没有改变观点、态度或行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孩子检查家长有没有完成作业，是否在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中生愿意配合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熟能生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2473200"/>
            <a:ext cx="1303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通读教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43200" y="274968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95680" y="2473200"/>
            <a:ext cx="13032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分析学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8880" y="27496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29120" y="1674720"/>
            <a:ext cx="13017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借鉴教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18440" y="276876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29120" y="2455920"/>
            <a:ext cx="1301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分析家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05600" y="3068640"/>
            <a:ext cx="1800" cy="14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473200"/>
            <a:ext cx="1303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编写教案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324480" y="494820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9360" y="4653000"/>
            <a:ext cx="1303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临场发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184640" y="494820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00800" y="4653000"/>
            <a:ext cx="1303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课前准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33200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81440" y="4672080"/>
            <a:ext cx="1303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指导家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40160" y="3273120"/>
            <a:ext cx="1440" cy="12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41920" y="1571760"/>
            <a:ext cx="1676520" cy="2217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29120" y="3213000"/>
            <a:ext cx="1301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寻找支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640" y="4446720"/>
            <a:ext cx="13035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课后跟踪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完成作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044800" y="496872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教师授课注意事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注意了解、研究家长的特点、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注意研究和学习，传授儿童成长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注意收集身边的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注意积累教育资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注意教态、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05480" y="493236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议开展 教育叙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867280" y="3068640"/>
            <a:ext cx="1798920" cy="2525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1596960" cy="227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教师授课注意事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注意了解、研究家长的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家长不是小学生，所以必须有一个好的态度。同时教学过程中要随家长的听课状态，调整授课方法（案例、讨论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要学会分析家长。家长的文化水平、社会地位、职业特点等。学会尊重所有家长。共性与个性问题都要讲到。一堂课要照顾全体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提问、讨论的问题要符合家长的水平，引起思考，有话可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不要在专用名词、术语上给予过多地阐述，要通俗易懂，联系实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注意研究和学习、传授儿童成长规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儿童发展是一门科学。老师要学习教育、心理科学。传授的应当是科学的东西，而不仅仅是经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注意收集身边的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对家长、孩子进行分析，越是身边的，家长越感兴趣。越是自己的孩子发生的，他们就越关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注意积累教育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专家言论、实验资料、短片、课件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注意教态、教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要树立自信，自信是锻炼得来的。没有谁天生就能做好所有的事情，成长是由过程的。我们的很多方面可能不如自己学生的家长，但我们有我们的长处和优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要指责和批评，也不要过于强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形象上注意职业性，着装、肢体语言等都要体现出教师的特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三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家长学校教学有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家长学校课程教材的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大家一起备一堂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4120" y="14130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讲授说理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互动演练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案例剖析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采访对话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现身说法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亲子互动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头脑风暴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激情演讲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反辩论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材导读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问你答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家长互助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476244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讲授说理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讲授说理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1088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互动演练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互动演练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61636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案例剖析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采访对话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采访对话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573880" y="154764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： 学生采访家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现身说法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现身说法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26436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具体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树立正确的理念和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材编写思路及使用（第二部分专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长学校备课一般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授课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长学校授课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案展示与互动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编辑出版《家长学校教案集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大家一起备一堂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亲子互动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亲子互动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4967280" cy="3726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84720" y="1844640"/>
            <a:ext cx="2590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子沟通话题，由学生讲自己的心事，或者讲书中的案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亲子互动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5975280" cy="448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659640" y="234936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亲讲自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亲子互动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24000" y="2282760"/>
            <a:ext cx="268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相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导其他的家长和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亲子互动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5659560" cy="4248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496200" y="202716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师点评、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亲子互动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68360" y="3120480"/>
            <a:ext cx="4608360" cy="2829600"/>
            <a:chOff x="468360" y="3120480"/>
            <a:chExt cx="4608360" cy="282960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468360" y="3141720"/>
              <a:ext cx="46083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 rot="248400">
              <a:off x="641520" y="3214440"/>
              <a:ext cx="2626200" cy="459720"/>
            </a:xfrm>
            <a:prstGeom prst="rect">
              <a:avLst/>
            </a:prstGeom>
            <a:solidFill>
              <a:srgbClr val="cc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黑体"/>
                </a:rPr>
                <a:t>期末家长课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356000" y="1798560"/>
            <a:ext cx="47880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亲子互动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亲子互动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头脑风暴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激情演讲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样看待给家长授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看待一件事情，就决定了我们怎样去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念制约思维，干扰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如我们看待家长教育的价值——真正的国民素质教育；教育的回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期大报告指出，新时期教育发展的目标任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时期教育发展的目标是现代国民教育体系更加完善，终身教育体系基本形成，全民受教育程度和创新人才培养水平明显提高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激情演讲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54482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反辩论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反辩论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284720" y="2637000"/>
            <a:ext cx="4248000" cy="3187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565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材导读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问你答式（家长互助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家长课堂类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问你答式（家长互助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205000"/>
            <a:ext cx="532908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六、家长学校教案设计 举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课 专题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、关于编辑出版家长学校教案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为家长学校课程建设课题的一部分，我们决定编辑并正式出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家长学校教案集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为家庭教育教师的成果发表园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欢迎大家开展家长学校课程建设研究，研究家庭教育，研究学生个性化成长，走上研究型教师成长之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部分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教材编写思路及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家长课程教材编写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心理学依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杜  威的“教育即生活”的教育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陶行知的“生活教育”的教育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马斯洛的“需要层次说”的心理学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样看待给家长授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庭教育已经引起了众多媒体和社会各界的关注，呼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必须建立一种组织或机构，承担起帮助家长统一思想，传播家教知识的任务，帮助家长树立新型的教育观、学生观、质量观和人才观，不断提高家教水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113360"/>
            <a:ext cx="3378240" cy="2533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079880"/>
            <a:ext cx="35276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9640" y="3524400"/>
            <a:ext cx="816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杜威：教育即生活，教育即生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行知的“生活即教育”的理论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行知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1-194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中国伟大的人民教育家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毕业于金陵大学，后赴美留学，师从杜威，并深受杜威的影响。五四运动后创办晓庄师范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主编《生活教育》半月刊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正式宣布自己的名字由“知行”改为“行知”。其“生活教育”学说，集中了古今中外教育家的思想精华，奠定了我国人们教育的改革和发展的思想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马斯洛的需要层次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84360" y="112500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需要产生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662200" y="1844640"/>
            <a:ext cx="6481800" cy="4464000"/>
            <a:chOff x="2662200" y="1844640"/>
            <a:chExt cx="6481800" cy="4464000"/>
          </a:xfrm>
        </p:grpSpPr>
        <p:sp>
          <p:nvSpPr>
            <p:cNvPr id="290" name=""/>
            <p:cNvSpPr/>
            <p:nvPr/>
          </p:nvSpPr>
          <p:spPr>
            <a:xfrm flipV="1">
              <a:off x="2662200" y="1844280"/>
              <a:ext cx="6481800" cy="4464000"/>
            </a:xfrm>
            <a:custGeom>
              <a:avLst/>
              <a:gdLst>
                <a:gd name="textAreaLeft" fmla="*/ 1425240 w 6481800"/>
                <a:gd name="textAreaRight" fmla="*/ 5056560 w 6481800"/>
                <a:gd name="textAreaTop" fmla="*/ 981720 h 4464000"/>
                <a:gd name="textAreaBottom" fmla="*/ 3482280 h 44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15560" y="577332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生理需要：衣、食、住、行、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09880" y="5662080"/>
              <a:ext cx="595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56120" y="4950360"/>
              <a:ext cx="54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12560" y="50587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安全与保障的需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65000" y="4238280"/>
              <a:ext cx="487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45320" y="44121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归属与爱的需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1640" y="370332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被尊重的需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50040" y="3720600"/>
              <a:ext cx="450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73040" y="31741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求知的需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98080" y="3138480"/>
              <a:ext cx="413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82760" y="2556360"/>
              <a:ext cx="364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33520" y="26035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审美的需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9960" y="19558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自我实现的需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52640"/>
            <a:ext cx="27399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459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26920" y="1411200"/>
            <a:ext cx="784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课程的最终目标和理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造就因“教育而幸福”的亲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教育目的：个人本位论和社会本位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十六大报告中确定的新时期教育方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造就因“教育而美好”的家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人的科学发展的重要内容：身体健康、事业有成、家庭幸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33336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家长课程教材编写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家长课程教材编写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教材编写基本思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依据孩子的需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依据：“提出问题——分析问题——解决问题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逻辑思路进行的编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借助于大量的案例和故事来叙述、说明问题，通俗、易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于家长教材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孩子的实际需要，（内化，产生内趋力）摆脱靠外力压力让孩子被动接受的局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孩子的需要，从孩子的需要出发实施教育，才能产生预想的效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9480" y="1477440"/>
            <a:ext cx="7994880" cy="53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强化问题意识，突出实战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只有问题才能引起家长的注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因此对于教材的使用，要从提出问题开始，引导家长理解教育，转变观念，培养幸福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360" y="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家教备课注意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609480" y="3284280"/>
            <a:ext cx="79948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节俭是一种美德，艰苦奋斗是立国、立家、立人的根本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理解 “钱”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让孩子记消费笔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育消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7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中外消费观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360" y="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讲：物质的需要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出问题：</a:t>
            </a:r>
            <a:br>
              <a:rPr sz="3600"/>
            </a:b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家长应如何指导孩子进行合理的消费？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新时期孩子应树立怎样的消费观？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10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749160"/>
            <a:ext cx="78469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讲：安全的需要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出问题：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家长（父母），你了解孩子心理安全的需要吗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你知道孩子在想什么吗？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你能进入孩子的心理世界吗？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0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2676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当前家教的五大误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重智力培养，轻非智力因素的培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重生理健康，轻心理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重结果，轻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重严厉教育，轻尊重、爱护和引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重训导，轻身体力行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360" y="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孩子是正在成长发展中独立的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br>
              <a:rPr sz="54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纳、适应、启迪、引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600"/>
            </a:br>
            <a:br>
              <a:rPr sz="6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家长和孩子的关系：双重身份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引路人或指导者——强制性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朋友关系——民主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8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03280" y="363852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0"/>
            <a:ext cx="50036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280" y="820800"/>
            <a:ext cx="86043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三讲：亲情关爱的需要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出问题：你的孩子爱（崇拜）你吗？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50-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孝”是中华民族的传统美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现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中日美三国中学生“关于你最爱的人”的调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本：第一位，父亲；第二位，母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国：第一位，父亲；第三位，母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：第十一位，父亲；第十三位，母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769644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两种典型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情缺失（农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爱过度（城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方法与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体验实际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创设问题情景（或虚拟情景），使孩子获得感性体验和认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四讲：被人尊重的需要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出问题：家长和孩子应该怎样互相尊重？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67-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9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了解尊重的内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自尊——自立、自强、自信；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尊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矛盾的主要方面在于家长，主要取决于家长的教育的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严厉批评型（挫折教育——失败乃成功之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民主宽松型（赏识教育——成功乃成功之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简单粗暴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放纵溺爱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7785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科学的教育方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严厉教育和民主教育的有机结合，即批评中要有赏识，赏识中要有批评。家长教育水平的高低主要体现在对二者结合点的把握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象的比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五讲：被人理解的需要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出问题：你的孩子愿意和你沟通交流吗？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87-10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507760"/>
            <a:ext cx="769608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诸如“逆反心理”“闭锁心理”“代沟”的正确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理解的基础和前提是与孩子的沟通与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与孩子的沟通与交流的前提和基础是家长的换位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791388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六：自理、自立能力的培养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112-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七：人际交往的困扰与解决对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八：青春期教育的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九：对偏科现象的原因分析与指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十：学习方法的指导（如学习计划的制订、各科学习方法的指导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授课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授课重点的把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确思路之后，就会很清楚，授课重点就是在了解了孩子需要和家长教育误区的基础上，帮助家长想找到科学、实用、有效的教育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实可行的解决问题的方法才是我们授课的重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观念、自身素质是提高家教水平的根本，在分析问题产生的原因时，不可忽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授课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材的使用：以之为依据，又不拘泥教材（举例说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家长的听课状态，调整授课方法（案例、讨论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问、讨论的问题要符合家长的水平，引起思考，有话可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要在专用名词、术语上给予过多地阐述，要通俗易懂，联系实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搞好研究课，开展评课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择一位教师的教案介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场互动评价一堂示范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树立正确的理念和心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一）家长课堂的目的和作用——促进四个和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促进亲子和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家长课堂主要是帮助家长了解孩子的身心发展规律，分析孩子问题产生的原因，教育家长了解自己教育的误区，帮助家长找到科学、实用、有效的教育方法，，启发家长找出相应的改善措施。每位老师也是家长，通过学习和宣讲，对于自己最有帮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促进师生和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帮助家长就是帮助学校，帮助家长就是帮助自己。通过老师的宣讲，教育家长树立正确的教育观念，提高自身素质，协助老师做好育人工作，这是和谐师生关系的重要措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促进家校和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家长学校能够帮助家长了解教育、了解学校，从而理解学校，理解老师，更好地促进家校和谐，促进学校的发展，为教育教学工作坚定良好的基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促进社会和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家庭是社会的细胞，有家庭和谐才有社会和谐。我们对社会的进步与和谐发展都负有责任。现代社会的教育重点是培养负责、自律、诚信合格的公民，培养对他人尊重、对多元文化理解与欣赏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二）家长学校教师应当树立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长学校是基础教育沟通家长与社会的重要桥梁，是学校教育的重要延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机遇与奉献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举办家长学校是专任教师锻炼、成长的机会，不是增加负担；人生只有在奉献中才能成长，才能有真正的大收获。要抓住机遇，在奉献成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助人与自助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导家教是我们的责任，家长是我们的得力助手，要用好家长这股力量；助人者才能自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研究与成长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课改理念提倡教师在研究中才能成长，教师要以研究者、主人翁的姿态走上课堂；要敢于挑战自己，既不要急于求成，也不要轻视自己，要积极投身到研究型教师成长的行列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4:19:2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58:55Z</dcterms:modified>
  <cp:revision>40</cp:revision>
  <dc:subject>主题班会课件(分28大类): http://shop62905894.taobao.com</dc:subject>
  <dc:title>主题班会课件(分28大类): http://shop62905894.taobao.com</dc:title>
</cp:coreProperties>
</file>