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D86E-9DC1-4AA9-BA0B-E7839BDCD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37160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37160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0D41-2B84-4E4C-8246-CDC899B3D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3716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515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37160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5156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C15C-0426-45F3-AC27-2BE03586B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3716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3556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6998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3716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3556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6998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4238-41E9-4327-98C3-DD79743EC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8041B-7CC2-4220-99ED-9E0CA57DB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D7C1C-0884-4A62-B4E5-E6C181FA0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599F5-0119-4262-B1C0-86417F043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37160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5156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E6B4F-5CEA-48E1-A75C-4CC8E18EF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EB5C9-32F8-4812-A368-8796491B6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C8583-D5BA-4FA0-A66F-4AE102F56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3716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5156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137160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AA689-794E-4797-BAF2-610B4879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AC8D-1A3F-429E-A1D7-82D00E0AD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37160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515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5156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E070C-D828-443E-9C04-510DEF8A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3716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515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137160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1A534-43FC-4C6A-98C9-91C45FF87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37160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137160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69AF3-35AB-4444-872A-EBEB05AD6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3716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515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137160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5156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7B489-3577-44A4-914B-6269ED872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3716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53556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6998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13716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53556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56998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F5289-FAA3-4FE6-93E0-AD7E7091D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F998-BE64-436D-9D5A-8A211035D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37160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5156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A684-E17E-4BB5-8438-2A98E36A2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A72F-BB55-4A15-A5A3-405560187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3BE3-1281-481C-BB9B-2F6F6B319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3716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5156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37160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35C0-D803-4D81-AAB3-00D26811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37160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515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5156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6A25-20A7-4ABE-8BF0-04FCCBD4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3716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515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37160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2137-B061-4731-891A-EDB374EE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F8F7E-FC91-4A6E-AC0E-6EB4006BADF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B66DA-6184-41A7-9161-604EE8E5CC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53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40000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384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e40000"/>
                </a:solidFill>
                <a:latin typeface="Times New Roman"/>
                <a:ea typeface="楷体_GB2312"/>
              </a:rPr>
              <a:t>欢迎各位家长</a:t>
            </a:r>
            <a:br>
              <a:rPr sz="9600"/>
            </a:br>
            <a:br>
              <a:rPr sz="9600"/>
            </a:b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临河一中：高二（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19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）班</a:t>
            </a:r>
            <a:br>
              <a:rPr sz="4400"/>
            </a:br>
            <a:br>
              <a:rPr sz="4400"/>
            </a:b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 txBox="1"/>
          <p:nvPr/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219320" y="685800"/>
            <a:ext cx="62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04920" y="1143000"/>
            <a:ext cx="8534160" cy="825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隶书"/>
                <a:ea typeface="隶书"/>
              </a:rPr>
              <a:t>种下一种行为  收获一种习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80880" y="2895480"/>
            <a:ext cx="8534520" cy="825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隶书"/>
                <a:ea typeface="隶书"/>
              </a:rPr>
              <a:t>种下一种习惯  收获一种个性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80880" y="4495680"/>
            <a:ext cx="8534520" cy="825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隶书"/>
                <a:ea typeface="隶书"/>
              </a:rPr>
              <a:t>种下一种个性  收获一种命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219320" y="685800"/>
            <a:ext cx="62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600200" y="762120"/>
            <a:ext cx="5943600" cy="11912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隶书"/>
                <a:ea typeface="隶书"/>
              </a:rPr>
              <a:t>团结产生力量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752480" y="2209680"/>
            <a:ext cx="5943600" cy="11912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隶书"/>
                <a:ea typeface="隶书"/>
              </a:rPr>
              <a:t>凝聚诞生希望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828800" y="3657600"/>
            <a:ext cx="5943600" cy="11912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隶书"/>
                <a:ea typeface="隶书"/>
              </a:rPr>
              <a:t>细节决定成败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905120" y="5257800"/>
            <a:ext cx="5943600" cy="11912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隶书"/>
                <a:ea typeface="隶书"/>
              </a:rPr>
              <a:t>行为成就命运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 txBox="1"/>
          <p:nvPr/>
        </p:nvSpPr>
        <p:spPr>
          <a:xfrm>
            <a:off x="914400" y="1066680"/>
            <a:ext cx="7381800" cy="487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0">
                  <a:noFill/>
                </a:ln>
                <a:solidFill>
                  <a:srgbClr val="0000ff"/>
                </a:solidFill>
                <a:latin typeface="华文行楷"/>
              </a:rPr>
              <a:t>一花独放不是春</a:t>
            </a:r>
            <a:endParaRPr b="0" lang="en-US" sz="8000" spc="1" strike="noStrike">
              <a:ln w="0">
                <a:noFill/>
              </a:ln>
              <a:solidFill>
                <a:srgbClr val="0000ff"/>
              </a:solidFill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0">
                  <a:noFill/>
                </a:ln>
                <a:solidFill>
                  <a:srgbClr val="0000ff"/>
                </a:solidFill>
                <a:latin typeface="华文行楷"/>
              </a:rPr>
              <a:t>百花齐放春满园 </a:t>
            </a:r>
            <a:endParaRPr b="0" lang="en-US" sz="8000" spc="1" strike="noStrike">
              <a:ln w="0">
                <a:noFill/>
              </a:ln>
              <a:solidFill>
                <a:srgbClr val="0000ff"/>
              </a:solidFill>
              <a:latin typeface="华文行楷"/>
              <a:ea typeface="华文行楷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1752480" y="1143000"/>
            <a:ext cx="5943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隶书"/>
                <a:ea typeface="隶书"/>
              </a:rPr>
              <a:t>成    功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114800" y="2971800"/>
            <a:ext cx="7333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219320" y="464832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ff"/>
                </a:solidFill>
                <a:latin typeface="Times New Roman"/>
                <a:ea typeface="隶书"/>
              </a:rPr>
              <a:t>辛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048120" y="4648320"/>
            <a:ext cx="106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733920" y="457200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ff"/>
                </a:solidFill>
                <a:latin typeface="Times New Roman"/>
                <a:ea typeface="隶书"/>
              </a:rPr>
              <a:t>自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486400" y="457200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095880" y="457200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ff"/>
                </a:solidFill>
                <a:latin typeface="Times New Roman"/>
                <a:ea typeface="隶书"/>
              </a:rPr>
              <a:t>爱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4343400" y="3200400"/>
            <a:ext cx="152280" cy="990720"/>
            <a:chOff x="4343400" y="3200400"/>
            <a:chExt cx="152280" cy="990720"/>
          </a:xfrm>
        </p:grpSpPr>
        <p:sp>
          <p:nvSpPr>
            <p:cNvPr id="545" name=""/>
            <p:cNvSpPr/>
            <p:nvPr/>
          </p:nvSpPr>
          <p:spPr>
            <a:xfrm>
              <a:off x="4343400" y="3200400"/>
              <a:ext cx="0" cy="99072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495680" y="3200400"/>
              <a:ext cx="0" cy="99072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graphicFrame>
        <p:nvGraphicFramePr>
          <p:cNvPr id="548" name=""/>
          <p:cNvGraphicFramePr/>
          <p:nvPr/>
        </p:nvGraphicFramePr>
        <p:xfrm>
          <a:off x="0" y="0"/>
          <a:ext cx="9144000" cy="72565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725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0" y="-14400"/>
          <a:ext cx="9144000" cy="68565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14400"/>
                    <a:ext cx="914400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graphicFrame>
        <p:nvGraphicFramePr>
          <p:cNvPr id="5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graphicFrame>
        <p:nvGraphicFramePr>
          <p:cNvPr id="557" name=""/>
          <p:cNvGraphicFramePr/>
          <p:nvPr/>
        </p:nvGraphicFramePr>
        <p:xfrm>
          <a:off x="0" y="1440"/>
          <a:ext cx="9144000" cy="68565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0"/>
                    <a:ext cx="914400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9" name=""/>
          <p:cNvSpPr/>
          <p:nvPr/>
        </p:nvSpPr>
        <p:spPr>
          <a:xfrm>
            <a:off x="6629400" y="790560"/>
            <a:ext cx="1371600" cy="5456520"/>
          </a:xfrm>
          <a:prstGeom prst="rect">
            <a:avLst/>
          </a:prstGeom>
          <a:noFill/>
          <a:ln cap="rnd" w="76320">
            <a:solidFill>
              <a:srgbClr val="00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Tahoma"/>
                <a:ea typeface="隶书"/>
              </a:rPr>
              <a:t>单科状元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graphicFrame>
        <p:nvGraphicFramePr>
          <p:cNvPr id="561" name=""/>
          <p:cNvGraphicFramePr/>
          <p:nvPr/>
        </p:nvGraphicFramePr>
        <p:xfrm>
          <a:off x="0" y="1440"/>
          <a:ext cx="9144000" cy="68565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0"/>
                    <a:ext cx="914400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3" name=""/>
          <p:cNvSpPr/>
          <p:nvPr/>
        </p:nvSpPr>
        <p:spPr>
          <a:xfrm>
            <a:off x="838080" y="380880"/>
            <a:ext cx="7086600" cy="1434600"/>
          </a:xfrm>
          <a:prstGeom prst="rect">
            <a:avLst/>
          </a:prstGeom>
          <a:noFill/>
          <a:ln cap="rnd" w="76320">
            <a:solidFill>
              <a:srgbClr val="00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Tahoma"/>
                <a:ea typeface="隶书"/>
              </a:rPr>
              <a:t>进步的风采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4" name=""/>
          <p:cNvGraphicFramePr/>
          <p:nvPr/>
        </p:nvGraphicFramePr>
        <p:xfrm>
          <a:off x="1440" y="0"/>
          <a:ext cx="914256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0"/>
                    <a:ext cx="91425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66" name=""/>
          <p:cNvGrpSpPr/>
          <p:nvPr/>
        </p:nvGrpSpPr>
        <p:grpSpPr>
          <a:xfrm>
            <a:off x="0" y="152280"/>
            <a:ext cx="9143280" cy="6629040"/>
            <a:chOff x="0" y="152280"/>
            <a:chExt cx="9143280" cy="6629040"/>
          </a:xfrm>
        </p:grpSpPr>
        <p:grpSp>
          <p:nvGrpSpPr>
            <p:cNvPr id="567" name=""/>
            <p:cNvGrpSpPr/>
            <p:nvPr/>
          </p:nvGrpSpPr>
          <p:grpSpPr>
            <a:xfrm>
              <a:off x="0" y="152280"/>
              <a:ext cx="713160" cy="709920"/>
              <a:chOff x="0" y="152280"/>
              <a:chExt cx="713160" cy="709920"/>
            </a:xfrm>
          </p:grpSpPr>
          <p:sp>
            <p:nvSpPr>
              <p:cNvPr id="568" name=""/>
              <p:cNvSpPr/>
              <p:nvPr/>
            </p:nvSpPr>
            <p:spPr>
              <a:xfrm>
                <a:off x="11160" y="159480"/>
                <a:ext cx="69048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宋体"/>
                  </a:rPr>
                  <a:t>班级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0" y="152280"/>
                <a:ext cx="713160" cy="7099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0" name=""/>
            <p:cNvGrpSpPr/>
            <p:nvPr/>
          </p:nvGrpSpPr>
          <p:grpSpPr>
            <a:xfrm>
              <a:off x="713520" y="152280"/>
              <a:ext cx="1159200" cy="709920"/>
              <a:chOff x="713520" y="152280"/>
              <a:chExt cx="1159200" cy="709920"/>
            </a:xfrm>
          </p:grpSpPr>
          <p:sp>
            <p:nvSpPr>
              <p:cNvPr id="571" name=""/>
              <p:cNvSpPr/>
              <p:nvPr/>
            </p:nvSpPr>
            <p:spPr>
              <a:xfrm>
                <a:off x="724680" y="159480"/>
                <a:ext cx="113652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宋体"/>
                  </a:rPr>
                  <a:t>前</a:t>
                </a: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00</a:t>
                </a:r>
                <a:r>
                  <a:rPr b="1" lang="zh-CN" sz="1500" spc="-1" strike="noStrike">
                    <a:solidFill>
                      <a:srgbClr val="ffffff"/>
                    </a:solidFill>
                    <a:latin typeface="宋体"/>
                  </a:rPr>
                  <a:t>名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713520" y="152280"/>
                <a:ext cx="1159200" cy="7099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3" name=""/>
            <p:cNvGrpSpPr/>
            <p:nvPr/>
          </p:nvGrpSpPr>
          <p:grpSpPr>
            <a:xfrm>
              <a:off x="1873080" y="152280"/>
              <a:ext cx="1453680" cy="709920"/>
              <a:chOff x="1873080" y="152280"/>
              <a:chExt cx="1453680" cy="709920"/>
            </a:xfrm>
          </p:grpSpPr>
          <p:sp>
            <p:nvSpPr>
              <p:cNvPr id="574" name=""/>
              <p:cNvSpPr/>
              <p:nvPr/>
            </p:nvSpPr>
            <p:spPr>
              <a:xfrm>
                <a:off x="1884600" y="159480"/>
                <a:ext cx="143028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宋体"/>
                  </a:rPr>
                  <a:t>前</a:t>
                </a: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01-200</a:t>
                </a:r>
                <a:r>
                  <a:rPr b="1" lang="zh-CN" sz="1500" spc="-1" strike="noStrike">
                    <a:solidFill>
                      <a:srgbClr val="ffffff"/>
                    </a:solidFill>
                    <a:latin typeface="宋体"/>
                  </a:rPr>
                  <a:t>名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873080" y="152280"/>
                <a:ext cx="1453680" cy="7099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6" name=""/>
            <p:cNvGrpSpPr/>
            <p:nvPr/>
          </p:nvGrpSpPr>
          <p:grpSpPr>
            <a:xfrm>
              <a:off x="3327480" y="152280"/>
              <a:ext cx="1453680" cy="709920"/>
              <a:chOff x="3327480" y="152280"/>
              <a:chExt cx="1453680" cy="709920"/>
            </a:xfrm>
          </p:grpSpPr>
          <p:sp>
            <p:nvSpPr>
              <p:cNvPr id="577" name=""/>
              <p:cNvSpPr/>
              <p:nvPr/>
            </p:nvSpPr>
            <p:spPr>
              <a:xfrm>
                <a:off x="3338640" y="159480"/>
                <a:ext cx="143064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宋体"/>
                  </a:rPr>
                  <a:t>前</a:t>
                </a: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01-300</a:t>
                </a:r>
                <a:r>
                  <a:rPr b="1" lang="zh-CN" sz="1500" spc="-1" strike="noStrike">
                    <a:solidFill>
                      <a:srgbClr val="ffffff"/>
                    </a:solidFill>
                    <a:latin typeface="宋体"/>
                  </a:rPr>
                  <a:t>名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327480" y="152280"/>
                <a:ext cx="1453680" cy="7099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9" name=""/>
            <p:cNvGrpSpPr/>
            <p:nvPr/>
          </p:nvGrpSpPr>
          <p:grpSpPr>
            <a:xfrm>
              <a:off x="4781520" y="152280"/>
              <a:ext cx="1453320" cy="709920"/>
              <a:chOff x="4781520" y="152280"/>
              <a:chExt cx="1453320" cy="709920"/>
            </a:xfrm>
          </p:grpSpPr>
          <p:sp>
            <p:nvSpPr>
              <p:cNvPr id="580" name=""/>
              <p:cNvSpPr/>
              <p:nvPr/>
            </p:nvSpPr>
            <p:spPr>
              <a:xfrm>
                <a:off x="4792680" y="159480"/>
                <a:ext cx="143064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宋体"/>
                  </a:rPr>
                  <a:t>前</a:t>
                </a: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01-400</a:t>
                </a:r>
                <a:r>
                  <a:rPr b="1" lang="zh-CN" sz="1500" spc="-1" strike="noStrike">
                    <a:solidFill>
                      <a:srgbClr val="ffffff"/>
                    </a:solidFill>
                    <a:latin typeface="宋体"/>
                  </a:rPr>
                  <a:t>名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4781520" y="152280"/>
                <a:ext cx="1453320" cy="7099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2" name=""/>
            <p:cNvGrpSpPr/>
            <p:nvPr/>
          </p:nvGrpSpPr>
          <p:grpSpPr>
            <a:xfrm>
              <a:off x="6235200" y="152280"/>
              <a:ext cx="1453680" cy="709920"/>
              <a:chOff x="6235200" y="152280"/>
              <a:chExt cx="1453680" cy="709920"/>
            </a:xfrm>
          </p:grpSpPr>
          <p:sp>
            <p:nvSpPr>
              <p:cNvPr id="583" name=""/>
              <p:cNvSpPr/>
              <p:nvPr/>
            </p:nvSpPr>
            <p:spPr>
              <a:xfrm>
                <a:off x="6246720" y="159480"/>
                <a:ext cx="143064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宋体"/>
                  </a:rPr>
                  <a:t>前</a:t>
                </a: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401-500</a:t>
                </a:r>
                <a:r>
                  <a:rPr b="1" lang="zh-CN" sz="1500" spc="-1" strike="noStrike">
                    <a:solidFill>
                      <a:srgbClr val="ffffff"/>
                    </a:solidFill>
                    <a:latin typeface="宋体"/>
                  </a:rPr>
                  <a:t>名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6235200" y="152280"/>
                <a:ext cx="1453680" cy="7099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5" name=""/>
            <p:cNvGrpSpPr/>
            <p:nvPr/>
          </p:nvGrpSpPr>
          <p:grpSpPr>
            <a:xfrm>
              <a:off x="7689600" y="152280"/>
              <a:ext cx="1453680" cy="709920"/>
              <a:chOff x="7689600" y="152280"/>
              <a:chExt cx="1453680" cy="709920"/>
            </a:xfrm>
          </p:grpSpPr>
          <p:sp>
            <p:nvSpPr>
              <p:cNvPr id="586" name=""/>
              <p:cNvSpPr/>
              <p:nvPr/>
            </p:nvSpPr>
            <p:spPr>
              <a:xfrm>
                <a:off x="7701120" y="159480"/>
                <a:ext cx="143028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宋体"/>
                  </a:rPr>
                  <a:t>前</a:t>
                </a: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500</a:t>
                </a:r>
                <a:r>
                  <a:rPr b="1" lang="zh-CN" sz="1500" spc="-1" strike="noStrike">
                    <a:solidFill>
                      <a:srgbClr val="ffffff"/>
                    </a:solidFill>
                    <a:latin typeface="宋体"/>
                  </a:rPr>
                  <a:t>名总计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689600" y="152280"/>
                <a:ext cx="1453680" cy="7099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0" y="869760"/>
              <a:ext cx="713160" cy="530640"/>
              <a:chOff x="0" y="869760"/>
              <a:chExt cx="713160" cy="530640"/>
            </a:xfrm>
          </p:grpSpPr>
          <p:sp>
            <p:nvSpPr>
              <p:cNvPr id="589" name=""/>
              <p:cNvSpPr/>
              <p:nvPr/>
            </p:nvSpPr>
            <p:spPr>
              <a:xfrm>
                <a:off x="11160" y="876960"/>
                <a:ext cx="69048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0" y="869760"/>
                <a:ext cx="71316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1" name=""/>
            <p:cNvGrpSpPr/>
            <p:nvPr/>
          </p:nvGrpSpPr>
          <p:grpSpPr>
            <a:xfrm>
              <a:off x="713520" y="869760"/>
              <a:ext cx="1159200" cy="530640"/>
              <a:chOff x="713520" y="869760"/>
              <a:chExt cx="1159200" cy="530640"/>
            </a:xfrm>
          </p:grpSpPr>
          <p:sp>
            <p:nvSpPr>
              <p:cNvPr id="592" name=""/>
              <p:cNvSpPr/>
              <p:nvPr/>
            </p:nvSpPr>
            <p:spPr>
              <a:xfrm>
                <a:off x="724680" y="876960"/>
                <a:ext cx="113652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7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713520" y="869760"/>
                <a:ext cx="115920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4" name=""/>
            <p:cNvGrpSpPr/>
            <p:nvPr/>
          </p:nvGrpSpPr>
          <p:grpSpPr>
            <a:xfrm>
              <a:off x="1873080" y="869760"/>
              <a:ext cx="1453680" cy="530640"/>
              <a:chOff x="1873080" y="869760"/>
              <a:chExt cx="1453680" cy="530640"/>
            </a:xfrm>
          </p:grpSpPr>
          <p:sp>
            <p:nvSpPr>
              <p:cNvPr id="595" name=""/>
              <p:cNvSpPr/>
              <p:nvPr/>
            </p:nvSpPr>
            <p:spPr>
              <a:xfrm>
                <a:off x="1884600" y="876960"/>
                <a:ext cx="143028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8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873080" y="869760"/>
                <a:ext cx="145368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7" name=""/>
            <p:cNvGrpSpPr/>
            <p:nvPr/>
          </p:nvGrpSpPr>
          <p:grpSpPr>
            <a:xfrm>
              <a:off x="3327480" y="869760"/>
              <a:ext cx="1453680" cy="530640"/>
              <a:chOff x="3327480" y="869760"/>
              <a:chExt cx="1453680" cy="530640"/>
            </a:xfrm>
          </p:grpSpPr>
          <p:sp>
            <p:nvSpPr>
              <p:cNvPr id="598" name=""/>
              <p:cNvSpPr/>
              <p:nvPr/>
            </p:nvSpPr>
            <p:spPr>
              <a:xfrm>
                <a:off x="3338640" y="876960"/>
                <a:ext cx="143064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9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3327480" y="869760"/>
                <a:ext cx="145368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0" name=""/>
            <p:cNvGrpSpPr/>
            <p:nvPr/>
          </p:nvGrpSpPr>
          <p:grpSpPr>
            <a:xfrm>
              <a:off x="4781520" y="869760"/>
              <a:ext cx="1453320" cy="530640"/>
              <a:chOff x="4781520" y="869760"/>
              <a:chExt cx="1453320" cy="530640"/>
            </a:xfrm>
          </p:grpSpPr>
          <p:sp>
            <p:nvSpPr>
              <p:cNvPr id="601" name=""/>
              <p:cNvSpPr/>
              <p:nvPr/>
            </p:nvSpPr>
            <p:spPr>
              <a:xfrm>
                <a:off x="4792680" y="876960"/>
                <a:ext cx="143064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4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4781520" y="869760"/>
                <a:ext cx="145332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3" name=""/>
            <p:cNvGrpSpPr/>
            <p:nvPr/>
          </p:nvGrpSpPr>
          <p:grpSpPr>
            <a:xfrm>
              <a:off x="6235200" y="869760"/>
              <a:ext cx="1453680" cy="530640"/>
              <a:chOff x="6235200" y="869760"/>
              <a:chExt cx="1453680" cy="530640"/>
            </a:xfrm>
          </p:grpSpPr>
          <p:sp>
            <p:nvSpPr>
              <p:cNvPr id="604" name=""/>
              <p:cNvSpPr/>
              <p:nvPr/>
            </p:nvSpPr>
            <p:spPr>
              <a:xfrm>
                <a:off x="6246720" y="876960"/>
                <a:ext cx="143064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6235200" y="869760"/>
                <a:ext cx="145368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6" name=""/>
            <p:cNvGrpSpPr/>
            <p:nvPr/>
          </p:nvGrpSpPr>
          <p:grpSpPr>
            <a:xfrm>
              <a:off x="7689600" y="869760"/>
              <a:ext cx="1453680" cy="530640"/>
              <a:chOff x="7689600" y="869760"/>
              <a:chExt cx="1453680" cy="530640"/>
            </a:xfrm>
          </p:grpSpPr>
          <p:sp>
            <p:nvSpPr>
              <p:cNvPr id="607" name=""/>
              <p:cNvSpPr/>
              <p:nvPr/>
            </p:nvSpPr>
            <p:spPr>
              <a:xfrm>
                <a:off x="7701120" y="876960"/>
                <a:ext cx="143028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7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7689600" y="869760"/>
                <a:ext cx="145368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9" name=""/>
            <p:cNvGrpSpPr/>
            <p:nvPr/>
          </p:nvGrpSpPr>
          <p:grpSpPr>
            <a:xfrm>
              <a:off x="0" y="1407600"/>
              <a:ext cx="713160" cy="530640"/>
              <a:chOff x="0" y="1407600"/>
              <a:chExt cx="713160" cy="530640"/>
            </a:xfrm>
          </p:grpSpPr>
          <p:sp>
            <p:nvSpPr>
              <p:cNvPr id="610" name=""/>
              <p:cNvSpPr/>
              <p:nvPr/>
            </p:nvSpPr>
            <p:spPr>
              <a:xfrm>
                <a:off x="11160" y="1414800"/>
                <a:ext cx="69048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4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0" y="1407600"/>
                <a:ext cx="71316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2" name=""/>
            <p:cNvGrpSpPr/>
            <p:nvPr/>
          </p:nvGrpSpPr>
          <p:grpSpPr>
            <a:xfrm>
              <a:off x="713520" y="1407600"/>
              <a:ext cx="1159200" cy="530640"/>
              <a:chOff x="713520" y="1407600"/>
              <a:chExt cx="1159200" cy="530640"/>
            </a:xfrm>
          </p:grpSpPr>
          <p:sp>
            <p:nvSpPr>
              <p:cNvPr id="613" name=""/>
              <p:cNvSpPr/>
              <p:nvPr/>
            </p:nvSpPr>
            <p:spPr>
              <a:xfrm>
                <a:off x="724680" y="1414800"/>
                <a:ext cx="113652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13520" y="1407600"/>
                <a:ext cx="115920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5" name=""/>
            <p:cNvGrpSpPr/>
            <p:nvPr/>
          </p:nvGrpSpPr>
          <p:grpSpPr>
            <a:xfrm>
              <a:off x="1873080" y="1407600"/>
              <a:ext cx="1453680" cy="530640"/>
              <a:chOff x="1873080" y="1407600"/>
              <a:chExt cx="1453680" cy="530640"/>
            </a:xfrm>
          </p:grpSpPr>
          <p:sp>
            <p:nvSpPr>
              <p:cNvPr id="616" name=""/>
              <p:cNvSpPr/>
              <p:nvPr/>
            </p:nvSpPr>
            <p:spPr>
              <a:xfrm>
                <a:off x="1884600" y="1414800"/>
                <a:ext cx="143028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8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1873080" y="1407600"/>
                <a:ext cx="145368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8" name=""/>
            <p:cNvGrpSpPr/>
            <p:nvPr/>
          </p:nvGrpSpPr>
          <p:grpSpPr>
            <a:xfrm>
              <a:off x="3327480" y="1407600"/>
              <a:ext cx="1453680" cy="530640"/>
              <a:chOff x="3327480" y="1407600"/>
              <a:chExt cx="1453680" cy="530640"/>
            </a:xfrm>
          </p:grpSpPr>
          <p:sp>
            <p:nvSpPr>
              <p:cNvPr id="619" name=""/>
              <p:cNvSpPr/>
              <p:nvPr/>
            </p:nvSpPr>
            <p:spPr>
              <a:xfrm>
                <a:off x="3338640" y="1414800"/>
                <a:ext cx="143064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9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3327480" y="1407600"/>
                <a:ext cx="145368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1" name=""/>
            <p:cNvGrpSpPr/>
            <p:nvPr/>
          </p:nvGrpSpPr>
          <p:grpSpPr>
            <a:xfrm>
              <a:off x="4781520" y="1407600"/>
              <a:ext cx="1453320" cy="530640"/>
              <a:chOff x="4781520" y="1407600"/>
              <a:chExt cx="1453320" cy="530640"/>
            </a:xfrm>
          </p:grpSpPr>
          <p:sp>
            <p:nvSpPr>
              <p:cNvPr id="622" name=""/>
              <p:cNvSpPr/>
              <p:nvPr/>
            </p:nvSpPr>
            <p:spPr>
              <a:xfrm>
                <a:off x="4792680" y="1414800"/>
                <a:ext cx="143064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4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4781520" y="1407600"/>
                <a:ext cx="145332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6235200" y="1407600"/>
              <a:ext cx="1453680" cy="530640"/>
              <a:chOff x="6235200" y="1407600"/>
              <a:chExt cx="1453680" cy="530640"/>
            </a:xfrm>
          </p:grpSpPr>
          <p:sp>
            <p:nvSpPr>
              <p:cNvPr id="625" name=""/>
              <p:cNvSpPr/>
              <p:nvPr/>
            </p:nvSpPr>
            <p:spPr>
              <a:xfrm>
                <a:off x="6246720" y="1414800"/>
                <a:ext cx="143064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9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235200" y="1407600"/>
                <a:ext cx="145368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7" name=""/>
            <p:cNvGrpSpPr/>
            <p:nvPr/>
          </p:nvGrpSpPr>
          <p:grpSpPr>
            <a:xfrm>
              <a:off x="7689600" y="1407600"/>
              <a:ext cx="1453680" cy="530640"/>
              <a:chOff x="7689600" y="1407600"/>
              <a:chExt cx="1453680" cy="530640"/>
            </a:xfrm>
          </p:grpSpPr>
          <p:sp>
            <p:nvSpPr>
              <p:cNvPr id="628" name=""/>
              <p:cNvSpPr/>
              <p:nvPr/>
            </p:nvSpPr>
            <p:spPr>
              <a:xfrm>
                <a:off x="7701120" y="1414800"/>
                <a:ext cx="143028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6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7689600" y="1407600"/>
                <a:ext cx="145368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0" y="1945800"/>
              <a:ext cx="713160" cy="530640"/>
              <a:chOff x="0" y="1945800"/>
              <a:chExt cx="713160" cy="530640"/>
            </a:xfrm>
          </p:grpSpPr>
          <p:sp>
            <p:nvSpPr>
              <p:cNvPr id="631" name=""/>
              <p:cNvSpPr/>
              <p:nvPr/>
            </p:nvSpPr>
            <p:spPr>
              <a:xfrm>
                <a:off x="11160" y="1953000"/>
                <a:ext cx="69048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5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0" y="1945800"/>
                <a:ext cx="71316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3" name=""/>
            <p:cNvGrpSpPr/>
            <p:nvPr/>
          </p:nvGrpSpPr>
          <p:grpSpPr>
            <a:xfrm>
              <a:off x="713520" y="1945800"/>
              <a:ext cx="1159200" cy="530640"/>
              <a:chOff x="713520" y="1945800"/>
              <a:chExt cx="1159200" cy="530640"/>
            </a:xfrm>
          </p:grpSpPr>
          <p:sp>
            <p:nvSpPr>
              <p:cNvPr id="634" name=""/>
              <p:cNvSpPr/>
              <p:nvPr/>
            </p:nvSpPr>
            <p:spPr>
              <a:xfrm>
                <a:off x="724680" y="1953000"/>
                <a:ext cx="113652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9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713520" y="1945800"/>
                <a:ext cx="115920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6" name=""/>
            <p:cNvGrpSpPr/>
            <p:nvPr/>
          </p:nvGrpSpPr>
          <p:grpSpPr>
            <a:xfrm>
              <a:off x="1873080" y="1945800"/>
              <a:ext cx="1453680" cy="530640"/>
              <a:chOff x="1873080" y="1945800"/>
              <a:chExt cx="1453680" cy="530640"/>
            </a:xfrm>
          </p:grpSpPr>
          <p:sp>
            <p:nvSpPr>
              <p:cNvPr id="637" name=""/>
              <p:cNvSpPr/>
              <p:nvPr/>
            </p:nvSpPr>
            <p:spPr>
              <a:xfrm>
                <a:off x="1884600" y="1953000"/>
                <a:ext cx="143028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4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1873080" y="1945800"/>
                <a:ext cx="145368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9" name=""/>
            <p:cNvGrpSpPr/>
            <p:nvPr/>
          </p:nvGrpSpPr>
          <p:grpSpPr>
            <a:xfrm>
              <a:off x="3327480" y="1945800"/>
              <a:ext cx="1453680" cy="530640"/>
              <a:chOff x="3327480" y="1945800"/>
              <a:chExt cx="1453680" cy="530640"/>
            </a:xfrm>
          </p:grpSpPr>
          <p:sp>
            <p:nvSpPr>
              <p:cNvPr id="640" name=""/>
              <p:cNvSpPr/>
              <p:nvPr/>
            </p:nvSpPr>
            <p:spPr>
              <a:xfrm>
                <a:off x="3338640" y="1953000"/>
                <a:ext cx="143064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2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3327480" y="1945800"/>
                <a:ext cx="145368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2" name=""/>
            <p:cNvGrpSpPr/>
            <p:nvPr/>
          </p:nvGrpSpPr>
          <p:grpSpPr>
            <a:xfrm>
              <a:off x="4781520" y="1945800"/>
              <a:ext cx="1453320" cy="530640"/>
              <a:chOff x="4781520" y="1945800"/>
              <a:chExt cx="1453320" cy="530640"/>
            </a:xfrm>
          </p:grpSpPr>
          <p:sp>
            <p:nvSpPr>
              <p:cNvPr id="643" name=""/>
              <p:cNvSpPr/>
              <p:nvPr/>
            </p:nvSpPr>
            <p:spPr>
              <a:xfrm>
                <a:off x="4792680" y="1953000"/>
                <a:ext cx="143064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5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4781520" y="1945800"/>
                <a:ext cx="145332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5" name=""/>
            <p:cNvGrpSpPr/>
            <p:nvPr/>
          </p:nvGrpSpPr>
          <p:grpSpPr>
            <a:xfrm>
              <a:off x="6235200" y="1945800"/>
              <a:ext cx="1453680" cy="530640"/>
              <a:chOff x="6235200" y="1945800"/>
              <a:chExt cx="1453680" cy="530640"/>
            </a:xfrm>
          </p:grpSpPr>
          <p:sp>
            <p:nvSpPr>
              <p:cNvPr id="646" name=""/>
              <p:cNvSpPr/>
              <p:nvPr/>
            </p:nvSpPr>
            <p:spPr>
              <a:xfrm>
                <a:off x="6246720" y="1953000"/>
                <a:ext cx="143064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235200" y="1945800"/>
                <a:ext cx="145368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8" name=""/>
            <p:cNvGrpSpPr/>
            <p:nvPr/>
          </p:nvGrpSpPr>
          <p:grpSpPr>
            <a:xfrm>
              <a:off x="7689600" y="1945800"/>
              <a:ext cx="1453680" cy="530640"/>
              <a:chOff x="7689600" y="1945800"/>
              <a:chExt cx="1453680" cy="530640"/>
            </a:xfrm>
          </p:grpSpPr>
          <p:sp>
            <p:nvSpPr>
              <p:cNvPr id="649" name=""/>
              <p:cNvSpPr/>
              <p:nvPr/>
            </p:nvSpPr>
            <p:spPr>
              <a:xfrm>
                <a:off x="7701120" y="1953000"/>
                <a:ext cx="143028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63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7689600" y="1945800"/>
                <a:ext cx="145368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1" name=""/>
            <p:cNvGrpSpPr/>
            <p:nvPr/>
          </p:nvGrpSpPr>
          <p:grpSpPr>
            <a:xfrm>
              <a:off x="0" y="2484000"/>
              <a:ext cx="713160" cy="530640"/>
              <a:chOff x="0" y="2484000"/>
              <a:chExt cx="713160" cy="530640"/>
            </a:xfrm>
          </p:grpSpPr>
          <p:sp>
            <p:nvSpPr>
              <p:cNvPr id="652" name=""/>
              <p:cNvSpPr/>
              <p:nvPr/>
            </p:nvSpPr>
            <p:spPr>
              <a:xfrm>
                <a:off x="11160" y="2491200"/>
                <a:ext cx="69048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6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0" y="2484000"/>
                <a:ext cx="71316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4" name=""/>
            <p:cNvGrpSpPr/>
            <p:nvPr/>
          </p:nvGrpSpPr>
          <p:grpSpPr>
            <a:xfrm>
              <a:off x="713520" y="2484000"/>
              <a:ext cx="1159200" cy="530640"/>
              <a:chOff x="713520" y="2484000"/>
              <a:chExt cx="1159200" cy="530640"/>
            </a:xfrm>
          </p:grpSpPr>
          <p:sp>
            <p:nvSpPr>
              <p:cNvPr id="655" name=""/>
              <p:cNvSpPr/>
              <p:nvPr/>
            </p:nvSpPr>
            <p:spPr>
              <a:xfrm>
                <a:off x="724680" y="2491200"/>
                <a:ext cx="113652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4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13520" y="2484000"/>
                <a:ext cx="115920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7" name=""/>
            <p:cNvGrpSpPr/>
            <p:nvPr/>
          </p:nvGrpSpPr>
          <p:grpSpPr>
            <a:xfrm>
              <a:off x="1873080" y="2484000"/>
              <a:ext cx="1453680" cy="530640"/>
              <a:chOff x="1873080" y="2484000"/>
              <a:chExt cx="1453680" cy="530640"/>
            </a:xfrm>
          </p:grpSpPr>
          <p:sp>
            <p:nvSpPr>
              <p:cNvPr id="658" name=""/>
              <p:cNvSpPr/>
              <p:nvPr/>
            </p:nvSpPr>
            <p:spPr>
              <a:xfrm>
                <a:off x="1884600" y="2491200"/>
                <a:ext cx="143028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9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1873080" y="2484000"/>
                <a:ext cx="145368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0" name=""/>
            <p:cNvGrpSpPr/>
            <p:nvPr/>
          </p:nvGrpSpPr>
          <p:grpSpPr>
            <a:xfrm>
              <a:off x="3327480" y="2484000"/>
              <a:ext cx="1453680" cy="530640"/>
              <a:chOff x="3327480" y="2484000"/>
              <a:chExt cx="1453680" cy="530640"/>
            </a:xfrm>
          </p:grpSpPr>
          <p:sp>
            <p:nvSpPr>
              <p:cNvPr id="661" name=""/>
              <p:cNvSpPr/>
              <p:nvPr/>
            </p:nvSpPr>
            <p:spPr>
              <a:xfrm>
                <a:off x="3338640" y="2491200"/>
                <a:ext cx="143064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3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3327480" y="2484000"/>
                <a:ext cx="145368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3" name=""/>
            <p:cNvGrpSpPr/>
            <p:nvPr/>
          </p:nvGrpSpPr>
          <p:grpSpPr>
            <a:xfrm>
              <a:off x="4781520" y="2484000"/>
              <a:ext cx="1453320" cy="530640"/>
              <a:chOff x="4781520" y="2484000"/>
              <a:chExt cx="1453320" cy="530640"/>
            </a:xfrm>
          </p:grpSpPr>
          <p:sp>
            <p:nvSpPr>
              <p:cNvPr id="664" name=""/>
              <p:cNvSpPr/>
              <p:nvPr/>
            </p:nvSpPr>
            <p:spPr>
              <a:xfrm>
                <a:off x="4792680" y="2491200"/>
                <a:ext cx="143064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8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4781520" y="2484000"/>
                <a:ext cx="145332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6" name=""/>
            <p:cNvGrpSpPr/>
            <p:nvPr/>
          </p:nvGrpSpPr>
          <p:grpSpPr>
            <a:xfrm>
              <a:off x="6235200" y="2484000"/>
              <a:ext cx="1453680" cy="530640"/>
              <a:chOff x="6235200" y="2484000"/>
              <a:chExt cx="1453680" cy="530640"/>
            </a:xfrm>
          </p:grpSpPr>
          <p:sp>
            <p:nvSpPr>
              <p:cNvPr id="667" name=""/>
              <p:cNvSpPr/>
              <p:nvPr/>
            </p:nvSpPr>
            <p:spPr>
              <a:xfrm>
                <a:off x="6246720" y="2491200"/>
                <a:ext cx="143064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8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235200" y="2484000"/>
                <a:ext cx="145368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9" name=""/>
            <p:cNvGrpSpPr/>
            <p:nvPr/>
          </p:nvGrpSpPr>
          <p:grpSpPr>
            <a:xfrm>
              <a:off x="7689600" y="2484000"/>
              <a:ext cx="1453680" cy="530640"/>
              <a:chOff x="7689600" y="2484000"/>
              <a:chExt cx="1453680" cy="530640"/>
            </a:xfrm>
          </p:grpSpPr>
          <p:sp>
            <p:nvSpPr>
              <p:cNvPr id="670" name=""/>
              <p:cNvSpPr/>
              <p:nvPr/>
            </p:nvSpPr>
            <p:spPr>
              <a:xfrm>
                <a:off x="7701120" y="2491200"/>
                <a:ext cx="143028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62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689600" y="2484000"/>
                <a:ext cx="145368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" name=""/>
            <p:cNvGrpSpPr/>
            <p:nvPr/>
          </p:nvGrpSpPr>
          <p:grpSpPr>
            <a:xfrm>
              <a:off x="0" y="3022200"/>
              <a:ext cx="713160" cy="530640"/>
              <a:chOff x="0" y="3022200"/>
              <a:chExt cx="713160" cy="530640"/>
            </a:xfrm>
          </p:grpSpPr>
          <p:sp>
            <p:nvSpPr>
              <p:cNvPr id="673" name=""/>
              <p:cNvSpPr/>
              <p:nvPr/>
            </p:nvSpPr>
            <p:spPr>
              <a:xfrm>
                <a:off x="11160" y="3029400"/>
                <a:ext cx="69048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7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0" y="3022200"/>
                <a:ext cx="71316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713520" y="3022200"/>
              <a:ext cx="1159200" cy="530640"/>
              <a:chOff x="713520" y="3022200"/>
              <a:chExt cx="1159200" cy="530640"/>
            </a:xfrm>
          </p:grpSpPr>
          <p:sp>
            <p:nvSpPr>
              <p:cNvPr id="676" name=""/>
              <p:cNvSpPr/>
              <p:nvPr/>
            </p:nvSpPr>
            <p:spPr>
              <a:xfrm>
                <a:off x="724680" y="3029400"/>
                <a:ext cx="113652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713520" y="3022200"/>
                <a:ext cx="115920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8" name=""/>
            <p:cNvGrpSpPr/>
            <p:nvPr/>
          </p:nvGrpSpPr>
          <p:grpSpPr>
            <a:xfrm>
              <a:off x="1873080" y="3022200"/>
              <a:ext cx="1453680" cy="530640"/>
              <a:chOff x="1873080" y="3022200"/>
              <a:chExt cx="1453680" cy="530640"/>
            </a:xfrm>
          </p:grpSpPr>
          <p:sp>
            <p:nvSpPr>
              <p:cNvPr id="679" name=""/>
              <p:cNvSpPr/>
              <p:nvPr/>
            </p:nvSpPr>
            <p:spPr>
              <a:xfrm>
                <a:off x="1884600" y="3029400"/>
                <a:ext cx="143028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6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1873080" y="3022200"/>
                <a:ext cx="145368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1" name=""/>
            <p:cNvGrpSpPr/>
            <p:nvPr/>
          </p:nvGrpSpPr>
          <p:grpSpPr>
            <a:xfrm>
              <a:off x="3327480" y="3022200"/>
              <a:ext cx="1453680" cy="530640"/>
              <a:chOff x="3327480" y="3022200"/>
              <a:chExt cx="1453680" cy="530640"/>
            </a:xfrm>
          </p:grpSpPr>
          <p:sp>
            <p:nvSpPr>
              <p:cNvPr id="682" name=""/>
              <p:cNvSpPr/>
              <p:nvPr/>
            </p:nvSpPr>
            <p:spPr>
              <a:xfrm>
                <a:off x="3338640" y="3029400"/>
                <a:ext cx="143064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5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3327480" y="3022200"/>
                <a:ext cx="145368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4" name=""/>
            <p:cNvGrpSpPr/>
            <p:nvPr/>
          </p:nvGrpSpPr>
          <p:grpSpPr>
            <a:xfrm>
              <a:off x="4781520" y="3022200"/>
              <a:ext cx="1453320" cy="530640"/>
              <a:chOff x="4781520" y="3022200"/>
              <a:chExt cx="1453320" cy="530640"/>
            </a:xfrm>
          </p:grpSpPr>
          <p:sp>
            <p:nvSpPr>
              <p:cNvPr id="685" name=""/>
              <p:cNvSpPr/>
              <p:nvPr/>
            </p:nvSpPr>
            <p:spPr>
              <a:xfrm>
                <a:off x="4792680" y="3029400"/>
                <a:ext cx="143064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6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4781520" y="3022200"/>
                <a:ext cx="145332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7" name=""/>
            <p:cNvGrpSpPr/>
            <p:nvPr/>
          </p:nvGrpSpPr>
          <p:grpSpPr>
            <a:xfrm>
              <a:off x="6235200" y="3022200"/>
              <a:ext cx="1453680" cy="530640"/>
              <a:chOff x="6235200" y="3022200"/>
              <a:chExt cx="1453680" cy="530640"/>
            </a:xfrm>
          </p:grpSpPr>
          <p:sp>
            <p:nvSpPr>
              <p:cNvPr id="688" name=""/>
              <p:cNvSpPr/>
              <p:nvPr/>
            </p:nvSpPr>
            <p:spPr>
              <a:xfrm>
                <a:off x="6246720" y="3029400"/>
                <a:ext cx="143064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6235200" y="3022200"/>
                <a:ext cx="145368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0" name=""/>
            <p:cNvGrpSpPr/>
            <p:nvPr/>
          </p:nvGrpSpPr>
          <p:grpSpPr>
            <a:xfrm>
              <a:off x="7689600" y="3022200"/>
              <a:ext cx="1453680" cy="530640"/>
              <a:chOff x="7689600" y="3022200"/>
              <a:chExt cx="1453680" cy="530640"/>
            </a:xfrm>
          </p:grpSpPr>
          <p:sp>
            <p:nvSpPr>
              <p:cNvPr id="691" name=""/>
              <p:cNvSpPr/>
              <p:nvPr/>
            </p:nvSpPr>
            <p:spPr>
              <a:xfrm>
                <a:off x="7701120" y="3029400"/>
                <a:ext cx="143028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8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7689600" y="3022200"/>
                <a:ext cx="145368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3" name=""/>
            <p:cNvGrpSpPr/>
            <p:nvPr/>
          </p:nvGrpSpPr>
          <p:grpSpPr>
            <a:xfrm>
              <a:off x="0" y="3560040"/>
              <a:ext cx="713160" cy="530640"/>
              <a:chOff x="0" y="3560040"/>
              <a:chExt cx="713160" cy="530640"/>
            </a:xfrm>
          </p:grpSpPr>
          <p:sp>
            <p:nvSpPr>
              <p:cNvPr id="694" name=""/>
              <p:cNvSpPr/>
              <p:nvPr/>
            </p:nvSpPr>
            <p:spPr>
              <a:xfrm>
                <a:off x="11160" y="3567240"/>
                <a:ext cx="69048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8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0" y="3560040"/>
                <a:ext cx="71316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6" name=""/>
            <p:cNvGrpSpPr/>
            <p:nvPr/>
          </p:nvGrpSpPr>
          <p:grpSpPr>
            <a:xfrm>
              <a:off x="713520" y="3560040"/>
              <a:ext cx="1159200" cy="530640"/>
              <a:chOff x="713520" y="3560040"/>
              <a:chExt cx="1159200" cy="530640"/>
            </a:xfrm>
          </p:grpSpPr>
          <p:sp>
            <p:nvSpPr>
              <p:cNvPr id="697" name=""/>
              <p:cNvSpPr/>
              <p:nvPr/>
            </p:nvSpPr>
            <p:spPr>
              <a:xfrm>
                <a:off x="724680" y="3567240"/>
                <a:ext cx="113652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713520" y="3560040"/>
                <a:ext cx="115920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"/>
            <p:cNvGrpSpPr/>
            <p:nvPr/>
          </p:nvGrpSpPr>
          <p:grpSpPr>
            <a:xfrm>
              <a:off x="1873080" y="3560040"/>
              <a:ext cx="1453680" cy="530640"/>
              <a:chOff x="1873080" y="3560040"/>
              <a:chExt cx="1453680" cy="530640"/>
            </a:xfrm>
          </p:grpSpPr>
          <p:sp>
            <p:nvSpPr>
              <p:cNvPr id="700" name=""/>
              <p:cNvSpPr/>
              <p:nvPr/>
            </p:nvSpPr>
            <p:spPr>
              <a:xfrm>
                <a:off x="1884600" y="3567240"/>
                <a:ext cx="143028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4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1873080" y="3560040"/>
                <a:ext cx="145368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2" name=""/>
            <p:cNvGrpSpPr/>
            <p:nvPr/>
          </p:nvGrpSpPr>
          <p:grpSpPr>
            <a:xfrm>
              <a:off x="3327480" y="3560040"/>
              <a:ext cx="1453680" cy="530640"/>
              <a:chOff x="3327480" y="3560040"/>
              <a:chExt cx="1453680" cy="530640"/>
            </a:xfrm>
          </p:grpSpPr>
          <p:sp>
            <p:nvSpPr>
              <p:cNvPr id="703" name=""/>
              <p:cNvSpPr/>
              <p:nvPr/>
            </p:nvSpPr>
            <p:spPr>
              <a:xfrm>
                <a:off x="3338640" y="3567240"/>
                <a:ext cx="143064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7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3327480" y="3560040"/>
                <a:ext cx="145368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5" name=""/>
            <p:cNvGrpSpPr/>
            <p:nvPr/>
          </p:nvGrpSpPr>
          <p:grpSpPr>
            <a:xfrm>
              <a:off x="4781520" y="3560040"/>
              <a:ext cx="1453320" cy="530640"/>
              <a:chOff x="4781520" y="3560040"/>
              <a:chExt cx="1453320" cy="530640"/>
            </a:xfrm>
          </p:grpSpPr>
          <p:sp>
            <p:nvSpPr>
              <p:cNvPr id="706" name=""/>
              <p:cNvSpPr/>
              <p:nvPr/>
            </p:nvSpPr>
            <p:spPr>
              <a:xfrm>
                <a:off x="4792680" y="3567240"/>
                <a:ext cx="143064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4781520" y="3560040"/>
                <a:ext cx="145332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8" name=""/>
            <p:cNvGrpSpPr/>
            <p:nvPr/>
          </p:nvGrpSpPr>
          <p:grpSpPr>
            <a:xfrm>
              <a:off x="6235200" y="3560040"/>
              <a:ext cx="1453680" cy="530640"/>
              <a:chOff x="6235200" y="3560040"/>
              <a:chExt cx="1453680" cy="530640"/>
            </a:xfrm>
          </p:grpSpPr>
          <p:sp>
            <p:nvSpPr>
              <p:cNvPr id="709" name=""/>
              <p:cNvSpPr/>
              <p:nvPr/>
            </p:nvSpPr>
            <p:spPr>
              <a:xfrm>
                <a:off x="6246720" y="3567240"/>
                <a:ext cx="143064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2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6235200" y="3560040"/>
                <a:ext cx="145368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1" name=""/>
            <p:cNvGrpSpPr/>
            <p:nvPr/>
          </p:nvGrpSpPr>
          <p:grpSpPr>
            <a:xfrm>
              <a:off x="7689600" y="3560040"/>
              <a:ext cx="1453680" cy="530640"/>
              <a:chOff x="7689600" y="3560040"/>
              <a:chExt cx="1453680" cy="530640"/>
            </a:xfrm>
          </p:grpSpPr>
          <p:sp>
            <p:nvSpPr>
              <p:cNvPr id="712" name=""/>
              <p:cNvSpPr/>
              <p:nvPr/>
            </p:nvSpPr>
            <p:spPr>
              <a:xfrm>
                <a:off x="7701120" y="3567240"/>
                <a:ext cx="143028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4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689600" y="3560040"/>
                <a:ext cx="145368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4" name=""/>
            <p:cNvGrpSpPr/>
            <p:nvPr/>
          </p:nvGrpSpPr>
          <p:grpSpPr>
            <a:xfrm>
              <a:off x="0" y="4098240"/>
              <a:ext cx="713160" cy="530640"/>
              <a:chOff x="0" y="4098240"/>
              <a:chExt cx="713160" cy="530640"/>
            </a:xfrm>
          </p:grpSpPr>
          <p:sp>
            <p:nvSpPr>
              <p:cNvPr id="715" name=""/>
              <p:cNvSpPr/>
              <p:nvPr/>
            </p:nvSpPr>
            <p:spPr>
              <a:xfrm>
                <a:off x="11160" y="4105440"/>
                <a:ext cx="69048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0" y="4098240"/>
                <a:ext cx="71316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7" name=""/>
            <p:cNvGrpSpPr/>
            <p:nvPr/>
          </p:nvGrpSpPr>
          <p:grpSpPr>
            <a:xfrm>
              <a:off x="713520" y="4098240"/>
              <a:ext cx="1159200" cy="530640"/>
              <a:chOff x="713520" y="4098240"/>
              <a:chExt cx="1159200" cy="530640"/>
            </a:xfrm>
          </p:grpSpPr>
          <p:sp>
            <p:nvSpPr>
              <p:cNvPr id="718" name=""/>
              <p:cNvSpPr/>
              <p:nvPr/>
            </p:nvSpPr>
            <p:spPr>
              <a:xfrm>
                <a:off x="724680" y="4105440"/>
                <a:ext cx="113652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13520" y="4098240"/>
                <a:ext cx="115920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0" name=""/>
            <p:cNvGrpSpPr/>
            <p:nvPr/>
          </p:nvGrpSpPr>
          <p:grpSpPr>
            <a:xfrm>
              <a:off x="1873080" y="4098240"/>
              <a:ext cx="1453680" cy="530640"/>
              <a:chOff x="1873080" y="4098240"/>
              <a:chExt cx="1453680" cy="530640"/>
            </a:xfrm>
          </p:grpSpPr>
          <p:sp>
            <p:nvSpPr>
              <p:cNvPr id="721" name=""/>
              <p:cNvSpPr/>
              <p:nvPr/>
            </p:nvSpPr>
            <p:spPr>
              <a:xfrm>
                <a:off x="1884600" y="4105440"/>
                <a:ext cx="143028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4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1873080" y="4098240"/>
                <a:ext cx="145368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3327480" y="4098240"/>
              <a:ext cx="1453680" cy="530640"/>
              <a:chOff x="3327480" y="4098240"/>
              <a:chExt cx="1453680" cy="530640"/>
            </a:xfrm>
          </p:grpSpPr>
          <p:sp>
            <p:nvSpPr>
              <p:cNvPr id="724" name=""/>
              <p:cNvSpPr/>
              <p:nvPr/>
            </p:nvSpPr>
            <p:spPr>
              <a:xfrm>
                <a:off x="3338640" y="4105440"/>
                <a:ext cx="143064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8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3327480" y="4098240"/>
                <a:ext cx="145368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4781520" y="4098240"/>
              <a:ext cx="1453320" cy="530640"/>
              <a:chOff x="4781520" y="4098240"/>
              <a:chExt cx="1453320" cy="530640"/>
            </a:xfrm>
          </p:grpSpPr>
          <p:sp>
            <p:nvSpPr>
              <p:cNvPr id="727" name=""/>
              <p:cNvSpPr/>
              <p:nvPr/>
            </p:nvSpPr>
            <p:spPr>
              <a:xfrm>
                <a:off x="4792680" y="4105440"/>
                <a:ext cx="143064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4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4781520" y="4098240"/>
                <a:ext cx="145332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9" name=""/>
            <p:cNvGrpSpPr/>
            <p:nvPr/>
          </p:nvGrpSpPr>
          <p:grpSpPr>
            <a:xfrm>
              <a:off x="6235200" y="4098240"/>
              <a:ext cx="1453680" cy="530640"/>
              <a:chOff x="6235200" y="4098240"/>
              <a:chExt cx="1453680" cy="530640"/>
            </a:xfrm>
          </p:grpSpPr>
          <p:sp>
            <p:nvSpPr>
              <p:cNvPr id="730" name=""/>
              <p:cNvSpPr/>
              <p:nvPr/>
            </p:nvSpPr>
            <p:spPr>
              <a:xfrm>
                <a:off x="6246720" y="4105440"/>
                <a:ext cx="143064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6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6235200" y="4098240"/>
                <a:ext cx="145368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2" name=""/>
            <p:cNvGrpSpPr/>
            <p:nvPr/>
          </p:nvGrpSpPr>
          <p:grpSpPr>
            <a:xfrm>
              <a:off x="7689600" y="4098240"/>
              <a:ext cx="1453680" cy="530640"/>
              <a:chOff x="7689600" y="4098240"/>
              <a:chExt cx="1453680" cy="530640"/>
            </a:xfrm>
          </p:grpSpPr>
          <p:sp>
            <p:nvSpPr>
              <p:cNvPr id="733" name=""/>
              <p:cNvSpPr/>
              <p:nvPr/>
            </p:nvSpPr>
            <p:spPr>
              <a:xfrm>
                <a:off x="7701120" y="4105440"/>
                <a:ext cx="143028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2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7689600" y="4098240"/>
                <a:ext cx="145368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5" name=""/>
            <p:cNvGrpSpPr/>
            <p:nvPr/>
          </p:nvGrpSpPr>
          <p:grpSpPr>
            <a:xfrm>
              <a:off x="0" y="4636440"/>
              <a:ext cx="713160" cy="530640"/>
              <a:chOff x="0" y="4636440"/>
              <a:chExt cx="713160" cy="530640"/>
            </a:xfrm>
          </p:grpSpPr>
          <p:sp>
            <p:nvSpPr>
              <p:cNvPr id="736" name=""/>
              <p:cNvSpPr/>
              <p:nvPr/>
            </p:nvSpPr>
            <p:spPr>
              <a:xfrm>
                <a:off x="11160" y="4643640"/>
                <a:ext cx="69048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8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0" y="4636440"/>
                <a:ext cx="71316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8" name=""/>
            <p:cNvGrpSpPr/>
            <p:nvPr/>
          </p:nvGrpSpPr>
          <p:grpSpPr>
            <a:xfrm>
              <a:off x="713520" y="4636440"/>
              <a:ext cx="1159200" cy="530640"/>
              <a:chOff x="713520" y="4636440"/>
              <a:chExt cx="1159200" cy="530640"/>
            </a:xfrm>
          </p:grpSpPr>
          <p:sp>
            <p:nvSpPr>
              <p:cNvPr id="739" name=""/>
              <p:cNvSpPr/>
              <p:nvPr/>
            </p:nvSpPr>
            <p:spPr>
              <a:xfrm>
                <a:off x="724680" y="4643640"/>
                <a:ext cx="113652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13520" y="4636440"/>
                <a:ext cx="115920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1" name=""/>
            <p:cNvGrpSpPr/>
            <p:nvPr/>
          </p:nvGrpSpPr>
          <p:grpSpPr>
            <a:xfrm>
              <a:off x="1873080" y="4636440"/>
              <a:ext cx="1453680" cy="530640"/>
              <a:chOff x="1873080" y="4636440"/>
              <a:chExt cx="1453680" cy="530640"/>
            </a:xfrm>
          </p:grpSpPr>
          <p:sp>
            <p:nvSpPr>
              <p:cNvPr id="742" name=""/>
              <p:cNvSpPr/>
              <p:nvPr/>
            </p:nvSpPr>
            <p:spPr>
              <a:xfrm>
                <a:off x="1884600" y="4643640"/>
                <a:ext cx="143028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1873080" y="4636440"/>
                <a:ext cx="145368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4" name=""/>
            <p:cNvGrpSpPr/>
            <p:nvPr/>
          </p:nvGrpSpPr>
          <p:grpSpPr>
            <a:xfrm>
              <a:off x="3327480" y="4636440"/>
              <a:ext cx="1453680" cy="530640"/>
              <a:chOff x="3327480" y="4636440"/>
              <a:chExt cx="1453680" cy="530640"/>
            </a:xfrm>
          </p:grpSpPr>
          <p:sp>
            <p:nvSpPr>
              <p:cNvPr id="745" name=""/>
              <p:cNvSpPr/>
              <p:nvPr/>
            </p:nvSpPr>
            <p:spPr>
              <a:xfrm>
                <a:off x="3338640" y="4643640"/>
                <a:ext cx="143064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6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3327480" y="4636440"/>
                <a:ext cx="145368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7" name=""/>
            <p:cNvGrpSpPr/>
            <p:nvPr/>
          </p:nvGrpSpPr>
          <p:grpSpPr>
            <a:xfrm>
              <a:off x="4781520" y="4636440"/>
              <a:ext cx="1453320" cy="530640"/>
              <a:chOff x="4781520" y="4636440"/>
              <a:chExt cx="1453320" cy="530640"/>
            </a:xfrm>
          </p:grpSpPr>
          <p:sp>
            <p:nvSpPr>
              <p:cNvPr id="748" name=""/>
              <p:cNvSpPr/>
              <p:nvPr/>
            </p:nvSpPr>
            <p:spPr>
              <a:xfrm>
                <a:off x="4792680" y="4643640"/>
                <a:ext cx="143064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4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4781520" y="4636440"/>
                <a:ext cx="145332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0" name=""/>
            <p:cNvGrpSpPr/>
            <p:nvPr/>
          </p:nvGrpSpPr>
          <p:grpSpPr>
            <a:xfrm>
              <a:off x="6235200" y="4636440"/>
              <a:ext cx="1453680" cy="530640"/>
              <a:chOff x="6235200" y="4636440"/>
              <a:chExt cx="1453680" cy="530640"/>
            </a:xfrm>
          </p:grpSpPr>
          <p:sp>
            <p:nvSpPr>
              <p:cNvPr id="751" name=""/>
              <p:cNvSpPr/>
              <p:nvPr/>
            </p:nvSpPr>
            <p:spPr>
              <a:xfrm>
                <a:off x="6246720" y="4643640"/>
                <a:ext cx="143064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6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6235200" y="4636440"/>
                <a:ext cx="145368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3" name=""/>
            <p:cNvGrpSpPr/>
            <p:nvPr/>
          </p:nvGrpSpPr>
          <p:grpSpPr>
            <a:xfrm>
              <a:off x="7689600" y="4636440"/>
              <a:ext cx="1453680" cy="530640"/>
              <a:chOff x="7689600" y="4636440"/>
              <a:chExt cx="1453680" cy="530640"/>
            </a:xfrm>
          </p:grpSpPr>
          <p:sp>
            <p:nvSpPr>
              <p:cNvPr id="754" name=""/>
              <p:cNvSpPr/>
              <p:nvPr/>
            </p:nvSpPr>
            <p:spPr>
              <a:xfrm>
                <a:off x="7701120" y="4643640"/>
                <a:ext cx="143028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9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7689600" y="4636440"/>
                <a:ext cx="145368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6" name=""/>
            <p:cNvGrpSpPr/>
            <p:nvPr/>
          </p:nvGrpSpPr>
          <p:grpSpPr>
            <a:xfrm>
              <a:off x="0" y="5174640"/>
              <a:ext cx="713160" cy="530640"/>
              <a:chOff x="0" y="5174640"/>
              <a:chExt cx="713160" cy="530640"/>
            </a:xfrm>
          </p:grpSpPr>
          <p:sp>
            <p:nvSpPr>
              <p:cNvPr id="757" name=""/>
              <p:cNvSpPr/>
              <p:nvPr/>
            </p:nvSpPr>
            <p:spPr>
              <a:xfrm>
                <a:off x="11160" y="5181840"/>
                <a:ext cx="69048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 u="sng">
                    <a:solidFill>
                      <a:srgbClr val="ffffff"/>
                    </a:solidFill>
                    <a:uFillTx/>
                    <a:latin typeface="Arial"/>
                    <a:ea typeface="Arial"/>
                  </a:rPr>
                  <a:t>19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0" y="5174640"/>
                <a:ext cx="71316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9" name=""/>
            <p:cNvGrpSpPr/>
            <p:nvPr/>
          </p:nvGrpSpPr>
          <p:grpSpPr>
            <a:xfrm>
              <a:off x="713520" y="5174640"/>
              <a:ext cx="1159200" cy="530640"/>
              <a:chOff x="713520" y="5174640"/>
              <a:chExt cx="1159200" cy="530640"/>
            </a:xfrm>
          </p:grpSpPr>
          <p:sp>
            <p:nvSpPr>
              <p:cNvPr id="760" name=""/>
              <p:cNvSpPr/>
              <p:nvPr/>
            </p:nvSpPr>
            <p:spPr>
              <a:xfrm>
                <a:off x="724680" y="5181840"/>
                <a:ext cx="113652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 u="sng">
                    <a:solidFill>
                      <a:srgbClr val="ffffff"/>
                    </a:solidFill>
                    <a:uFillTx/>
                    <a:latin typeface="Arial"/>
                    <a:ea typeface="Arial"/>
                  </a:rPr>
                  <a:t>5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13520" y="5174640"/>
                <a:ext cx="115920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2" name=""/>
            <p:cNvGrpSpPr/>
            <p:nvPr/>
          </p:nvGrpSpPr>
          <p:grpSpPr>
            <a:xfrm>
              <a:off x="1873080" y="5174640"/>
              <a:ext cx="1453680" cy="530640"/>
              <a:chOff x="1873080" y="5174640"/>
              <a:chExt cx="1453680" cy="530640"/>
            </a:xfrm>
          </p:grpSpPr>
          <p:sp>
            <p:nvSpPr>
              <p:cNvPr id="763" name=""/>
              <p:cNvSpPr/>
              <p:nvPr/>
            </p:nvSpPr>
            <p:spPr>
              <a:xfrm>
                <a:off x="1884600" y="5181840"/>
                <a:ext cx="143028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 u="sng">
                    <a:solidFill>
                      <a:srgbClr val="ffffff"/>
                    </a:solidFill>
                    <a:uFillTx/>
                    <a:latin typeface="Arial"/>
                    <a:ea typeface="Arial"/>
                  </a:rPr>
                  <a:t>5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1873080" y="5174640"/>
                <a:ext cx="145368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5" name=""/>
            <p:cNvGrpSpPr/>
            <p:nvPr/>
          </p:nvGrpSpPr>
          <p:grpSpPr>
            <a:xfrm>
              <a:off x="3327480" y="5174640"/>
              <a:ext cx="1453680" cy="530640"/>
              <a:chOff x="3327480" y="5174640"/>
              <a:chExt cx="1453680" cy="530640"/>
            </a:xfrm>
          </p:grpSpPr>
          <p:sp>
            <p:nvSpPr>
              <p:cNvPr id="766" name=""/>
              <p:cNvSpPr/>
              <p:nvPr/>
            </p:nvSpPr>
            <p:spPr>
              <a:xfrm>
                <a:off x="3338640" y="5181840"/>
                <a:ext cx="143064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 u="sng">
                    <a:solidFill>
                      <a:srgbClr val="ffffff"/>
                    </a:solidFill>
                    <a:uFillTx/>
                    <a:latin typeface="Arial"/>
                    <a:ea typeface="Arial"/>
                  </a:rPr>
                  <a:t>7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3327480" y="5174640"/>
                <a:ext cx="145368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8" name=""/>
            <p:cNvGrpSpPr/>
            <p:nvPr/>
          </p:nvGrpSpPr>
          <p:grpSpPr>
            <a:xfrm>
              <a:off x="4781520" y="5174640"/>
              <a:ext cx="1453320" cy="530640"/>
              <a:chOff x="4781520" y="5174640"/>
              <a:chExt cx="1453320" cy="530640"/>
            </a:xfrm>
          </p:grpSpPr>
          <p:sp>
            <p:nvSpPr>
              <p:cNvPr id="769" name=""/>
              <p:cNvSpPr/>
              <p:nvPr/>
            </p:nvSpPr>
            <p:spPr>
              <a:xfrm>
                <a:off x="4792680" y="5181840"/>
                <a:ext cx="143064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 u="sng">
                    <a:solidFill>
                      <a:srgbClr val="ffffff"/>
                    </a:solidFill>
                    <a:uFillTx/>
                    <a:latin typeface="Arial"/>
                    <a:ea typeface="Arial"/>
                  </a:rPr>
                  <a:t>9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4781520" y="5174640"/>
                <a:ext cx="145332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1" name=""/>
            <p:cNvGrpSpPr/>
            <p:nvPr/>
          </p:nvGrpSpPr>
          <p:grpSpPr>
            <a:xfrm>
              <a:off x="6235200" y="5174640"/>
              <a:ext cx="1453680" cy="530640"/>
              <a:chOff x="6235200" y="5174640"/>
              <a:chExt cx="1453680" cy="530640"/>
            </a:xfrm>
          </p:grpSpPr>
          <p:sp>
            <p:nvSpPr>
              <p:cNvPr id="772" name=""/>
              <p:cNvSpPr/>
              <p:nvPr/>
            </p:nvSpPr>
            <p:spPr>
              <a:xfrm>
                <a:off x="6246720" y="5181840"/>
                <a:ext cx="143064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 u="sng">
                    <a:solidFill>
                      <a:srgbClr val="ffffff"/>
                    </a:solidFill>
                    <a:uFillTx/>
                    <a:latin typeface="Arial"/>
                    <a:ea typeface="Arial"/>
                  </a:rPr>
                  <a:t>8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6235200" y="5174640"/>
                <a:ext cx="145368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7689600" y="5174640"/>
              <a:ext cx="1453680" cy="530640"/>
              <a:chOff x="7689600" y="5174640"/>
              <a:chExt cx="1453680" cy="530640"/>
            </a:xfrm>
          </p:grpSpPr>
          <p:sp>
            <p:nvSpPr>
              <p:cNvPr id="775" name=""/>
              <p:cNvSpPr/>
              <p:nvPr/>
            </p:nvSpPr>
            <p:spPr>
              <a:xfrm>
                <a:off x="7701120" y="5181840"/>
                <a:ext cx="143028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 u="sng">
                    <a:solidFill>
                      <a:srgbClr val="ffffff"/>
                    </a:solidFill>
                    <a:uFillTx/>
                    <a:latin typeface="Arial"/>
                    <a:ea typeface="Arial"/>
                  </a:rPr>
                  <a:t>34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89600" y="5174640"/>
                <a:ext cx="145368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0" y="5712840"/>
              <a:ext cx="713160" cy="530640"/>
              <a:chOff x="0" y="5712840"/>
              <a:chExt cx="713160" cy="530640"/>
            </a:xfrm>
          </p:grpSpPr>
          <p:sp>
            <p:nvSpPr>
              <p:cNvPr id="778" name=""/>
              <p:cNvSpPr/>
              <p:nvPr/>
            </p:nvSpPr>
            <p:spPr>
              <a:xfrm>
                <a:off x="11160" y="5720040"/>
                <a:ext cx="69048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0" y="5712840"/>
                <a:ext cx="71316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713520" y="5712840"/>
              <a:ext cx="1159200" cy="530640"/>
              <a:chOff x="713520" y="5712840"/>
              <a:chExt cx="1159200" cy="530640"/>
            </a:xfrm>
          </p:grpSpPr>
          <p:sp>
            <p:nvSpPr>
              <p:cNvPr id="781" name=""/>
              <p:cNvSpPr/>
              <p:nvPr/>
            </p:nvSpPr>
            <p:spPr>
              <a:xfrm>
                <a:off x="724680" y="5720040"/>
                <a:ext cx="113652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13520" y="5712840"/>
                <a:ext cx="115920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3" name=""/>
            <p:cNvGrpSpPr/>
            <p:nvPr/>
          </p:nvGrpSpPr>
          <p:grpSpPr>
            <a:xfrm>
              <a:off x="1873080" y="5712840"/>
              <a:ext cx="1453680" cy="530640"/>
              <a:chOff x="1873080" y="5712840"/>
              <a:chExt cx="1453680" cy="530640"/>
            </a:xfrm>
          </p:grpSpPr>
          <p:sp>
            <p:nvSpPr>
              <p:cNvPr id="784" name=""/>
              <p:cNvSpPr/>
              <p:nvPr/>
            </p:nvSpPr>
            <p:spPr>
              <a:xfrm>
                <a:off x="1884600" y="5720040"/>
                <a:ext cx="143028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1873080" y="5712840"/>
                <a:ext cx="145368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6" name=""/>
            <p:cNvGrpSpPr/>
            <p:nvPr/>
          </p:nvGrpSpPr>
          <p:grpSpPr>
            <a:xfrm>
              <a:off x="3327480" y="5712840"/>
              <a:ext cx="1453680" cy="530640"/>
              <a:chOff x="3327480" y="5712840"/>
              <a:chExt cx="1453680" cy="530640"/>
            </a:xfrm>
          </p:grpSpPr>
          <p:sp>
            <p:nvSpPr>
              <p:cNvPr id="787" name=""/>
              <p:cNvSpPr/>
              <p:nvPr/>
            </p:nvSpPr>
            <p:spPr>
              <a:xfrm>
                <a:off x="3338640" y="5720040"/>
                <a:ext cx="143064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5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3327480" y="5712840"/>
                <a:ext cx="145368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9" name=""/>
            <p:cNvGrpSpPr/>
            <p:nvPr/>
          </p:nvGrpSpPr>
          <p:grpSpPr>
            <a:xfrm>
              <a:off x="4781520" y="5712840"/>
              <a:ext cx="1453320" cy="530640"/>
              <a:chOff x="4781520" y="5712840"/>
              <a:chExt cx="1453320" cy="530640"/>
            </a:xfrm>
          </p:grpSpPr>
          <p:sp>
            <p:nvSpPr>
              <p:cNvPr id="790" name=""/>
              <p:cNvSpPr/>
              <p:nvPr/>
            </p:nvSpPr>
            <p:spPr>
              <a:xfrm>
                <a:off x="4792680" y="5720040"/>
                <a:ext cx="143064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4781520" y="5712840"/>
                <a:ext cx="145332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2" name=""/>
            <p:cNvGrpSpPr/>
            <p:nvPr/>
          </p:nvGrpSpPr>
          <p:grpSpPr>
            <a:xfrm>
              <a:off x="6235200" y="5712840"/>
              <a:ext cx="1453680" cy="530640"/>
              <a:chOff x="6235200" y="5712840"/>
              <a:chExt cx="1453680" cy="530640"/>
            </a:xfrm>
          </p:grpSpPr>
          <p:sp>
            <p:nvSpPr>
              <p:cNvPr id="793" name=""/>
              <p:cNvSpPr/>
              <p:nvPr/>
            </p:nvSpPr>
            <p:spPr>
              <a:xfrm>
                <a:off x="6246720" y="5720040"/>
                <a:ext cx="143064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7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6235200" y="5712840"/>
                <a:ext cx="145368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5" name=""/>
            <p:cNvGrpSpPr/>
            <p:nvPr/>
          </p:nvGrpSpPr>
          <p:grpSpPr>
            <a:xfrm>
              <a:off x="7689600" y="5712840"/>
              <a:ext cx="1453680" cy="530640"/>
              <a:chOff x="7689600" y="5712840"/>
              <a:chExt cx="1453680" cy="530640"/>
            </a:xfrm>
          </p:grpSpPr>
          <p:sp>
            <p:nvSpPr>
              <p:cNvPr id="796" name=""/>
              <p:cNvSpPr/>
              <p:nvPr/>
            </p:nvSpPr>
            <p:spPr>
              <a:xfrm>
                <a:off x="7701120" y="5720040"/>
                <a:ext cx="143028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5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89600" y="5712840"/>
                <a:ext cx="145368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8" name=""/>
            <p:cNvGrpSpPr/>
            <p:nvPr/>
          </p:nvGrpSpPr>
          <p:grpSpPr>
            <a:xfrm>
              <a:off x="0" y="6250680"/>
              <a:ext cx="713160" cy="530640"/>
              <a:chOff x="0" y="6250680"/>
              <a:chExt cx="713160" cy="530640"/>
            </a:xfrm>
          </p:grpSpPr>
          <p:sp>
            <p:nvSpPr>
              <p:cNvPr id="799" name=""/>
              <p:cNvSpPr/>
              <p:nvPr/>
            </p:nvSpPr>
            <p:spPr>
              <a:xfrm>
                <a:off x="11160" y="6257880"/>
                <a:ext cx="69048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2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0" y="6250680"/>
                <a:ext cx="71316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1" name=""/>
            <p:cNvGrpSpPr/>
            <p:nvPr/>
          </p:nvGrpSpPr>
          <p:grpSpPr>
            <a:xfrm>
              <a:off x="713520" y="6250680"/>
              <a:ext cx="1159200" cy="530640"/>
              <a:chOff x="713520" y="6250680"/>
              <a:chExt cx="1159200" cy="530640"/>
            </a:xfrm>
          </p:grpSpPr>
          <p:sp>
            <p:nvSpPr>
              <p:cNvPr id="802" name=""/>
              <p:cNvSpPr/>
              <p:nvPr/>
            </p:nvSpPr>
            <p:spPr>
              <a:xfrm>
                <a:off x="724680" y="6257880"/>
                <a:ext cx="113652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713520" y="6250680"/>
                <a:ext cx="115920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4" name=""/>
            <p:cNvGrpSpPr/>
            <p:nvPr/>
          </p:nvGrpSpPr>
          <p:grpSpPr>
            <a:xfrm>
              <a:off x="1873080" y="6250680"/>
              <a:ext cx="1453680" cy="530640"/>
              <a:chOff x="1873080" y="6250680"/>
              <a:chExt cx="1453680" cy="530640"/>
            </a:xfrm>
          </p:grpSpPr>
          <p:sp>
            <p:nvSpPr>
              <p:cNvPr id="805" name=""/>
              <p:cNvSpPr/>
              <p:nvPr/>
            </p:nvSpPr>
            <p:spPr>
              <a:xfrm>
                <a:off x="1884600" y="6257880"/>
                <a:ext cx="143028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4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1873080" y="6250680"/>
                <a:ext cx="145368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7" name=""/>
            <p:cNvGrpSpPr/>
            <p:nvPr/>
          </p:nvGrpSpPr>
          <p:grpSpPr>
            <a:xfrm>
              <a:off x="3327480" y="6250680"/>
              <a:ext cx="1453680" cy="530640"/>
              <a:chOff x="3327480" y="6250680"/>
              <a:chExt cx="1453680" cy="530640"/>
            </a:xfrm>
          </p:grpSpPr>
          <p:sp>
            <p:nvSpPr>
              <p:cNvPr id="808" name=""/>
              <p:cNvSpPr/>
              <p:nvPr/>
            </p:nvSpPr>
            <p:spPr>
              <a:xfrm>
                <a:off x="3338640" y="6257880"/>
                <a:ext cx="143064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3327480" y="6250680"/>
                <a:ext cx="145368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0" name=""/>
            <p:cNvGrpSpPr/>
            <p:nvPr/>
          </p:nvGrpSpPr>
          <p:grpSpPr>
            <a:xfrm>
              <a:off x="4781520" y="6250680"/>
              <a:ext cx="1453320" cy="530640"/>
              <a:chOff x="4781520" y="6250680"/>
              <a:chExt cx="1453320" cy="530640"/>
            </a:xfrm>
          </p:grpSpPr>
          <p:sp>
            <p:nvSpPr>
              <p:cNvPr id="811" name=""/>
              <p:cNvSpPr/>
              <p:nvPr/>
            </p:nvSpPr>
            <p:spPr>
              <a:xfrm>
                <a:off x="4792680" y="6257880"/>
                <a:ext cx="143064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4781520" y="6250680"/>
                <a:ext cx="145332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3" name=""/>
            <p:cNvGrpSpPr/>
            <p:nvPr/>
          </p:nvGrpSpPr>
          <p:grpSpPr>
            <a:xfrm>
              <a:off x="6235200" y="6250680"/>
              <a:ext cx="1453680" cy="530640"/>
              <a:chOff x="6235200" y="6250680"/>
              <a:chExt cx="1453680" cy="530640"/>
            </a:xfrm>
          </p:grpSpPr>
          <p:sp>
            <p:nvSpPr>
              <p:cNvPr id="814" name=""/>
              <p:cNvSpPr/>
              <p:nvPr/>
            </p:nvSpPr>
            <p:spPr>
              <a:xfrm>
                <a:off x="6246720" y="6257880"/>
                <a:ext cx="143064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3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6235200" y="6250680"/>
                <a:ext cx="145368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6" name=""/>
            <p:cNvGrpSpPr/>
            <p:nvPr/>
          </p:nvGrpSpPr>
          <p:grpSpPr>
            <a:xfrm>
              <a:off x="7689600" y="6250680"/>
              <a:ext cx="1453680" cy="530640"/>
              <a:chOff x="7689600" y="6250680"/>
              <a:chExt cx="1453680" cy="530640"/>
            </a:xfrm>
          </p:grpSpPr>
          <p:sp>
            <p:nvSpPr>
              <p:cNvPr id="817" name=""/>
              <p:cNvSpPr/>
              <p:nvPr/>
            </p:nvSpPr>
            <p:spPr>
              <a:xfrm>
                <a:off x="7701120" y="6257880"/>
                <a:ext cx="143028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7689600" y="6250680"/>
                <a:ext cx="145368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严明纪律</a:t>
            </a:r>
            <a:r>
              <a:rPr b="1" i="1" lang="zh-CN" sz="6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i="1" lang="zh-CN" sz="6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规范管理</a:t>
            </a:r>
            <a:r>
              <a:rPr b="1" i="1" lang="zh-CN" sz="6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形成意识</a:t>
            </a:r>
            <a:r>
              <a:rPr b="1" i="1" lang="zh-CN" sz="6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i="1" lang="zh-CN" sz="6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养成习惯</a:t>
            </a:r>
            <a:r>
              <a:rPr b="1" i="1" lang="zh-CN" sz="6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zh-CN" sz="54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我们的孩子决不缺乏聪明才智</a:t>
            </a:r>
            <a:r>
              <a:rPr b="1" lang="zh-CN" sz="54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,</a:t>
            </a:r>
            <a:r>
              <a:rPr b="1" lang="zh-CN" sz="54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缺的是</a:t>
            </a:r>
            <a:r>
              <a:rPr b="1" i="1" lang="zh-CN" sz="54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好行为</a:t>
            </a:r>
            <a:r>
              <a:rPr b="1" i="1" lang="zh-CN" sz="54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,</a:t>
            </a:r>
            <a:r>
              <a:rPr b="1" i="1" lang="zh-CN" sz="54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好习惯</a:t>
            </a:r>
            <a:r>
              <a:rPr b="1" i="1" lang="zh-CN" sz="54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:</a:t>
            </a:r>
            <a:br>
              <a:rPr sz="5400"/>
            </a:b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20" name=""/>
          <p:cNvSpPr txBox="1"/>
          <p:nvPr/>
        </p:nvSpPr>
        <p:spPr>
          <a:xfrm>
            <a:off x="304560" y="2387520"/>
            <a:ext cx="8458200" cy="44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听课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专注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集中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积极思考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反应热烈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做笔记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边听边写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重点突出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书写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工整清楚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22" name=""/>
          <p:cNvSpPr txBox="1"/>
          <p:nvPr/>
        </p:nvSpPr>
        <p:spPr>
          <a:xfrm>
            <a:off x="0" y="761760"/>
            <a:ext cx="9144000" cy="53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34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完成作业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认真做只是把作业做对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心做才能把作业做好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34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34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入思考问题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活学活用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818640" y="837720"/>
            <a:ext cx="832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身教重于言传</a:t>
            </a:r>
            <a:r>
              <a:rPr b="1" lang="zh-CN" sz="48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,</a:t>
            </a:r>
            <a:r>
              <a:rPr b="1" lang="zh-CN" sz="48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激励重于控制</a:t>
            </a:r>
            <a:r>
              <a:rPr b="1" lang="zh-CN" sz="48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.</a:t>
            </a:r>
            <a:r>
              <a:rPr b="1" lang="zh-CN" sz="44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 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24" name=""/>
          <p:cNvSpPr txBox="1"/>
          <p:nvPr/>
        </p:nvSpPr>
        <p:spPr>
          <a:xfrm>
            <a:off x="457200" y="2209680"/>
            <a:ext cx="77788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.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对孩子进行一点责任教育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自己也要有强烈的责任心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 .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保持积极乐观向上的心态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并以此感染孩子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300"/>
                                        <p:tgtEl>
                                          <p:spTgt spid="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300"/>
                                        <p:tgtEl>
                                          <p:spTgt spid="8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28600" y="14475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. 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多与孩子沟通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多表扬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多激励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与孩子达成协议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做些监督工作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.</a:t>
            </a:r>
            <a:br>
              <a:rPr sz="4400"/>
            </a:br>
            <a:br>
              <a:rPr sz="6000"/>
            </a:b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0" y="20570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. 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从“精细”入手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从小事做起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半月纠正一种坏毛病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培养一种好习惯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i="1" lang="zh-CN" sz="48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使人疲惫的不是远方的高山</a:t>
            </a:r>
            <a:r>
              <a:rPr b="1" i="1" lang="zh-CN" sz="48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        </a:t>
            </a:r>
            <a:r>
              <a:rPr b="1" i="1" lang="zh-CN" sz="48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而是鞋里的一粒沙子</a:t>
            </a:r>
            <a:r>
              <a:rPr b="1" i="1" lang="zh-CN" sz="48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"/>
          <p:cNvSpPr/>
          <p:nvPr/>
        </p:nvSpPr>
        <p:spPr>
          <a:xfrm>
            <a:off x="0" y="615960"/>
            <a:ext cx="9144000" cy="53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学习的几点注意事项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１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时间保证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静下心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集中精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把握好听课、作业、复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加强动手能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语数外的根本地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避免拖沓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提高效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注意合作、交流、效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"/>
          <p:cNvSpPr/>
          <p:nvPr/>
        </p:nvSpPr>
        <p:spPr>
          <a:xfrm>
            <a:off x="1631160" y="38088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</a:rPr>
              <a:t>联系方式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609480" y="1523880"/>
            <a:ext cx="807732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66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语文（秦）　　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1319078347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66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数学（徐）　　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1333708068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66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英语（张）　　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1394786956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66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政治（叶）　　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1330478832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66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物理（冯）　　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1394818188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66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化学（王）　　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131908525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66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生物（康）       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1303478408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"/>
          <p:cNvSpPr/>
          <p:nvPr/>
        </p:nvSpPr>
        <p:spPr>
          <a:xfrm>
            <a:off x="0" y="914400"/>
            <a:ext cx="914400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作息时间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上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:6:40—11:55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下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: 2:40— 6: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夜自习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:  7:   30—9:   2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第三节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40--11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00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990720" y="1218960"/>
            <a:ext cx="7772400" cy="18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e40000"/>
                </a:solidFill>
                <a:latin typeface="Arial"/>
                <a:ea typeface="华文彩云"/>
              </a:rPr>
              <a:t>祝大家生活愉快！</a:t>
            </a:r>
            <a:endParaRPr b="0" lang="en-US" sz="72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1371600" y="4365720"/>
            <a:ext cx="64008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2607840" y="3657600"/>
            <a:ext cx="45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e40000"/>
                </a:solidFill>
                <a:latin typeface="Arial"/>
                <a:ea typeface="华文彩云"/>
              </a:rPr>
              <a:t>祝孩子学习进步！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457200" y="609480"/>
            <a:ext cx="7467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cc"/>
                </a:solidFill>
                <a:latin typeface="Times New Roman"/>
                <a:ea typeface="隶书"/>
              </a:rPr>
              <a:t>我的班主任工作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523880" y="2057400"/>
            <a:ext cx="6324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0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调节学生激情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600200" y="3581280"/>
            <a:ext cx="59436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0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抓精神面貌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给学生自信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1219320" y="685800"/>
            <a:ext cx="62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990720" y="685800"/>
            <a:ext cx="723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0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调节学生激情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85800" y="1752480"/>
            <a:ext cx="74674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ff"/>
                </a:solidFill>
                <a:latin typeface="隶书"/>
                <a:ea typeface="隶书"/>
              </a:rPr>
              <a:t>    </a:t>
            </a:r>
            <a:r>
              <a:rPr b="1" lang="zh-CN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一个国家、社会、团体、个人的成功之处，不只在于技术的问题，知识能力的问题，更在于精神心态的问题，有了理想、目标、责任感、动力，有了一个优秀的心态，就能激发出巨大的创造力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838080" y="3200400"/>
            <a:ext cx="746784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76320" y="1600200"/>
            <a:ext cx="838188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0000"/>
                </a:solidFill>
                <a:latin typeface="华文行楷"/>
              </a:rPr>
              <a:t>     “</a:t>
            </a:r>
            <a:r>
              <a:rPr b="1" lang="zh-CN" sz="2400" spc="1" strike="noStrike">
                <a:ln w="0">
                  <a:noFill/>
                </a:ln>
                <a:solidFill>
                  <a:srgbClr val="ff0000"/>
                </a:solidFill>
                <a:latin typeface="华文行楷"/>
              </a:rPr>
              <a:t>只有经过地狱的磨练</a:t>
            </a:r>
            <a:r>
              <a:rPr b="1" lang="en-US" sz="2400" spc="1" strike="noStrike">
                <a:ln w="0">
                  <a:noFill/>
                </a:ln>
                <a:solidFill>
                  <a:srgbClr val="ff0000"/>
                </a:solidFill>
                <a:latin typeface="华文行楷"/>
              </a:rPr>
              <a:t>,</a:t>
            </a:r>
            <a:endParaRPr b="1" lang="en-US" sz="2400" spc="1" strike="noStrike">
              <a:ln w="0">
                <a:noFill/>
              </a:ln>
              <a:solidFill>
                <a:srgbClr val="ff0000"/>
              </a:solidFill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solidFill>
                  <a:srgbClr val="ff0000"/>
                </a:solidFill>
                <a:latin typeface="华文行楷"/>
              </a:rPr>
              <a:t>才能拥有创造天堂的力量</a:t>
            </a:r>
            <a:r>
              <a:rPr b="1" lang="en-US" sz="2400" spc="1" strike="noStrike">
                <a:ln w="0">
                  <a:noFill/>
                </a:ln>
                <a:solidFill>
                  <a:srgbClr val="ff0000"/>
                </a:solidFill>
                <a:latin typeface="华文行楷"/>
              </a:rPr>
              <a:t>;</a:t>
            </a:r>
            <a:endParaRPr b="1" lang="en-US" sz="2400" spc="1" strike="noStrike">
              <a:ln w="0">
                <a:noFill/>
              </a:ln>
              <a:solidFill>
                <a:srgbClr val="ff0000"/>
              </a:solidFill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solidFill>
                  <a:srgbClr val="ff0000"/>
                </a:solidFill>
                <a:latin typeface="华文行楷"/>
              </a:rPr>
              <a:t>只有流血的手指</a:t>
            </a:r>
            <a:r>
              <a:rPr b="1" lang="en-US" sz="2400" spc="1" strike="noStrike">
                <a:ln w="0">
                  <a:noFill/>
                </a:ln>
                <a:solidFill>
                  <a:srgbClr val="ff0000"/>
                </a:solidFill>
                <a:latin typeface="华文行楷"/>
              </a:rPr>
              <a:t>,</a:t>
            </a:r>
            <a:endParaRPr b="1" lang="en-US" sz="2400" spc="1" strike="noStrike">
              <a:ln w="0">
                <a:noFill/>
              </a:ln>
              <a:solidFill>
                <a:srgbClr val="ff0000"/>
              </a:solidFill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solidFill>
                  <a:srgbClr val="ff0000"/>
                </a:solidFill>
                <a:latin typeface="华文行楷"/>
              </a:rPr>
              <a:t>才能弹拨出世间的绝唱。” </a:t>
            </a:r>
            <a:endParaRPr b="1" lang="en-US" sz="2400" spc="1" strike="noStrike">
              <a:ln w="0">
                <a:noFill/>
              </a:ln>
              <a:solidFill>
                <a:srgbClr val="ff0000"/>
              </a:solidFill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0000"/>
                </a:solidFill>
                <a:latin typeface="华文行楷"/>
              </a:rPr>
              <a:t>                      ——</a:t>
            </a:r>
            <a:r>
              <a:rPr b="1" lang="zh-CN" sz="2400" spc="1" strike="noStrike">
                <a:ln w="0">
                  <a:noFill/>
                </a:ln>
                <a:solidFill>
                  <a:srgbClr val="ff0000"/>
                </a:solidFill>
                <a:latin typeface="华文行楷"/>
              </a:rPr>
              <a:t>泰戈尔</a:t>
            </a:r>
            <a:endParaRPr b="1" lang="en-US" sz="2400" spc="1" strike="noStrike">
              <a:ln w="0">
                <a:noFill/>
              </a:ln>
              <a:solidFill>
                <a:srgbClr val="ff0000"/>
              </a:solidFill>
              <a:latin typeface="华文行楷"/>
              <a:ea typeface="华文行楷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-304920" y="-1200240"/>
            <a:ext cx="10744200" cy="805824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 txBox="1"/>
          <p:nvPr/>
        </p:nvSpPr>
        <p:spPr>
          <a:xfrm>
            <a:off x="304920" y="1600200"/>
            <a:ext cx="830556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华文行楷"/>
              </a:rPr>
              <a:t>激情燃烧的乐园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med">
    <p:zoom dir="ou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1981080" y="1752480"/>
            <a:ext cx="4191120" cy="35053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solidFill>
                  <a:srgbClr val="0000ff"/>
                </a:solidFill>
                <a:latin typeface="华文行楷"/>
              </a:rPr>
              <a:t>行动示范 </a:t>
            </a:r>
            <a:endParaRPr b="1" lang="en-US" sz="2400" spc="1" strike="noStrike">
              <a:ln w="0">
                <a:noFill/>
              </a:ln>
              <a:solidFill>
                <a:srgbClr val="0000ff"/>
              </a:solidFill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solidFill>
                  <a:srgbClr val="0000ff"/>
                </a:solidFill>
                <a:latin typeface="华文行楷"/>
              </a:rPr>
              <a:t>活动鼓舞 </a:t>
            </a:r>
            <a:endParaRPr b="1" lang="en-US" sz="2400" spc="1" strike="noStrike">
              <a:ln w="0">
                <a:noFill/>
              </a:ln>
              <a:solidFill>
                <a:srgbClr val="0000ff"/>
              </a:solidFill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solidFill>
                  <a:srgbClr val="0000ff"/>
                </a:solidFill>
                <a:latin typeface="华文行楷"/>
              </a:rPr>
              <a:t>榜样引导</a:t>
            </a:r>
            <a:endParaRPr b="1" lang="en-US" sz="2400" spc="1" strike="noStrike">
              <a:ln w="0">
                <a:noFill/>
              </a:ln>
              <a:solidFill>
                <a:srgbClr val="0000ff"/>
              </a:solidFill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solidFill>
                  <a:srgbClr val="0000ff"/>
                </a:solidFill>
                <a:latin typeface="华文行楷"/>
              </a:rPr>
              <a:t>情境激励</a:t>
            </a:r>
            <a:endParaRPr b="1" lang="en-US" sz="2400" spc="1" strike="noStrike">
              <a:ln w="0">
                <a:noFill/>
              </a:ln>
              <a:solidFill>
                <a:srgbClr val="0000ff"/>
              </a:solidFill>
              <a:latin typeface="华文行楷"/>
              <a:ea typeface="华文行楷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80880" y="380880"/>
            <a:ext cx="6477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隶书"/>
              </a:rPr>
              <a:t>激情燃烧的乐园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隶书"/>
              <a:ea typeface="隶书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457200" y="609480"/>
            <a:ext cx="7467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cc"/>
                </a:solidFill>
                <a:latin typeface="Times New Roman"/>
                <a:ea typeface="隶书"/>
              </a:rPr>
              <a:t>我的班主任工作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295280" y="2514600"/>
            <a:ext cx="640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0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形成良好的班风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295280" y="4343400"/>
            <a:ext cx="640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4.</a:t>
            </a:r>
            <a:r>
              <a:rPr b="0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处理好后进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1600200" y="1143000"/>
            <a:ext cx="5867280" cy="41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管理就是沟通，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管理就是服务，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管理就是引领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31T01:18:31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1:24:09Z</dcterms:modified>
  <cp:revision>81</cp:revision>
  <dc:subject>主题班会课件(分28大类): http://shop62905894.taobao.com</dc:subject>
  <dc:title>主题班会课件(分28大类): http://shop62905894.taobao.com</dc:title>
</cp:coreProperties>
</file>