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2.gif" ContentType="image/gif"/>
  <Override PartName="/ppt/media/image5.png" ContentType="image/png"/>
  <Override PartName="/ppt/media/image17.gif" ContentType="image/gif"/>
  <Override PartName="/ppt/media/image16.gif" ContentType="image/gif"/>
  <Override PartName="/ppt/media/image15.jpeg" ContentType="image/jpeg"/>
  <Override PartName="/ppt/media/image1.gif" ContentType="image/gif"/>
  <Override PartName="/ppt/media/image1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4F8-12D7-4FE1-818C-DCD411E1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216-9AA8-4082-B021-FBD6A51F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238-9BB2-45CF-80C8-DD44EE3A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565-52FF-4A4D-999C-0EF66FD2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3BF9-D0DA-4D26-BEAF-64219FB8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0EC-EF46-4B7D-A35A-224E4002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F76B-35DA-4F07-B96C-4EB31130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714-FDBD-43F0-8FF6-6E4D9C18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79A-F206-4DC5-BC84-ACC76406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34A-A3BD-4F1E-9B8A-4CDAD562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9754-3FF4-4B74-B3F2-DB4C763B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83F-4103-44B1-8DBD-91197D58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038D-F97A-4EAB-9BFD-A91332678C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1582560"/>
            <a:ext cx="2819520" cy="3275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68360" y="1268280"/>
            <a:ext cx="5105520" cy="728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867280" y="289548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24280" y="3692520"/>
            <a:ext cx="320040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066680" y="3505320"/>
            <a:ext cx="3733920" cy="3352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523880" y="2728800"/>
            <a:ext cx="6400800" cy="13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492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欢迎各位家长光临指导我们的工作！</a:t>
            </a:r>
            <a:endParaRPr b="1" lang="en-US" sz="1800" spc="1" strike="noStrike">
              <a:ln w="3492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459756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高二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(4)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班家长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22040" y="67788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期中考试的相关情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38080" y="1733400"/>
            <a:ext cx="5943600" cy="3792600"/>
            <a:chOff x="838080" y="1733400"/>
            <a:chExt cx="5943600" cy="3792600"/>
          </a:xfrm>
        </p:grpSpPr>
        <p:sp>
          <p:nvSpPr>
            <p:cNvPr id="91" name=""/>
            <p:cNvSpPr/>
            <p:nvPr/>
          </p:nvSpPr>
          <p:spPr>
            <a:xfrm>
              <a:off x="838080" y="173340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99"/>
                  </a:solidFill>
                  <a:latin typeface="Times New Roman"/>
                  <a:ea typeface="黑体"/>
                </a:rPr>
                <a:t>一、考试性质特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71296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99"/>
                  </a:solidFill>
                  <a:latin typeface="Times New Roman"/>
                  <a:ea typeface="黑体"/>
                </a:rPr>
                <a:t>二、期中试卷特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768480"/>
              <a:ext cx="4952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99"/>
                  </a:solidFill>
                  <a:latin typeface="Times New Roman"/>
                  <a:ea typeface="黑体"/>
                </a:rPr>
                <a:t>三、我班的情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822560"/>
              <a:ext cx="4952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99"/>
                  </a:solidFill>
                  <a:latin typeface="Times New Roman"/>
                  <a:ea typeface="黑体"/>
                </a:rPr>
                <a:t>四、正确看待成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371600" y="452520"/>
            <a:ext cx="7238880" cy="18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cap="sq" w="9360">
                  <a:solidFill>
                    <a:srgbClr val="ff33cc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一、初中是过关性考试</a:t>
            </a:r>
            <a:endParaRPr b="1" lang="en-US" sz="1800" spc="-1" strike="noStrike">
              <a:ln cap="sq" w="9360">
                <a:solidFill>
                  <a:srgbClr val="ff33cc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cap="sq" w="9360">
                  <a:solidFill>
                    <a:srgbClr val="ff33cc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    </a:t>
            </a:r>
            <a:r>
              <a:rPr b="1" lang="zh-CN" sz="1800" spc="-1" strike="noStrike">
                <a:ln cap="sq" w="9360">
                  <a:solidFill>
                    <a:srgbClr val="ff33cc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高中是选拔性考试</a:t>
            </a:r>
            <a:endParaRPr b="1" lang="en-US" sz="1800" spc="-1" strike="noStrike">
              <a:ln cap="sq" w="9360">
                <a:solidFill>
                  <a:srgbClr val="ff33cc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05000" y="3541680"/>
            <a:ext cx="76104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cap="sq" w="9360">
                  <a:solidFill>
                    <a:srgbClr val="ff33cc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二、初中授课与高中授课</a:t>
            </a:r>
            <a:endParaRPr b="1" lang="en-US" sz="1800" spc="-1" strike="noStrike">
              <a:ln cap="sq" w="9360">
                <a:solidFill>
                  <a:srgbClr val="ff33cc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666880" y="4748040"/>
            <a:ext cx="335304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cap="sq" w="9360">
                  <a:solidFill>
                    <a:srgbClr val="ff33cc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有很大不同</a:t>
            </a:r>
            <a:endParaRPr b="1" lang="en-US" sz="1800" spc="-1" strike="noStrike">
              <a:ln cap="sq" w="9360">
                <a:solidFill>
                  <a:srgbClr val="ff33cc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403280" y="477720"/>
            <a:ext cx="6991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cap="sq" w="9360">
                  <a:solidFill>
                    <a:srgbClr val="ff33cc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一、采用统一试题</a:t>
            </a:r>
            <a:endParaRPr b="1" lang="en-US" sz="1800" spc="-1" strike="noStrike">
              <a:ln cap="sq" w="9360">
                <a:solidFill>
                  <a:srgbClr val="ff33cc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28840" y="2562120"/>
            <a:ext cx="723888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cap="sq" w="9360">
                  <a:solidFill>
                    <a:srgbClr val="ff33cc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二、试题题量大，难度高</a:t>
            </a:r>
            <a:endParaRPr b="1" lang="en-US" sz="1800" spc="-1" strike="noStrike">
              <a:ln cap="sq" w="9360">
                <a:solidFill>
                  <a:srgbClr val="ff33cc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1600" y="4597560"/>
            <a:ext cx="4191120" cy="11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cap="sq" w="9360">
                  <a:solidFill>
                    <a:srgbClr val="ff33cc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三、判卷严格</a:t>
            </a:r>
            <a:endParaRPr b="1" lang="en-US" sz="1800" spc="-1" strike="noStrike">
              <a:ln cap="sq" w="9360">
                <a:solidFill>
                  <a:srgbClr val="ff33cc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376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班级总均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24.6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376200"/>
            <a:ext cx="243828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年级第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1130400"/>
            <a:ext cx="71629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各科平均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语文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8.04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学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8.92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语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9.06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政治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3.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历史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0.37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理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4.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51000"/>
            <a:ext cx="619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成绩优异的同学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24080" y="1143000"/>
            <a:ext cx="78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留雪英、张晓珠、王珊珊、饶蓉蓉、留 霞王圣圣、倪欣宁、陈玲芬、叶金洋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朱 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阮逸静、金雷雷、双施伊、陈巧慧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5909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进步较大的同学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3429000"/>
            <a:ext cx="78487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黑体"/>
              </a:rPr>
              <a:t>王玲锋、朱森淼、李淼、罗斌、胡伟勇、朱望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黑体"/>
              </a:rPr>
              <a:t>倪双克、林凤、留慧欣、李超超、吴骏晓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黑体"/>
              </a:rPr>
              <a:t>林珊玉、周理伟、叶庆峰、潘庆芬、詹小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黑体"/>
              </a:rPr>
              <a:t>包仁伟、潘冬冬、季江静、罗平华、林秋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黑体"/>
              </a:rPr>
              <a:t>留洁祥、黄俊义、徐伟娟、周文娟、金安娜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443400" y="26028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单科成绩在班前三名的同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252360" y="1136520"/>
            <a:ext cx="194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3399"/>
                </a:solidFill>
                <a:latin typeface="Tahoma"/>
                <a:ea typeface="黑体"/>
              </a:rPr>
              <a:t> </a:t>
            </a:r>
            <a:r>
              <a:rPr b="1" lang="zh-CN" sz="3500" spc="-1" strike="noStrike">
                <a:solidFill>
                  <a:srgbClr val="ff3399"/>
                </a:solidFill>
                <a:latin typeface="Tahoma"/>
                <a:ea typeface="黑体"/>
              </a:rPr>
              <a:t>语文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1197000"/>
            <a:ext cx="72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饶蓉蓉、陈新新、留雪英、林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1680" y="2133720"/>
            <a:ext cx="17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数学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留雪英、张晓珠、王圣圣、朱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1680" y="299736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英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313992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王珊珊、张晓珠、罗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314172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45000"/>
            <a:ext cx="1295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920" y="4005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政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4076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阮逸静、留雪英、陈玲芬、王珊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3920" y="494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历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50846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留雪英、朱凤、陈玲芬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103320" y="6021360"/>
            <a:ext cx="17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 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黑体"/>
              </a:rPr>
              <a:t>地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6093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陈玲芬、倪欣宁、留霞、双施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32000" y="380880"/>
            <a:ext cx="586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感谢班干部们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6360" y="1600200"/>
            <a:ext cx="74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张晓珠、饶蓉蓉、王圣圣、潘冬冬林姗玉、金培良、叶金洋、倪欣宁双施伊、叶怀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3573360"/>
            <a:ext cx="586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感谢课代表们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4581360"/>
            <a:ext cx="770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留雪英、倪欣宁、王珊珊、金培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朱  凤、饶蓉蓉、阮逸静、张小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詹小杰、张  月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89216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333360"/>
            <a:ext cx="59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黑体"/>
              </a:rPr>
              <a:t>班级目前存在的问题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1341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、少数学生学习目的性不够明确，学习的自主性较差，缺乏自觉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781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、部分学生的习惯和学习方法较落后，效率较低。如不抓紧时间，发现问题不向老师提问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47973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、少数学生还没有摆正学习的位子，贪玩而浪费时间造成上课状态不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9280" y="18900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、现在班级还存在一些不好的现象，如：有的同学上课说话，做小动作，有的同学喜欢攻击别人，和同学关系相处不好，有的同学对班集体漠不关心，有的同学不愿意承担责任等等。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234936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、学生的学习自觉性较差，没有主动性，做什么事都要老师看着，甚至于要老师在后边举着鞭子赶着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4076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、懒的人比较多，怕动脑子，怕动笔，怕记，怕背，做什么事情都是完成任务，甚至有些同学连老师布置的任务都完成不了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587700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学生安于现状，没有竞争意识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225360"/>
            <a:ext cx="4038480" cy="76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正确看待成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13572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肯定所有学生的努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26044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保持和提高名次不容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32400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进步和退步是暂时的、相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421956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不以成绩论英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16040" y="102060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华文行楷"/>
              </a:rPr>
              <a:t>此次家长会的主要内容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411280"/>
            <a:ext cx="6781680" cy="3808080"/>
            <a:chOff x="990720" y="2411280"/>
            <a:chExt cx="6781680" cy="3808080"/>
          </a:xfrm>
        </p:grpSpPr>
        <p:sp>
          <p:nvSpPr>
            <p:cNvPr id="52" name=""/>
            <p:cNvSpPr/>
            <p:nvPr/>
          </p:nvSpPr>
          <p:spPr>
            <a:xfrm>
              <a:off x="990720" y="2411280"/>
              <a:ext cx="67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、介绍本班的基本情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90720" y="3165480"/>
              <a:ext cx="609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2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、期中考试的相关情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90720" y="391932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23160" y="4748040"/>
              <a:ext cx="76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、学生代表发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5576760"/>
              <a:ext cx="525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4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、对家长的几点建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93280" y="3808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学生代表的发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52704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对家长的十点建议</a:t>
            </a: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295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、最重要的是教孩子学会做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20350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、让孩子做力所能及的事，培养孩子的责任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9973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、让孩子要有感恩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733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、让孩子知道成长道路上有“红绿灯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14504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、让孩子知道诚信是迈向成功的“通行证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4822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、良好的习惯是孩子成长的基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425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、尊重孩子，父母与子女每月能进行一次朋友似的谈心，沟通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52704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620640"/>
            <a:ext cx="9067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、每月和班主任进行一次信息交流，家庭教育和学校教育的和谐配合，会产生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1+1</a:t>
            </a:r>
            <a:r>
              <a:rPr b="1" lang="zh-CN" sz="3200" spc="-1" strike="noStrike">
                <a:solidFill>
                  <a:srgbClr val="ff3399"/>
                </a:solidFill>
                <a:latin typeface="宋体"/>
              </a:rPr>
              <a:t>≻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的效果。对有缺陷的科目要立即采取措施补救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即补偏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492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、关注孩子零花钱的数量和用途；关注孩子的精神需求；关注孩子的心理健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8433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、让孩子：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828800" y="4370400"/>
            <a:ext cx="8001000" cy="1787760"/>
            <a:chOff x="1828800" y="4370400"/>
            <a:chExt cx="8001000" cy="1787760"/>
          </a:xfrm>
        </p:grpSpPr>
        <p:sp>
          <p:nvSpPr>
            <p:cNvPr id="159" name=""/>
            <p:cNvSpPr/>
            <p:nvPr/>
          </p:nvSpPr>
          <p:spPr>
            <a:xfrm>
              <a:off x="1828800" y="4370400"/>
              <a:ext cx="800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99"/>
                  </a:solidFill>
                  <a:latin typeface="黑体"/>
                  <a:ea typeface="黑体"/>
                </a:rPr>
                <a:t>感受慈母的爱心，学会做人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28800" y="4973760"/>
              <a:ext cx="800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99"/>
                  </a:solidFill>
                  <a:latin typeface="黑体"/>
                  <a:ea typeface="黑体"/>
                </a:rPr>
                <a:t>体验父辈的艰辛，学会做事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8800" y="5576760"/>
              <a:ext cx="800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99"/>
                  </a:solidFill>
                  <a:latin typeface="黑体"/>
                  <a:ea typeface="黑体"/>
                </a:rPr>
                <a:t>接受优质的教育，受益终身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365040"/>
            <a:ext cx="8209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成功的妙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学生：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时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汗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方法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成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家长：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关心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鼓励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支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成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－－学校、家长和学生三方面拧成一股绳，齐心协力助孩子高考成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72440" y="7542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最后我想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002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给我时间，给我机会，我会证明我带的班级是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最优秀的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；给我舞台，给我空间，我可以施展我教书育人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热心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；给我学生，给我一个班级，我会努力把它带成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最好的班集体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；给我一缕阳光，给我一个笑容，给我一点鼓励和支持，给我一点掌声与关心，我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用事实来回报所有的家长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77800" y="106380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327348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行楷"/>
              </a:rPr>
              <a:t>常过来看看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03480" y="273996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042920" y="1125360"/>
            <a:ext cx="7201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谢谢大家！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68360" y="4292640"/>
            <a:ext cx="3888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1020600"/>
            <a:ext cx="860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华文行楷"/>
              </a:rPr>
              <a:t>此次家长会的主要内容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71640" y="2276640"/>
            <a:ext cx="6781680" cy="3806280"/>
            <a:chOff x="971640" y="2276640"/>
            <a:chExt cx="6781680" cy="3806280"/>
          </a:xfrm>
        </p:grpSpPr>
        <p:sp>
          <p:nvSpPr>
            <p:cNvPr id="60" name=""/>
            <p:cNvSpPr/>
            <p:nvPr/>
          </p:nvSpPr>
          <p:spPr>
            <a:xfrm>
              <a:off x="971640" y="2276640"/>
              <a:ext cx="67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5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、家长代表发言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男、女各一位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71640" y="3030480"/>
              <a:ext cx="609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6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、看看你的孩子的表现，反馈你的意见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71640" y="3784320"/>
              <a:ext cx="184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71640" y="4613040"/>
              <a:ext cx="184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71640" y="5441760"/>
              <a:ext cx="5257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900000" y="4365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家长会圆满结束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112536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班级情况介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292428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班级构成： 高二共有理科学生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400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多人。我们高二（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班共有学生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5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人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男生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26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人，女生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25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名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其中住读生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44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 flipH="1">
            <a:off x="6516360" y="765000"/>
            <a:ext cx="2057400" cy="15084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0" y="4813200"/>
            <a:ext cx="8686800" cy="1466640"/>
            <a:chOff x="0" y="4813200"/>
            <a:chExt cx="8686800" cy="1466640"/>
          </a:xfrm>
        </p:grpSpPr>
        <p:sp>
          <p:nvSpPr>
            <p:cNvPr id="71" name=""/>
            <p:cNvSpPr/>
            <p:nvPr/>
          </p:nvSpPr>
          <p:spPr>
            <a:xfrm>
              <a:off x="838080" y="4813200"/>
              <a:ext cx="78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5700240"/>
              <a:ext cx="8610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25609" b="0"/>
          <a:stretch/>
        </p:blipFill>
        <p:spPr>
          <a:xfrm>
            <a:off x="2341440" y="0"/>
            <a:ext cx="6802560" cy="683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451640" y="1773360"/>
            <a:ext cx="1224000" cy="604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1280" y="220500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436572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765000"/>
            <a:ext cx="85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自组班的第一天起，我班同学就达成了这样的共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637000"/>
            <a:ext cx="9144000" cy="33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i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团结、进取、勤学、务实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”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是我们的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学风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   “</a:t>
            </a:r>
            <a:r>
              <a:rPr b="1" i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团 结、拼 搏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”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是 我 们 的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班 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81680" y="5410080"/>
            <a:ext cx="1828800" cy="1274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4920" y="53352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个班集体的好坏直接影响到每个学生的成长，优良的班风和学风是搞好学习的保证。为此我们首先狠抓班风和学风建设，组建、培养班、团干部，加强自习课纪律的管理和检查，班级实行全员管理，人人参入都是主人，发现问题及时解决。对班级作息时间进行合理安排，做到早上、中午和晚上经常到班检查。对于不良倾向及时进行教育。三个多月来的实践证明，我班绝大多数同学已适应了高二阶段紧张而充实的学习生活，优良的班风和学风也已基本形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62064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他们从早晨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点多起床到晚上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点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50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分就寝，基本上是除了学习还是学习。他们中有很多人早晨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点多一些就起床到教室看书。如：王宗容、万琼、谭国鑫、刘晓莉等，住在校外的陈芳、邹丹丹、黄峰等每天回去晚上还看书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 flipH="1" rot="10800000">
            <a:off x="6248520" y="4952520"/>
            <a:ext cx="2895480" cy="17290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0" y="457200"/>
            <a:ext cx="8839080" cy="5754600"/>
            <a:chOff x="0" y="457200"/>
            <a:chExt cx="8839080" cy="5754600"/>
          </a:xfrm>
        </p:grpSpPr>
        <p:sp>
          <p:nvSpPr>
            <p:cNvPr id="85" name=""/>
            <p:cNvSpPr/>
            <p:nvPr/>
          </p:nvSpPr>
          <p:spPr>
            <a:xfrm>
              <a:off x="0" y="457200"/>
              <a:ext cx="883908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黑体"/>
                </a:rPr>
                <a:t>同学们团结协作、认真学习，在老师教育指导下、在班干部的配合和全体同学的努力下，我班的学习和各项工作都已初见成效。有相当一部分同学通过自己的努力在期中考试中取得了长足的进步，脱颖而出。在荣誉面前班级的凝聚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力增强了，学习的积极性更高了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486400"/>
              <a:ext cx="62802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4005000"/>
            <a:ext cx="7164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很多同学的成绩有了明显的上升，如罗忠慧、李艳、黄鑫鑫、李群、彭琳君等在学习努力程度和成绩上都有不同程度的进步。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55:49Z</dcterms:modified>
  <cp:revision>18</cp:revision>
  <dc:subject>主题班会课件(分28大类): http://shop62905894.taobao.com</dc:subject>
  <dc:title>主题班会课件(分28大类): http://shop62905894.taobao.com</dc:title>
</cp:coreProperties>
</file>