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88E-284D-42DA-B6AD-283CA108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C7D-C30A-4A17-B31C-9DDC43A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322-F0D0-403E-9718-EB061EC7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543-3689-45C3-89C7-10E294E1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6E5-3226-4A93-9227-9FE4CE81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B45-DE61-46D6-A4CA-73F60F7C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F79-1E2F-45FD-AF2D-74957231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599-A13B-469C-9774-451F571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EC9-53F5-413B-A1EF-5725A7FD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8F3-26FF-4307-AA43-D0E1E5F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DA4-D460-4AE3-81C0-844B172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989-A336-4934-BA10-0FDEF42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8126-1253-4E25-A188-74145B8E8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981000"/>
            <a:ext cx="5181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走近父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少年偷钱在他乡上网两年 母亲服毒自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536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放学不愿意回家，到处出去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经常“煲电话粥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5257800" cy="47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4240" y="1447920"/>
            <a:ext cx="37497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396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长时间看电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5410440" cy="413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3241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和父母吵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54080"/>
            <a:ext cx="723924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孩子在吞云吐雾的吸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3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624852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五、部分同学发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六、朗读“孩子，我为什么打你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_x000b__x000c_"/>
              </a:rPr>
              <a:t>　　　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有一天与朋友聊天，我说，就是在文化大革命中当红卫兵，我也没打过人。我还说，我这一辈子，从没打过人……你突然插嘴说：妈妈，你经常打一个人，那就是我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   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那一瞬屋里很静很静。那一天我继续同客人谈了很多的话，但所有的话都心不在焉。孩子，你那固执的一问，仿佛爬山虎无数细小的卷须，攀满我的整个心灵。面对你纯真无瑕的眼睛，我要承认：在这个世界上，我只打过一个人。不是偶然，而是经常，不是轻描淡写，而是刻骨铭心。这个人就是你。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   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01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在你最小最小的时候，我不曾打你。你那么幼嫩，好像一粒包在荚中的青豌豆。我生怕任何一点儿轻微地碰撞，将你稚弱的生命擦伤。我为你无日无夜地操劳，无怨无悔。面对你熟睡中像合欢一样静谧的额头，我向上苍发誓：我要尽一个母亲所有的力量保护你，直到我从这颗星球上离开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   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你像竹笋一样开始长大。你开始淘气，开始恶作剧……对你摔破的盆碗、拆毁的玩具、遗失的钱币、污脏的衣着……我都不曾打过你。我想这对于一个正常而活泼的儿童，都像走路会跌跤一样应该原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7640" y="404640"/>
            <a:ext cx="88390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             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打人是个重体力活儿，它使人肩酸腕痛，好像徒手将一千块蜂窝煤搬上五楼。于是人们便发明了打人的工具：戒尺、鞋底、鸡毛掸子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       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我几乎毫不犹豫地认为：每打你一次，我感到的痛楚都要比你更为久远而悠长。因为，重要的不是身累，而是心累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   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孩子，听了你的话，我终于决定不再打你了。因为你已经长大，因为你已经懂了很多的道理。毫不懂道理的婴孩和已经很懂道理的成人，我以为都不必打，因为打是没有用的。唯有对半懂不懂、自以为懂其实不甚懂道理的孩童，才可以打，以助他们快快长大。孩子，打与不打都是爱，你可懂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049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  <a:ea typeface="_x000b__x000c_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_x000b__x000c_"/>
              </a:rPr>
              <a:t> 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是谁，给我们生命把我们带到这美丽的世界？是谁，呵护我们、保护我们、照顾我们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给了我们无微不至的关怀？是我们的父母！是他们扶我们学走路，教我们学文化，唱着夜曲伴我们入眠，心中时常把我们牵挂。当我们躺在病床上他们焦急的掉眼泪，当我们露出笑容时，他们的心里能乐开花。可是，现在你是否觉得父母和你们的距离已经慢慢地拉大。你和父母是否已经没有了亲密感？今天，就让我们来学习如何走近父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七、同学们畅所欲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03400" y="2001600"/>
            <a:ext cx="748800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_x000b__x000c_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请曾经被父母惩罚过的同学，说说自己做错了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（请同学们大胆发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八：请同学们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  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、 写一写，算一算父母每一天要为家庭做多少事，付出多少时间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   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、想一想，父母容不容易？你有没有分担父母的艰辛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九：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_x000b__x000c_"/>
              </a:rPr>
              <a:t>怎么与父母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3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_x000b__x000c_"/>
              </a:rPr>
              <a:t>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_x000b__x000c_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_x000b__x000c_"/>
              </a:rPr>
              <a:t>　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既然父母不能调换，我们就一定要包涵、接纳自己的父母，并尽量和父母多一点交流。那我们该怎么和父母交流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    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（同学发言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由此可见，我们与父母的关系并非不能改变，父母也不是不近人情的，他们也在关心我们，也在想办法走近我们。那我们就该主动走近父母。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0958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十：走近父母的方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１、多向父母表达你爱他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主动承担家务；纪念日、节日送点小礼物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遇特别情况写一封信表达感激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适时为父母倒杯茶、削个水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２、和父母有分歧时学会换位思考，站在父母的角度上去想一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３、应让父母感觉你相信他们，多交流并经常给予赞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４、多向父母说说自己的情况，自己的愿望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多倾听父母的话； 遇上烦恼，告诉父母，寻求父母的帮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５、回家和外出主动给父母打招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６、时时紧记，父母只会爱孩子，决不会害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７、只要能理解、孝敬、尊重父母，你就和父母走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十一、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7400" y="1690560"/>
            <a:ext cx="7909200" cy="44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_x000b__x000c_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．做一个表格，列举父母工作之余为家庭做了什么事，花多少时间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．给父母送一张卡片，表达你对他们的爱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平常多为父母倒杯水或分担一些家务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十二、歌曲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24360" y="3357720"/>
            <a:ext cx="1521000" cy="15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10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43080" y="1690560"/>
            <a:ext cx="59673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0000"/>
                </a:solidFill>
                <a:latin typeface="Arial"/>
                <a:ea typeface="黑体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_x000b__x000c_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19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三：一位辛酸的父亲来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孩子，为何你只知伸手要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765000"/>
            <a:ext cx="8686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亲爱的儿子：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尽管你伤透了我的心，但你终究是我的儿子。虽然，自从你考上大学，成为我们家几代里出的唯一一个大学生之后，心里已分不清咱俩谁是谁的儿子了。从扛着行李陪你去大学报到，到挂蚊帐缝被子买饭菜票甚至教你挤牙膏，这一切，在你看来是天经地义的，你甚至感觉你这个不争气的老爸给你这位争气的大学生儿子服务，是一件特沾光特荣耀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583000" cy="183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3818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的确，你考上大学，你爸妈确实为你骄傲。虽然现今的大学生也不一定能找到工作，但这毕竟是你爸妈几十年的梦想。我们那阵，上大学不是凭本事考的，要看手上的茧子和出身成分，有些人还要用贞操和人格去换。这也就是我们以你为荣的原因。然而，你的骄傲却是不可理喻的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在你读大学的第一学期，我们收到过你的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封信，加起来比一份电报长不了多少，言简意赅，主题鲜明，通篇字迹潦草，只一个“钱”字特别工整而且清晰。你说你学习很忙，没时间写信，但同院里你高中时代的女同学，却能收到你洋洋洒洒几十页的信，而且每周一封。每次从收发室门口过，我和你妈看着你熟悉的字，却不能认领。那种痛苦是咋样的，你知道吗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1532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后来，随着你读二年级，这种痛苦煎熬逐渐少了，据你那位高中同学说，是因为你谈恋爱了。其实，她不说我们也知道，从你一封接一封的催款信上我们能感受到，言辞之急迫、语调之恳切，让人感觉你今后毕业大可以去当个优秀的讨债人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　当时，正值你妈下岗，而你爸微薄的工资，显然不够你出入卡拉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OK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酒吧餐厅。在这样的状况下，你不仅没有半句安慰，居然破天荒来了一封长信，大谈别人的老爸老妈如何大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228960" y="380520"/>
            <a:ext cx="93726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你给我和你妈心上戳了重重一刀，还撒了一把盐。最令我伤心的是，今年暑假，你居然偷改入学收费通知，虚报学费。这之前，我在报纸上已看到这种事情。没想你也同时看到这则新闻，一时间相见恨晚，及时娴熟地运用这一招，来对付生你养你爱你疼你的父亲母亲。虽然，得知真相后我并没发作，但从开学到今天，两个月里，我一想到这事就痛苦，就失眠。这已经成为一种心病，病根就是你—我亲手抚养大却又倍感陌生的大学生儿子。不知在大学里，你除了增加文化知识和社交阅历之外，还能否长一丁点善良的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四、我们部分学生的现状，有的非常触目惊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黑网吧“免费”吸引学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0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6:30Z</dcterms:modified>
  <cp:revision>17</cp:revision>
  <dc:subject>主题班会课件(分28大类): http://shop62905894.taobao.com</dc:subject>
  <dc:title>主题班会课件(分28大类): http://shop62905894.taobao.com</dc:title>
</cp:coreProperties>
</file>