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type.wav" ContentType="audio/x-wav"/>
  <Override PartName="/ppt/media/image9.gif" ContentType="image/gif"/>
  <Override PartName="/ppt/media/image14.jpeg" ContentType="image/jpeg"/>
  <Override PartName="/ppt/media/image5.gif" ContentType="image/gif"/>
  <Override PartName="/ppt/media/image6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C23-26A1-4696-9C96-6DBC1553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363-4B23-4EAA-9B3C-254DE791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932-815E-4783-809C-203972F6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6E7-86BE-47F7-B075-BA5AB7D9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6D1-B992-4B7B-95C1-EAB8821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212-5351-4115-A49C-21B1EED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B79-CD61-419C-B7D1-9725A9FB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4CC-6F36-4FD0-9128-A68D0F7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242-070B-4883-9888-EF22B3A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CC2-5666-402C-9FFF-17CD719A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A18-1417-47AC-B7B6-4D5DB759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B46-2E07-4E72-ACA8-62387A0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8B16-E8CB-4F31-9BA0-77C4AE45E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6002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制定班级规章制度，营造良好学习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实学校的八项常规管理。（早读、上课、课间操、眼保健操、教室卫生、仪表仪容、考勤、午休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加强学生管理队伍，培养学生自律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班干值日制度、学习互助小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572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彩云"/>
              </a:rPr>
              <a:t>班主任工作管理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484280"/>
            <a:ext cx="7924680" cy="2104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理想竞争教育（制定班级目标， 期中目标，竞争对手、开展主题班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学法指导，心理辅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每月发放学习报告单，实行家长签名反馈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班级中良好的势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752480"/>
            <a:ext cx="9094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强烈的竞争意识（成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强烈的集体荣誉感（运动会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　艺术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乐于助人（一帮一活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拾金不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效率高了（自修课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1989000"/>
            <a:ext cx="518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与任课老师面对面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2438280"/>
            <a:ext cx="5321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339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学习没有动力，上课注意力不集中，不愿意做笔记，课堂效率低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.(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甚至有些学生有说废话的现象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400" y="8380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69228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效率产生差距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学校里，有些学生自觉性比较差，没有充分利用午休时间和自习课时间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357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学回家之后，很晚才进入学习状态。做完作业后没有复习预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5300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末、假期时间过于放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6364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作业质量值得重视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84464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马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差错多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选择题乱猜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计算题只有答案没有过程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老师讲评过的练习始终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没有及时订正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习惯，导致已做过的练习屡做屡错。到考试时遇到难题不是去思考，而是乱猜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少数学生有抄作业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6364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四、注意学科平衡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84464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些学生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理科（科学、数学）好，文科（语文、英语）成绩差，或者是社会、思品差。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由于学科的不平衡，导致班级名次、年级名次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临近期末了，多注意薄弱学科的良性发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6364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五、关注复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84464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做好回家笔头作业的同时，按计划复习各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如果您的孩子做好了这一环节，则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事半功倍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！如果不重视，则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功亏一篑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415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031760"/>
            <a:ext cx="784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zh-CN" sz="4000" spc="-1" strike="noStrike">
                <a:solidFill>
                  <a:srgbClr val="e53c07"/>
                </a:solidFill>
                <a:latin typeface="宋体"/>
                <a:ea typeface="黑体"/>
              </a:rPr>
              <a:t>1</a:t>
            </a:r>
            <a:r>
              <a:rPr b="1" lang="zh-CN" sz="4000" spc="-1" strike="noStrike">
                <a:solidFill>
                  <a:srgbClr val="e53c07"/>
                </a:solidFill>
                <a:latin typeface="宋体"/>
                <a:ea typeface="黑体"/>
              </a:rPr>
              <a:t>、教育孩子要有责任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黑体"/>
              </a:rPr>
              <a:t>有的同学虽然成绩不是很突出，但只要有强烈的责任感，今后照样能做出一番事业。打扫教室表面上看是不值得一提的小事，但实际上能反映出一个人的责任心，正所谓“一屋不扫、何以扫天下？”，责任感教育应该是本着从孩子自己到他人，从家庭到学校，从小事到大事，从少到多的原则　。在日常生活的具体事情当中，让孩子为自己去尝试承担一定的责任；要求孩子为自己的学习负责，认真完成作业，自己检查作业；要求孩子做一些力所能及的家务；洗自己的衣物，洗碗筷，倒垃圾，孩子在学校，父母别忘了教导他做值日生、班干部应尽职尽责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希望家长配合的事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838080" y="1066680"/>
            <a:ext cx="762012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为了我们共同的目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9320" y="281952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沟通、理解、合作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6858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068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906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5910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09480"/>
            <a:ext cx="8458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２、尽量保证每天与孩子的及时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多了解子女学习情况，不要只关心学习成绩，要多关注学习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99736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、了解在校学习以及与同学相处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3933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２、掌握思想动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5157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把握其身体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5157720"/>
            <a:ext cx="40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４、生活上严格要求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437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３、客观分析孩子的成绩，多关注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7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幼圆"/>
                <a:ea typeface="幼圆"/>
              </a:rPr>
              <a:t>3.</a:t>
            </a:r>
            <a:r>
              <a:rPr b="1" lang="zh-CN" sz="4000" spc="-1" strike="noStrike">
                <a:solidFill>
                  <a:srgbClr val="990033"/>
                </a:solidFill>
                <a:latin typeface="幼圆"/>
                <a:ea typeface="幼圆"/>
              </a:rPr>
              <a:t>给子女营造一个良好的学习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努力帮助孩子做好期末考试的复　　　　　　习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0686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安排好作息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71628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督促孩子在上好新课的同时、做好复习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44370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有选择地看课外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0846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引导孩子掌握良好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734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５）在薄弱学科上要多花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5382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07800"/>
            <a:ext cx="8064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华文楷体"/>
              </a:rPr>
              <a:t>、</a:t>
            </a:r>
            <a:r>
              <a:rPr b="1" lang="zh-CN" sz="4400" spc="-1" strike="noStrike">
                <a:solidFill>
                  <a:srgbClr val="003300"/>
                </a:solidFill>
                <a:latin typeface="Tahoma"/>
                <a:ea typeface="华文楷体"/>
              </a:rPr>
              <a:t>工作再忙也要抽点时间来多了解孩子在校的表现和学习成绩情况。因为孩子只有一个呀，我们的一切工作难道不是为了孩子将来的美好前途吗？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多与班主任和各科任老师联系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及时了解孩子在学校的学习和生活情况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.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因为有很多事情就是因为家长不了解自己孩子的情况才发生的</a:t>
            </a:r>
            <a:r>
              <a:rPr b="1" lang="zh-CN" sz="4000" spc="-1" strike="noStrike">
                <a:solidFill>
                  <a:srgbClr val="009900"/>
                </a:solidFill>
                <a:latin typeface="华文楷体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1905120"/>
            <a:ext cx="7010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穷不能穷孩子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6898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1523880"/>
            <a:ext cx="6933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重、理解老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0"/>
            <a:ext cx="4953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30481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066680" y="2679840"/>
            <a:ext cx="71629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学生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了学生的一切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了一切的学生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任课老师自由交流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85800"/>
            <a:ext cx="631368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55520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新魏"/>
              </a:rPr>
              <a:t>前苏联教育家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苏霍姆林斯基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新魏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      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两个教育者——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新魏"/>
              </a:rPr>
              <a:t>学校和家庭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，不仅要一致行动，要向孩子提出同样的要求，而且要志同道合，抱着一致的信念，始终从同一原则出发，无论在教育的目的上、过程上，还是手段上，都不要发生分歧”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26828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尤其面临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期末考试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,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我们要做些什么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268280"/>
            <a:ext cx="5184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5340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1371600"/>
            <a:ext cx="73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一、汇报班级的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1332000" y="278136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会议议程</a:t>
            </a: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13372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竞争意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05280" y="167652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69000"/>
          </a:bodyPr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立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主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律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300" spc="-1" strike="noStrike">
                <a:solidFill>
                  <a:srgbClr val="000000"/>
                </a:solidFill>
                <a:latin typeface="Arial"/>
                <a:ea typeface="隶书"/>
              </a:rPr>
              <a:t>自   信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00000" y="26028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班训</a:t>
            </a:r>
            <a:endParaRPr b="1" lang="en-US" sz="1800" spc="1" strike="noStrike">
              <a:ln w="7632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11:48Z</dcterms:modified>
  <cp:revision>11</cp:revision>
  <dc:subject>主题班会课件(分28大类): http://shop62905894.taobao.com</dc:subject>
  <dc:title>主题班会课件(分28大类): http://shop62905894.taobao.com</dc:title>
</cp:coreProperties>
</file>