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wmf" ContentType="image/x-wmf"/>
  <Override PartName="/ppt/media/image26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png" ContentType="image/png"/>
  <Override PartName="/ppt/media/image24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183-0DC2-4C13-94D2-6E62272E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D3C-91E4-407D-87FD-08BA6B66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452-482F-422C-8202-E2F79A72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F6E-7C1F-4CB5-A330-C097AAE9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3B0-6237-449A-A7E5-CCEC1704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5F0-8D9E-4F3C-AD1A-2250392D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48A-F307-4DCE-86B2-BC84AE7A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704-FDFF-463F-B1BD-CCA2D452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40E-DF5A-4B94-964C-643E1092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F64-0C36-4D36-B1B2-799BBB1A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971-652E-4B69-BE52-15B592D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A08-4BA0-491E-A05C-EF77043B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D3B6-6EC8-4DDE-BFD6-5D671CF708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art8848.net/ReAdRotator.asp?url=nmhzj.htm&amp;image=lb/4.gif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25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920" y="380880"/>
            <a:ext cx="784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家校联合  共创辉煌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欢迎光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1676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记住，在你前进的征途上跌倒的时候，千万别急着爬起来，不防看看是什么拌住了自己。即使是块小小的石子，甚至更大的石块呢。只有找到让你摔倒的理由，才能让你不再重倒覆辙，让你避免更大的伤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6095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昔日的自己凡事随波逐流，没有自己的主见，对于自己的前途一片茫然，日子得过且过。幸运的是，我有慈祥的爸爸、严厉的妈妈、敬业爱学生的老师。在他们的鼓励、帮助、引导下，我终于走回“正道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……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方小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的成功是因为我有了自己的目标。（潘康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228600"/>
            <a:ext cx="1904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99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周记欣赏</a:t>
            </a:r>
            <a:endParaRPr b="0" lang="en-US" sz="2400" spc="1" strike="noStrike">
              <a:ln w="12600">
                <a:solidFill>
                  <a:srgbClr val="3399ff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333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76320" y="914400"/>
          <a:ext cx="8929440" cy="513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914400"/>
                    <a:ext cx="892944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333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647640"/>
            <a:ext cx="806436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3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来几乎都不曾更改过自己的人生目标，他们始终朝着同一个方向不懈地努力。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年后，他们几乎都成了社会各界顶尖成功人士，他们中不乏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白手创业者、行业领袖、社会精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2324160"/>
            <a:ext cx="8064360" cy="4597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10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大都生活在社会的中上层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他们的共同特点是，那些短期目标不断地被达到，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生活质量稳步上升。他们成为各行各业不可缺少的专业人士，如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医生、律师、工程师、高级主管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4044960"/>
            <a:ext cx="806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几乎都生活在社会的中下层面。他们能安稳地生活与工作，但都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没有什么特别的成绩。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051520"/>
            <a:ext cx="806472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剩下的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27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他们几乎都生活在社会的最底层，他们的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生活都过得很不如意，常常失业，靠社会救济，并且常常在抱怨他人，抱怨社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200400" y="685800"/>
            <a:ext cx="331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目标明确 </a:t>
            </a:r>
            <a:endParaRPr b="1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209680"/>
            <a:ext cx="7920000" cy="106884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想获得成功，就必须要确定一个清晰可见的目标，因为目标是人奋勇向前的动力源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437920" y="53352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不知道我能有什么成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成功而又刻骨铭心的事件却没什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的理科成绩有所提高，这都得力于老师平时对我的关爱，激起了我的信心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……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杨荣光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为自己定下竞争对象，她就是一直名列前茅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…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从来不觉得自己赶不上她。（黄婉霞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最大的成功在于我敢站在博文舞台上大胆地展示我的才华——参加诗歌朗诵比赛，出乎意料的是，我还获奖了！（吴敏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858000" y="6019920"/>
            <a:ext cx="1905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99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周记欣赏</a:t>
            </a:r>
            <a:endParaRPr b="0" lang="en-US" sz="2400" spc="1" strike="noStrike">
              <a:ln w="12600">
                <a:solidFill>
                  <a:srgbClr val="3399ff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981000"/>
            <a:ext cx="8209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位日本马拉松长跑运动员，他的身体条件并不比其他国家的运动员更具优势，但他取得了最后的胜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852640"/>
            <a:ext cx="8209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我没有什么秘诀，我只是将整个赛程以明显的建筑物标志分成若干个小目标，对于每个小目标，我都以百米冲刺的激情去跑完它，同时又以同样的激情去冲刺下一个目标，直到终点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2438" t="0" r="243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6680" y="10666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现实生活中，当一件事被认为是不可能时，我们就会为不可能找到许多理由，例如：我的智商没有别人高，我吃不了苦，我天生记忆力差，我不是学数学的那块料……从而使这个不可能显得理所当然，我们也就当然不会采取积极有效的行动，最终的结果肯定是这件事真的成了不可能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44956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不怕你做不到，就怕你想不到。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819520" y="304920"/>
            <a:ext cx="3313080" cy="11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自信 激情</a:t>
            </a:r>
            <a:endParaRPr b="1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676520" y="1752480"/>
            <a:ext cx="60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想要，而且是一定要！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47920" y="2895480"/>
            <a:ext cx="6629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心动不如行动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上课有时还会打瞌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一直都在想办法把懒惰的习惯改掉，但是，直到现在还没完全改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果不是自己上课不听讲，平时不懂也不问老师，那我就不会造成英语成绩差的后果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回家前，我有目标，有计划，准备努力学习。回家后，我发现电视节目很精彩，计划同时就被破坏了。自觉少不得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781680" y="5943600"/>
            <a:ext cx="1905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99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周记欣赏</a:t>
            </a:r>
            <a:endParaRPr b="0" lang="en-US" sz="2400" spc="1" strike="noStrike">
              <a:ln w="12600">
                <a:solidFill>
                  <a:srgbClr val="3399ff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6666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90720" y="457200"/>
            <a:ext cx="7086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明天更辉煌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1981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4d14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ec4d14"/>
                </a:solidFill>
                <a:latin typeface="Times New Roman"/>
              </a:rPr>
              <a:t>成败得失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484200"/>
            <a:ext cx="883908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哈佛的理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年，哈佛牧师立遗嘱时，把他的一块地皮和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50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本书遗赠给了当地一所学院，这所学院发展成了现在的哈佛大学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关于这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50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本书，有这样一个故事：哈佛学院一直把哈佛牧师的这批书珍藏在哈佛楼里的一个图书馆内，并规定学生只能在馆内阅读，不能携出馆外。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764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的一天深夜，一场大火烧毁了哈佛楼。在大火发生前，一名学生碰巧把哈佛牧师捐赠的一册名为《基督教针对魔鬼、世俗与肉欲的战争》的书带出了馆外，打算在宿舍里优哉游哉地阅读。第二天他得知大火的消息，意识到自己从图书馆携出的那本书，已是哈佛捐赠的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50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本书惟一存世的一本了。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228600"/>
            <a:ext cx="86104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经过一番思想斗争后，他找到当时的校长霍里厄克，把书还给了学校。霍里厄克校长收下书，感谢了他。然后下令把他开除出校，理由是，这名学生违反了校规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开除这名学生行吗？也可以，不管怎么说，毕竟是他使哈佛牧师的书总算留下了一本——这可能是我们的行事态度。但霍里厄克校长没有这么做。他感谢那位同学，是因为那位同学诚实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违反校规带出馆外的书又送了回来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；开除他，是因为有校规。哈佛的理念是：</a:t>
            </a:r>
            <a:r>
              <a:rPr b="1" lang="zh-CN" sz="27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让校规看守哈佛的一切比让道德看守哈佛更安全有效。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便是他们的行事态度：</a:t>
            </a:r>
            <a:r>
              <a:rPr b="1" lang="zh-CN" sz="27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法理第一。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0" r="0" b="111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143000" y="2682720"/>
            <a:ext cx="6858000" cy="1494000"/>
            <a:chOff x="1143000" y="2682720"/>
            <a:chExt cx="6858000" cy="1494000"/>
          </a:xfrm>
        </p:grpSpPr>
        <p:sp>
          <p:nvSpPr>
            <p:cNvPr id="116" name=""/>
            <p:cNvSpPr/>
            <p:nvPr/>
          </p:nvSpPr>
          <p:spPr>
            <a:xfrm>
              <a:off x="1143000" y="268272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143000" y="2682720"/>
              <a:ext cx="2435400" cy="1494000"/>
              <a:chOff x="1143000" y="2682720"/>
              <a:chExt cx="2435400" cy="1494000"/>
            </a:xfrm>
          </p:grpSpPr>
          <p:sp>
            <p:nvSpPr>
              <p:cNvPr id="118" name=""/>
              <p:cNvSpPr/>
              <p:nvPr/>
            </p:nvSpPr>
            <p:spPr>
              <a:xfrm>
                <a:off x="1143000" y="2682720"/>
                <a:ext cx="24354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3000" y="2682720"/>
                <a:ext cx="2435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zh-CN" sz="8300" spc="-1" strike="noStrike">
                    <a:solidFill>
                      <a:srgbClr val="576575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576575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838080" y="2057400"/>
            <a:ext cx="7772400" cy="764280"/>
          </a:xfrm>
          <a:prstGeom prst="rect">
            <a:avLst/>
          </a:prstGeom>
          <a:solidFill>
            <a:srgbClr val="99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不自律，他将自食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任性的苦果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200400"/>
            <a:ext cx="7086600" cy="764280"/>
          </a:xfrm>
          <a:prstGeom prst="rect">
            <a:avLst/>
          </a:prstGeom>
          <a:solidFill>
            <a:srgbClr val="99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　　过分的强调自由，他便没有自由了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81280" y="609480"/>
            <a:ext cx="205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自律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从来没有一个稳定的目标，就算有，旁人总是否认我，所以我的目标从不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在努力奋斗的过程中总是不能持之以恒，经常半途而废，到头来一无所获，一直在做无用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都已经初三了，我的字还是一塌糊涂，简直是惨不忍睹啊。那些字帖，买了一本又一本，但每次都是写了一半就丢下不写了，真是失败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本来我可以抓住那机会，可最后放弃了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228600"/>
            <a:ext cx="1904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99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周记欣赏</a:t>
            </a:r>
            <a:endParaRPr b="0" lang="en-US" sz="2400" spc="1" strike="noStrike">
              <a:ln w="12600">
                <a:solidFill>
                  <a:srgbClr val="3399ff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685800"/>
            <a:ext cx="9144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学第一天，古希腊大哲学家苏格拉底对学生们说：“今天咱们只学一件最简单也是最最容易做的事儿。每人把胳膊尽量往前甩，然后再尽量往后甩。”说着，苏格拉底示范了一遍。“从今天开始，每天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。大家能做到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们都笑了。这么简单的事，有什么做不到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了一个月，苏格拉底问学生们：“每天甩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，哪些同学坚持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％的同学骄傲地举起了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过了一个月，苏格拉底又问，这回，坚持下来的学生只剩下八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7632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仿宋_GB2312"/>
              </a:rPr>
              <a:t>成功的秘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6263" r="0" b="19733"/>
          <a:stretch/>
        </p:blipFill>
        <p:spPr>
          <a:xfrm>
            <a:off x="6172200" y="396252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41911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年过后，苏格拉底再一次问大家：“请告诉我，最简单的甩手运动，还有哪几位同学坚持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时，整个教室里，只有一人举起了手。这个学生就是后来成为古希腊另一位大哲学家的柏拉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2819520"/>
            <a:ext cx="784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4d14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4d14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ec4d14"/>
                </a:solidFill>
                <a:latin typeface="Times New Roman"/>
              </a:rPr>
              <a:t>世间最容易的事是坚持，最难的事也是坚持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说它容易，是因为只要愿意做，人人能做到；说它难，是因为真正能做到的，终究只是少数人。</a:t>
            </a:r>
            <a:r>
              <a:rPr b="1" lang="zh-CN" sz="2800" spc="-1" strike="noStrike">
                <a:solidFill>
                  <a:srgbClr val="ec4d14"/>
                </a:solidFill>
                <a:latin typeface="Times New Roman"/>
              </a:rPr>
              <a:t>成功在于坚持。这是一个并不神秘的秘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29000" y="990720"/>
            <a:ext cx="1828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坚持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152280"/>
            <a:ext cx="914400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方正魏碑简体"/>
              </a:rPr>
              <a:t>成败在于人品的优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美国哈佛大学心理学教授乔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赫华斯博士多年的研究成果，事业的成败在于人品优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成功有九大要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①为人有幽默感；②待人处事温文尔雅；③注重友情、热心；④与人真诚合作；⑤仪表大方；⑥人格平衡发展；⑦富于想象力；⑧有克服任何困难的勇气；⑨有必胜的坚强毅力。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失败也有九大因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①言行孤僻，不善与人合作；②言而无信；③脾气古怪无常；④处事敷衍，工作丢三落四；⑤自负，目空一切；⑥惹是生非，胆大妄为；⑦看不起别人，自诩天下无双；⑧不求进取，懒惰；⑨不尊重别人建议，亦不接受别人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赫华斯教授指出：“成功人物最重要的是高尚的品格和健康的身心，事业上的失意者大都是由于品格低劣及不能自我调节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rcRect l="0" t="0" r="1755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291960"/>
            <a:ext cx="891540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方正隶二简体"/>
              </a:rPr>
              <a:t>扪心自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柏拉图为什么能取得成功出人头地？他其实并没有什么惊人之举，没有什么过人的智慧，他只不过是坚持下去了，比一般的人做得好一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大家记住：只要你比一般人做得好一点——仅仅是好一点——你就一定能出人头地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扪心自问：我和班上和级里成绩最好的同学相比，我输在哪里？我还会重蹈以往失败之覆辙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6000"/>
          </a:blip>
          <a:srcRect l="0" t="593" r="0" b="4736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04920" y="2286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在生活中难免要遇到各种挫折和失败，在这种情况下，“屡败屡战”固然可贵，但最为可贵的是当事者头脑更冷静，要善于思索受挫折或失败的原因，“吃一堑，长一智”，应该是智者的选择。作为学生的我们，不应当在学习的挫折面前盲目蠢干，更不应心灰意冷，而应当汲取教训，总结经验，以利再战， 因为：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仿宋_GB2312"/>
                <a:ea typeface="仿宋_GB2312"/>
              </a:rPr>
              <a:t>成功不仅仅需要信心、激情和坚韧，还需要清醒的头脑，需要理智的选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鼓起勇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0" y="20570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黑体"/>
              </a:rPr>
              <a:t>大步向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106668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重拾信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89548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我们是最棒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90640" cy="762120"/>
          </a:xfrm>
          <a:custGeom>
            <a:avLst/>
            <a:gdLst>
              <a:gd name="textAreaLeft" fmla="*/ 49320 w 890640"/>
              <a:gd name="textAreaRight" fmla="*/ 841320 w 890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241" h="21600">
                <a:moveTo>
                  <a:pt x="0" y="0"/>
                </a:moveTo>
                <a:lnTo>
                  <a:pt x="25241" y="0"/>
                </a:lnTo>
                <a:lnTo>
                  <a:pt x="25241" y="21600"/>
                </a:lnTo>
                <a:lnTo>
                  <a:pt x="0" y="21600"/>
                </a:lnTo>
                <a:close/>
              </a:path>
              <a:path fill="lightenLess" w="25241" h="21600">
                <a:moveTo>
                  <a:pt x="0" y="0"/>
                </a:moveTo>
                <a:lnTo>
                  <a:pt x="25241" y="0"/>
                </a:lnTo>
                <a:lnTo>
                  <a:pt x="23841" y="1400"/>
                </a:lnTo>
                <a:lnTo>
                  <a:pt x="1400" y="1400"/>
                </a:lnTo>
                <a:close/>
              </a:path>
              <a:path fill="darken" w="25241" h="21600">
                <a:moveTo>
                  <a:pt x="25241" y="0"/>
                </a:moveTo>
                <a:lnTo>
                  <a:pt x="25241" y="21600"/>
                </a:lnTo>
                <a:lnTo>
                  <a:pt x="23841" y="20200"/>
                </a:lnTo>
                <a:lnTo>
                  <a:pt x="23841" y="1400"/>
                </a:lnTo>
                <a:close/>
              </a:path>
              <a:path fill="darkenLess" w="25241" h="21600">
                <a:moveTo>
                  <a:pt x="25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1" y="20200"/>
                </a:lnTo>
                <a:close/>
              </a:path>
              <a:path fill="lighten" w="25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1" h="21600">
                <a:moveTo>
                  <a:pt x="9122" y="10800"/>
                </a:moveTo>
                <a:lnTo>
                  <a:pt x="19627" y="3794"/>
                </a:lnTo>
                <a:lnTo>
                  <a:pt x="19627" y="17806"/>
                </a:lnTo>
                <a:close/>
              </a:path>
              <a:path fill="darken" w="25241" h="21600">
                <a:moveTo>
                  <a:pt x="5614" y="3794"/>
                </a:moveTo>
                <a:lnTo>
                  <a:pt x="7276" y="3794"/>
                </a:lnTo>
                <a:lnTo>
                  <a:pt x="7276" y="17806"/>
                </a:lnTo>
                <a:lnTo>
                  <a:pt x="561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40640" y="50292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黑体"/>
              </a:rPr>
              <a:t>明天更辉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496880"/>
            <a:ext cx="8229600" cy="536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4842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715000" y="0"/>
            <a:ext cx="3505320" cy="2809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5715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4d14"/>
                </a:solidFill>
                <a:latin typeface="Times New Roman"/>
              </a:rPr>
              <a:t>让我们一起分享你成功的喜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124080"/>
            <a:ext cx="4419720" cy="1477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4d14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ec4d14"/>
                </a:solidFill>
                <a:latin typeface="Times New Roman"/>
              </a:rPr>
              <a:t>我觉得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4d14"/>
                </a:solidFill>
                <a:latin typeface="Times New Roman"/>
              </a:rPr>
              <a:t>我最大的成功是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533520" y="1752480"/>
            <a:ext cx="83818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让我们一起筹划未来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订立期末考试计划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功，是世界上任何人都羡慕的；失败，是世界上任何人都害怕和讨厌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59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est Wish For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600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　　你有过失败吗？大家帮你分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257800" y="4800600"/>
            <a:ext cx="3429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周记欣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1219320"/>
            <a:ext cx="8381880" cy="52056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　月考结束了，成绩虽然没有完全出来，但我深知这次的月考会彻彻底底地失败。都怪我平时不努力学习，语言上巨人，行动上矮子。如果父母看到那些不合格的成绩，多为我担忧啊！父母为了供我读书，已经够辛苦了，现在因为我这么差劲的成绩，使他们多一点忧虑，这太不应该了。这次，我成了一个不孝子了。为什么在失败后才来后悔，而不好好准备，等待失败降临在自己头上呢？这一次是初中以来受到的最大挫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943600" y="5638680"/>
            <a:ext cx="22860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回顾月考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49286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你发觉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41000" y="12484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为什么不能在拥有的时候就好好地珍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41000" y="198036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为什么非要在失去的时候才深深地叹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2501" t="3334" r="2501" b="10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9072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每个人的前面都有一条通往远方的路，崎岖但充满希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28195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4d14"/>
                </a:solidFill>
                <a:latin typeface="Times New Roman"/>
                <a:ea typeface="华文楷体"/>
              </a:rPr>
              <a:t>你能走多远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2000"/>
          </a:blip>
          <a:srcRect l="8937" t="33928" r="5218" b="354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60880" y="0"/>
            <a:ext cx="2619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仿宋_GB2312"/>
                <a:ea typeface="仿宋_GB2312"/>
              </a:rPr>
              <a:t>跌倒了，别急着站起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699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一个旅行者在行进的途中，突然改变了原来所选择的路线，决定抄近道前往目的地。没想到在他穿越那片看似很平坦的草地时，没走几步，脚被什么东西拌了一下，把他摔了个跟头。对此，他没太在意，从草地上爬起来，他揉了揉有点疼痛的膝盖，继续前行。但没走出几十米，他又结结实实地摔了一跤。这一回，他没急着站起来，而是倒在那里，一边揉着受伤的腿，一边仔细地打量脚下的草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原来，拌倒他的是一个草环，那是一种丛生的植物用疯长的、极坚韧的枝蔓编织的一个很隐蔽的草环，在他跌倒的周围有很多很多这样的草环，行人稍不留意，就会拌一个跟头。等他坐起来，将目光再往前延伸，不由得大吃一惊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-----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前方不远，掩藏在繁花绿叶间的竟是一片可怕的沼泽。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转到另一条安全的路上，他仍在庆幸刚才那个跟头，更庆幸自己没有像第一次那样漫不经心地急于爬起来赶路，而是仔细查清了让自己跌倒的原因，还认真地打量了一下自己原本自信的道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事后，这位旅行者心有余悸地听说，那片隐藏在草地深处的沼泽，不久前，还吞噬了两个粗心的过路人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是的，我们每个人在人生的旅途上，都难免遇到各种各样的挫折和失败。能够不被挫折吓倒，勇于从失败中重新崛起，这固然可贵，但善于冷静地观察、分析、总结失败的原因，究竟弄清楚是什么让自己摔了跟头，从而避免再摔跟头或少摔跟头，却是更难能可贵的。因为成功不仅仅需要信心、激情和坚韧，还需要清醒的头脑，需要理智的选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01:34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00:15Z</dcterms:modified>
  <cp:revision>57</cp:revision>
  <dc:subject>主题班会课件(分28大类): http://shop62905894.taobao.com</dc:subject>
  <dc:title>主题班会课件(分28大类): http://shop62905894.taobao.com</dc:title>
</cp:coreProperties>
</file>