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4.gif" ContentType="image/gif"/>
  <Override PartName="/ppt/media/chimes.wav" ContentType="audio/x-wav"/>
  <Override PartName="/ppt/media/image13.gif" ContentType="image/gif"/>
  <Override PartName="/ppt/media/image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D58-0B2B-4B84-884C-D6F5BA9A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F57-94D6-4CFD-BA48-3C1EC7E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C52AA-5667-413F-96AD-26FA3B9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EA66-5AAC-48E1-9A74-5A9EFEB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D5A7E-8DDA-4146-9BC6-81E51B4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241E1-99FC-433A-9D44-AA1359D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17DB-0050-45B7-B3C9-63027C4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BEAC-383A-4948-8D66-7B70B7C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F0126-2F02-4389-BADB-0747922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EDF7-7719-46D3-8E1D-630AE4F3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B87F9-BAB9-402C-8879-01EE83E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72F72-BD58-4D13-BA13-2D89371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E10-F36A-4FD0-985B-DAAE39A5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26C90-7DD7-42EE-9449-2F8F459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34EC-2B8A-4F45-8C0E-6C799C4C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FB014-98DA-42F1-B207-70D309C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B37A7-FBC8-4E27-9F1F-9D356D62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4F91E-9F21-4C53-8446-070F7DB6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083F2-5DF2-411F-885A-02E43B9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C49C-AE61-4D42-BBA1-16B5362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1C820-9EE1-4F86-A620-AB5E41A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38F04-29A5-40CE-A539-63B2022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0F078-0D13-4D7A-98A5-3BB2A4B2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0E2-A13E-45CC-8140-39B4ED9D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B5564-8C99-486F-A11A-C5292B63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282CE-8763-49B2-8C38-7246699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47593-E4B1-46F8-989D-C3EF45B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50493-87B5-42A7-9E49-00088073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3DDA-99FA-425A-86BF-3FC2994F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14BD-8F10-43F3-BA20-102C19C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88F9E-E425-4406-837A-E8C50C7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105E-1241-47D5-B051-7D17B7B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49D96-145E-4A42-8799-03D99A5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0B7F-9732-489C-97EC-AFF3FCD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D85-A4A7-45B8-877F-20048E95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06E81-5B5D-4C88-BE66-4BBFFDD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C74BD-12BB-4039-98B8-4F82361C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F324-DBB2-47FC-8920-D8C37EB4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F3E4-F7FB-485B-9DD0-8968DC7E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124F-2025-4546-AFB6-4F2A79E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BAC-5E9B-486A-95D3-ABF1903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F764-9095-4EE0-A100-3689922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FAE7-9D92-4138-ACA3-CEB7CF3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09A-D608-4DCF-8870-64CA94C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450-781B-4E08-9A08-3A8AF77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E64-C3FD-4022-BDB1-AA83FBE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7BE-5A81-4C53-8E8F-EBCC9CE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10BE-7514-41A8-94A8-0FAB6A33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6584-EED3-4D68-B9AF-5B3E070F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570F-0025-41DD-9236-C7BB9ABD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1EAC-1DD8-4657-B3E8-94F4E190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FA82-EC38-4B2B-953E-558F183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FB76-A416-4EAC-B3AE-9617CB0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1B78-67CC-4084-8E35-93B4481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0CEB-BAF3-4146-B8E0-089323A4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2FC-4B26-44D7-B1C1-797B02C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12BA-04F2-454F-876B-F9D617A7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FBDF-F60C-4AC5-9EBB-1628C3D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9210-7B50-4A07-AD0E-3BBA92A1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1B03-51BA-47DC-B9A4-D00BF21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C318-7AEE-42B5-BDBA-1CF422A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E187-20A3-4EC9-B60D-A516A3C6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5438-9DC4-490B-81A1-C92FDDFC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1A39-EE4A-47AB-9788-5CE794D1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2917-7B83-43CF-94FA-F2933F32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7984-2411-481A-AFE8-ABA2D2DD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E73-EE51-46F6-9677-2551E52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7E9F-DAFA-48DA-B568-98D60DA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EBE0-8805-4D4C-851B-CF0B0D6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653E-ED24-4060-85C5-C5D2FC36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6085-CAB3-4B47-9DF9-8D65D38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CE47-D170-422A-BA21-962F524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3C79-B107-41D2-BE35-664C540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9FFE-99C6-4822-9ADF-8F9EADBE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36B0-4D66-43F7-9F4E-75AE2314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038A-75A4-4A67-8C65-349C6BBC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5A8C-213E-409F-B4A4-14ED7262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64A-EF6C-4E24-9D2D-366AD293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28E2-D42F-4759-8476-624338E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5F4A-E867-4560-B707-7ED7F9A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6820-2CB9-4176-BB67-DE8444F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F2967-1453-478F-9771-3EA0510C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1A4F-145C-4A78-AA37-7E2CA53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125D-64DD-4D48-B8C8-B8154F6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71F5-7C22-40D5-B64B-525BAA5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2E0D-2EF4-41F3-AB44-1A6A658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CBC9-C82B-4B5E-8BBE-4B9DCB1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BF5E-B48E-4D79-92D5-15BDBA8D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A88-501E-4447-8109-33809F2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914F-A5D6-429C-875B-7D34DBB7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CD3F-6C86-48C9-9256-6962AF6E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9A5C-851F-4222-B2DC-5D9F362C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8635-9616-419C-8116-41F89F74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DF12-C7D7-4AA2-B67D-AB53085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C851-16C9-4B35-B224-1268C7E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8B5B-DE7B-4A74-A157-96CD1FD9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A9FF-44FE-4E17-9E49-E616DF5F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8AA3-2CE8-4E25-868E-6719C3E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DFFB-835C-4D51-8CDF-D80750E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476-2D3B-4E0E-9323-52B030B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89AF-EC76-4683-861D-C0A011ED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95AF-CF2A-4528-A413-FE2717CC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9E1F-B09D-4D7E-B6CC-261974AD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0A33-DD3A-4A3D-BC47-C40DB500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5757F-EDAC-4E56-8375-9274D68B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30531-48FF-4624-BF3D-CEA11E80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052A-A418-4C6C-89BE-EB99337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CB396-173D-4176-A487-C3C91505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7C5E-9A17-4C48-8806-BFF360D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1574-7ED7-4E0E-88FF-1821333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A76-979F-42E7-B735-E88A166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AC22-16CE-4B64-A6AB-96913AD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92C9-537B-4F3D-8BB4-8A7B5A2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09B62-04AD-4E93-B19B-BDF017F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C96B-23B3-4FA6-A359-5530FC68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3539-0336-4D4F-A5FB-0F796917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7410-E8B6-4044-8A45-4A02E342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F6F57-5EAE-4310-B46A-54CB17D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308F2-3EB9-45EC-BCA3-11921F8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63C7-83EF-4DE5-8BFA-707ED465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2317-EECA-49B4-A711-3E1ACB8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258-FCC7-42EA-BBF9-4CF629A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EBE2-29FF-4E5D-8E6B-22E63E2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B7BF7-2FD6-4B4F-AF90-7EC3FA4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1077-3217-47B8-8132-D0AD7D0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C38D-3425-4D9B-A4DC-E4B2188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D07E7-26D4-428E-B3F3-61481A5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C1BC6-079C-46CD-AE11-781BC895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94A8-BED9-429B-A482-1B914658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F88AE-1A21-4203-8E81-AA98BD21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605D7-F853-4367-A428-6CC16B87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38E0C-8601-406C-9622-792956BD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EEA-D549-4031-9C6A-9B7503EE2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3CB-9C78-4A72-8431-916B771B0F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3EB-864B-4422-8ED1-AD73A5AE249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9B2-B7E3-4DE3-884B-67FE78A44B1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D74-ED3A-4320-9D94-8FCD7A2FA8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25F-B93D-40C0-8C0F-1BAA53E02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81DC-23B0-4219-90E7-FBD0C25E8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E70-BEFE-4E3C-90F0-A1018EBC35E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66C6-3B2F-4DA0-B70C-8DD5B7D442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6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AC2-342F-445F-9909-DA64A5F47E7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CBF-0F0B-4F92-BB38-67C75D67BB6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My%20Documents/&#29677;&#20027;&#20219;&#24037;&#20316;&#36164;&#26009;/2&#29677;&#25104;&#32489;.xls" TargetMode="External"/><Relationship Id="rId2" Type="http://schemas.openxmlformats.org/officeDocument/2006/relationships/hyperlink" Target="file:///../My%20Documents/&#29677;&#20027;&#20219;&#24037;&#20316;&#36164;&#26009;/2&#29677;&#25104;&#32489;.xls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校同心，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        师生同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）班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6629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000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引入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一个学校最重大的事是教育孩子，一个家庭最重要的事同样也是教育孩子。而往往我们当中有很多家长会认为，孩子上了学，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吃穿问题由家长解决，而</a:t>
            </a:r>
            <a:r>
              <a:rPr b="1" lang="zh-CN" sz="3200" spc="-1" strike="noStrike">
                <a:solidFill>
                  <a:srgbClr val="33cc33"/>
                </a:solidFill>
                <a:latin typeface="Comic Sans MS"/>
              </a:rPr>
              <a:t>教育问题全部由教师去管</a:t>
            </a: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。这种观点是不对的，你想，同样一个教师在同样一个班级上课，为什么有的学生学习成绩好，而有的学生学习成绩差一些呢？这其中关键在于家庭教育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Comic Sans MS"/>
              </a:rPr>
              <a:t>看一个例子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《教育时报》刊登了一则消息，标题是《半数学生不喜欢家长》文章写道：“日前，常州市妇联对有读书孩子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70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户家庭进行了家庭教育现状抽样调查。调查的结果发现：</a:t>
            </a:r>
            <a:r>
              <a:rPr b="1" lang="zh-CN" sz="2800" spc="-1" strike="noStrike">
                <a:solidFill>
                  <a:srgbClr val="33cc33"/>
                </a:solidFill>
                <a:latin typeface="Comic Sans MS"/>
              </a:rPr>
              <a:t>54.5%</a:t>
            </a:r>
            <a:r>
              <a:rPr b="1" lang="zh-CN" sz="2800" spc="-1" strike="noStrike">
                <a:solidFill>
                  <a:srgbClr val="33cc33"/>
                </a:solidFill>
                <a:latin typeface="Comic Sans MS"/>
              </a:rPr>
              <a:t>的学生在‘最不喜欢的人’一栏中填的竟是‘家长’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。而对‘你所关心的家庭大事是什么’这个问题，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％的家长毫不犹豫地选择了‘子女教育’。为什么，我们最关心孩子的教育问题，而孩子对家长不满呢？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Comic Sans MS"/>
              </a:rPr>
              <a:t>如何能做一个称职的家长，在</a:t>
            </a:r>
            <a:r>
              <a:rPr b="1" lang="zh-CN" sz="6000" spc="-1" strike="noStrike">
                <a:solidFill>
                  <a:srgbClr val="00cc00"/>
                </a:solidFill>
                <a:latin typeface="Comic Sans MS"/>
              </a:rPr>
              <a:t>品行，性格，学习</a:t>
            </a:r>
            <a:r>
              <a:rPr b="1" lang="zh-CN" sz="6000" spc="-1" strike="noStrike">
                <a:solidFill>
                  <a:srgbClr val="cc0099"/>
                </a:solidFill>
                <a:latin typeface="Comic Sans MS"/>
              </a:rPr>
              <a:t>方面对孩子进行良好的教育和影响呢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4000" spc="-1" strike="noStrike">
                <a:solidFill>
                  <a:srgbClr val="33cc33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、家长要注意培养孩子良好的品行习惯，对孩子的道德品行、良好习惯的养成要从小抓起，从小事抓起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对不良行为要及时地预防和矫治。而常见的、多发的、容易诱发孩子犯罪的不良行为概括起来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种，它们是：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</a:rPr>
              <a:t>与品行不正的人交朋友；旷课、夜不归宿；携带管制刀具；吸烟；打架、斗殴、辱骂他人；强行向他人索要财物；偷窃或故意损害公共财物；参与赌博或变相赌博；观看、收听不良内容的音像制品读物；进入法律、法规规定的未成年人不适合进入的营业性歌舞厅、电子游戏厅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读下面的例子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一段时间我看过中央电视台一篇新闻报道，题目是《双城的创伤》，讲的是一个农村小学五年级学生，短期内连续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孩子喝农药自杀，原因一是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父母与孩子交流太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不知道孩子心理在想些什么，更重要的是孩子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受一些非法出版物，小画册，卡通动画，网络游戏的影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在网络游戏中，参与了游戏就好像身临其境，不知死了多少回，又活了多少回，所以孩子是不怕死的，记者问，曾自杀但经抢救复活的孩子，死亡是什么，孩子回答：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死亡便是睡着了，可以再活回来。就像游戏，死亡了，可以再来一局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c0039"/>
                </a:solidFill>
                <a:latin typeface="Arial"/>
              </a:rPr>
              <a:t>要求：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所以希望家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监督学生课余上网吧、游戏室、看课外读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现象，要求学生在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理利用时间，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坚决不看电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更要注意孩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哪些人交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星期天除了做作业外的行为，及时发现苗头加以制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ahoma"/>
              </a:rPr>
              <a:t>二、家长要多一些时间和耐心去和孩子交流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孩子并不仅仅满足家长物质上的给与，学生需要的是和家长的真诚交流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   往往一个学生学习的动力来源与家长的期望，家长要经常性的了解学生的学习情况，在学校表现情况，和学生共同制订学习目标。家长要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更多一点的投入精力关心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学生的学习。对学生的学习过程进行管理，了解知道孩子什么时间该上学，什么时间放学，一天学习多长时间，完成没完成老师布置的作业。这样，孩子感受到家长对其学习的关注，当然在学习上就会非常用功，努力把学习搞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有的家长总是说，工作太忙，我说，家长再忙，又是为了什么？现在有许多的家长把精力用在为孩子攒钱，为孩子攒这个，为孩子攒哪个，那你有没有想过用你现在的精力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孩子攒个大学文凭，攒个孩子将来吃饭的好饭碗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再说你一生又能有多少时间用来陪子女呢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家长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对教育的投资是最明智的投资，是回报率最高的投资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，所以我认为家长同志应该和孩子共同努力，把精力更多的投入到关心孩子的学习中去，把孩子培养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三、家长要言传身教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Tahoma"/>
              </a:rPr>
              <a:t>有些家长常常对孩子说，快毕业考试了，不能看电视，而他们自己却在看电视、打牌，不但容易引起孩子的反感，也影响孩子的学习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Tahoma"/>
              </a:rPr>
              <a:t>心理学家说：“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孩子生活在批评中学会谴责；敌视中学会好斗；恐惧中变得忧心忡忡；鼓励中学会自信；安全中学会理解相信</a:t>
            </a:r>
            <a:r>
              <a:rPr b="0" lang="zh-CN" sz="3200" spc="-1" strike="noStrike">
                <a:solidFill>
                  <a:srgbClr val="33cc33"/>
                </a:solidFill>
                <a:latin typeface="Tahoma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ahoma"/>
              </a:rPr>
              <a:t>四、要给孩子创造一个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良好的学习环境</a:t>
            </a:r>
            <a:r>
              <a:rPr b="1" lang="zh-CN" sz="4800" spc="-1" strike="noStrike">
                <a:solidFill>
                  <a:srgbClr val="33cc33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ahoma"/>
              </a:rPr>
              <a:t> </a:t>
            </a:r>
            <a:br>
              <a:rPr sz="40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   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可能家长要问，你让我们更多的关心孩子，但我们不缺他的吃穿，学习上我们有使不上劲这不是为难我们么？我说不是这样，学生学习的好坏关键是我们能不能给他提供一个好的学习环境。</a:t>
            </a: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   有人说教师的孩子往往读书会很好，其实教师的孩子在智力上根本没有优势，关键是当教师的父母往往更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注重孩子的家庭教育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，往往注重给孩子创造一个学习的良好环境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cc00"/>
                </a:solidFill>
                <a:latin typeface="Arial"/>
              </a:rPr>
              <a:t>尊敬的各位家长：         晚上好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们能够在百忙之中抽出宝贵时间来参加我校召开的毕业班家长会，我代表本班全体任课教师向您们表示衷心地感谢！感谢您们对我校工作的大力支持和配合！</a:t>
            </a:r>
            <a:br>
              <a:rPr sz="4000"/>
            </a:br>
            <a:br>
              <a:rPr sz="36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732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身边的这样的例子很多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 有位老师，儿子上初中以后，不管春夏秋冬，一直坚持每天陪孩子写作业，他就说，学习习惯好的孩子是家长看出来的，管出来的。他把孩子一直看着送进了全国重点大学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还有一位老师，平时注重对儿子良好习惯的养成和上进心的培养，考取了南菁高中，现在读东南大学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的每次孩子考试完后，都和孩子一起制定学习目标和学习计划，每天都检查督导学习计划执行情况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  良好的学习环境需要安静，有的家庭网上，打麻将、打扑克，看电视都会影响孩子的学习。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最好单独给孩子提供一个学习的空间，一间屋子，一张桌子。让孩子远离干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ahoma"/>
              </a:rPr>
              <a:t>五</a:t>
            </a:r>
            <a:r>
              <a:rPr b="1" lang="zh-CN" sz="4000" spc="-1" strike="noStrike">
                <a:solidFill>
                  <a:srgbClr val="cc0099"/>
                </a:solidFill>
                <a:latin typeface="Tahoma"/>
              </a:rPr>
              <a:t>、在学生的学习方面多与教师进行交流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2800" spc="-1" strike="noStrike">
                <a:solidFill>
                  <a:srgbClr val="33cc33"/>
                </a:solidFill>
                <a:latin typeface="Tahoma"/>
              </a:rPr>
              <a:t>  </a:t>
            </a:r>
            <a:r>
              <a:rPr b="1" lang="zh-CN" sz="2800" spc="-1" strike="noStrike">
                <a:solidFill>
                  <a:srgbClr val="33cc33"/>
                </a:solidFill>
                <a:latin typeface="Tahoma"/>
              </a:rPr>
              <a:t>家长了解学生的学习情况往往不如教师了解得多，何况有的学生向家长汇报假情报，不说真话。所以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要想家庭和学校双方面共同对孩子的教育有所促进，家长同志们就要更多的和我们的教师进行交流</a:t>
            </a:r>
            <a:r>
              <a:rPr b="1" lang="zh-CN" sz="2800" spc="-1" strike="noStrike">
                <a:solidFill>
                  <a:srgbClr val="33cc33"/>
                </a:solidFill>
                <a:latin typeface="Tahoma"/>
              </a:rPr>
              <a:t>。有的家长问：你们不开家长会，我们怎么来？其实家长和教师进行交流的方法很多，不如平常你可以到学校找找班主任，也可以和教师通过电话进行联系。每次考试完后，我们都要问一问学生的学习情况，乃至学生在学校的表现情况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家长和教师进行的交流会直接影响孩子的学习积极性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</a:rPr>
              <a:t>六、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要重视心理健康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600" spc="-1" strike="noStrike">
                <a:solidFill>
                  <a:srgbClr val="33cc33"/>
                </a:solidFill>
                <a:latin typeface="Tahoma"/>
              </a:rPr>
              <a:t>有些家长对孩子的身体备加呵护，却忽视了孩子的心理健康。思想道德素养非常重要，有专家指出：“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学习不好是次品，身体不好是废品，心理不好是危险品，思想不好是危害品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”。</a:t>
            </a:r>
            <a:br>
              <a:rPr sz="3600"/>
            </a:b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-76428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0368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七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、不要过分娇惯孩子。</a:t>
            </a:r>
            <a:br>
              <a:rPr sz="4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  </a:t>
            </a:r>
            <a:r>
              <a:rPr b="0" lang="zh-CN" sz="2800" spc="-1" strike="noStrike">
                <a:solidFill>
                  <a:srgbClr val="008000"/>
                </a:solidFill>
                <a:latin typeface="Tahoma"/>
              </a:rPr>
              <a:t>我觉得过于娇惯孩子怕孩子吃苦，这是家长的共性。事实上学生的学习确实很苦，但有几个不靠吃苦考上重点的天才呢？况且你有没有想过这样孩子眼前确实是不吃苦，不受累，不缺钱花了，可是孩子缺少与困难抗争的经验和能力，将来遇到困难怎么办？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面对竟争激烈的现代社会，没有吃苦精神的人将来能在社会中站稳脚跟吗？</a:t>
            </a:r>
            <a:r>
              <a:rPr b="0" lang="zh-CN" sz="2800" spc="-1" strike="noStrike">
                <a:solidFill>
                  <a:srgbClr val="008000"/>
                </a:solidFill>
                <a:latin typeface="Tahoma"/>
              </a:rPr>
              <a:t>并且学生手里的零用钱多了，往往会用于上网、打游戏，抽烟，买衣服，买零食等等。所以对孩子的零用钱家长要有所控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1441440" y="2057400"/>
            <a:ext cx="69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另外，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全问题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，有必要提一下，早晚路上和在家都要注意，不要因为一时大意而后悔莫及，影响你们孩子的中考甚至生命安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38280" y="-61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家长同志们，我们的目标是统一的，我们的任务是一致的，愿我们相互合作，把我们的学生，您的孩子，培养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勤奋，品质优良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的优秀人才，为将来学生的升学、就业、乃至整个人生的发展打下坚实的良好的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-352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只要家长对孩子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了解多一点，理解多一点，沟通多一点，方法多一点，耐心多一点，信心 多一点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，一定会获得教育的成功。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Arial"/>
              </a:rPr>
              <a:t>请任课老师上台交流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4956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请家长提意见和建议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进入高中，考上好大学是学生、家长、老师的共同心愿。而且这也必须是三方共同努力才能达到的目标，因此也要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请家长同志对学校和老师的工作多加支持</a:t>
            </a: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。下面就请家长们对班级管理及其他方面提出合理化意见和建议。 </a:t>
            </a:r>
            <a:br>
              <a:rPr sz="4000"/>
            </a:b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 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619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6400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33cc33"/>
              </a:solidFill>
              <a:latin typeface="Tahom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2209680" y="2362320"/>
            <a:ext cx="3657600" cy="29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家长会到此结束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38336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家长会的主题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是和家长同志们汇报一下我们上个学期以来的工作情况，学生的在校表现和学习情况。结合期末考试和本学期开学摸底考试的情况，分析学生的学习、生活和心理状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二是和家长们探讨今后学生的教育问题，特别是家庭对孩子行为习惯和学习成绩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三是针对初三下学期的特点和要求对各位家长提几点建议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下学期特点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cc0099"/>
                </a:solidFill>
                <a:latin typeface="Comic Sans MS"/>
              </a:rPr>
              <a:t>、作业多，考试多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、任务重，时间紧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zh-CN" sz="4000" spc="-1" strike="noStrike">
                <a:solidFill>
                  <a:srgbClr val="008000"/>
                </a:solidFill>
                <a:latin typeface="Comic Sans MS"/>
              </a:rPr>
              <a:t>、各项收费多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班级情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任课老师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语文：李老师 （电话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数学：唐老师 （电话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英语：黄老师 （电话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物理：汤老师 （电话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化学：吴老师 （电话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些老师责任心都很强，特别是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语文、化学和数学老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每天中午都牺牲休息时间到教室下班辅导。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物理老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经常下课后留下来等学生问题目。老师深知责任重大，都在千方百计把教育学生的工作干好，想方设法要把学生的学习成绩搞上去。这一点请家长们放心，我代表初三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班的所有任课教师表示，我们有信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能够把我们的教学工作做得更好，把你们的孩子我们的学生管理好教育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使他们的学习不断取得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213372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班级动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学之初，我首先加强对学生进行良好行为习惯的养成教育。通过教育，学生上学能够按时到校，每节课能够提前进教室进入学习状态，自习课保持安静已经成为常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校期间秩序井然。课间无追逐打闹现象，无吃零食现象。通过纪律上的整顿，有了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良好的风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也形成了相互理解相互尊重的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融洽的师生关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给我们学生的学习提供了良好环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学习上更是花了心思 。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除了给学生灌输校规和班规外，叫他们养成自觉自律的习惯，不断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改进学习方法，提高课堂效率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每次月考后都要给他们分析进退原因，并要求他们明确下次考试的目标和竞争对手，制订具体措施。从上次期末考试和这次摸底考试成绩看，取得了明显效果，成绩继续在年级平行班中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保持领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出现了一些成绩优异和进步较大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下面一起来对比分析两次考试的成绩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429000" y="5791320"/>
            <a:ext cx="2286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  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可以说初三年级是初中阶段学生学习的一个转折点，将基本决定每一个学生在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学习、升学方面的前途命运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 家长同志们，可以说在学习上，每个同学都是平等的，关键是学生学不学的问题。从一定意义上讲，任何一个同学只要想学习好，都能成功，学生学不学的关键在于他们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对待学习的态度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，爱不爱学习，思想能不能</a:t>
            </a:r>
            <a:r>
              <a:rPr b="1" lang="zh-CN" sz="2800" spc="-1" strike="noStrike">
                <a:solidFill>
                  <a:srgbClr val="ff9900"/>
                </a:solidFill>
                <a:latin typeface="Comic Sans MS"/>
              </a:rPr>
              <a:t>投入到学习中去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。而这个学习的观念同时也需要家长来给学生灌输。可以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学生读书的好坏很大一方面取决于家长对待学习的态度</a:t>
            </a:r>
            <a:r>
              <a:rPr b="1" lang="zh-CN" sz="2400" spc="-1" strike="noStrike">
                <a:solidFill>
                  <a:srgbClr val="008000"/>
                </a:solidFill>
                <a:latin typeface="Comic Sans MS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个主题是和家长们探讨关于</a:t>
            </a: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如何教育孩子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的问题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3200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5:37Z</dcterms:modified>
  <cp:revision>1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