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958-F3B7-47E4-8273-98B0DF5B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4A3-3FFA-4654-8D5F-BB266156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A8D-2B91-4370-88F5-0A8E71D7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A25-29F9-4444-AF03-D5E5FD02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035-BF56-4F5E-B0FE-E91030ED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EF1-584F-4191-9954-D52C68EF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385-05A3-4F32-BB81-B07F67A9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457-1497-4BFB-BB1C-33309623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C8B-AE07-4538-8840-AB823864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AC9-06FE-417C-8423-D8487527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35C-3B06-4C51-B20F-BC08DD3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C42-7651-463E-8D74-7CF78880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63FA-8CC2-4036-9949-1C9A5D14FB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1773000"/>
            <a:ext cx="5545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  <a:ea typeface="隶书"/>
              </a:rPr>
              <a:t>总 目 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3000" y="404640"/>
            <a:ext cx="24804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</a:rPr>
              <a:t>高二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</a:rPr>
              <a:t>(10)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</a:rPr>
              <a:t>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</a:rPr>
              <a:t>三位一体”式家长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2852640"/>
            <a:ext cx="81741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让每一位同学考取理想的大学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让每一位同学学会学习、学会做人、学会做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33360"/>
            <a:ext cx="86421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三、安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、不在校园内追逐嬉闹，违犯者每次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、走路时不踢包装盒、饮料瓶、易拉罐、砖块、球，违犯者每次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、未经同意擅自使用教室内的电脑设备，每次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、不将手机、小灵通、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MP3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MP4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等物品带入校内，违犯者每次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；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、越窗进出宿舍、教室及其他公共场所，每次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、在教学区（体育运动区域除外）和生活区内随便进行篮球、排球、足球活动每次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；校园内必须推车步行，违犯者每次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、不吸烟、不购买或携带香烟，不喝酒，违犯者每次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，不进入网吧、游戏机房、酒吧、营业性舞厅，违犯者每次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、桌面书高超过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厘米者扣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班规、加减分规则（试行）减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一、学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考试单科满分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考试进入班级前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名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保持前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名再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考试进入年级前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名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保持前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名再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考试进入年级前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名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保持前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名再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考试班级名次前进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名者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以此类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考试年级名次前进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名者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以此类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竞赛中，获国家级奖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省级奖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市级奖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校级奖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被老师当堂表扬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—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中的考试指年级以上组织的大型考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40464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班规、加减分规则（试行）加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二、礼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卫生值日一周未扣分，组员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组长也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运动会参加者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获得几分加几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运动会上被播稿者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拾金不昧者，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三、安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积极劝阻他人矛盾者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发现学校安全漏洞并指出者加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40464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班规、加减分规则（试行）加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76500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、值日生工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值日生工作不到位，内务扣分者，每次“△”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每次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×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个人物品摆放不整齐者，每次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周扣分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者，再打扫一周，如何再被扣分两次，继续一周，直到不扣分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周连续扣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者再打扫一个月，并不得参加文明中学生的评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就寝纪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中午、晚上就寝时间讲话者，每次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室长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晚上睡觉不关台灯或打电筒看书者，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：以上各点扣分，一个月内超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者，将加倍扣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40464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寄宿生纪律减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593640"/>
            <a:ext cx="864216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、其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室长忘签到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私自出本校门者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夜不归宿，无故回家者，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不将管制工具、通信工具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P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P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物品进入宿舍，违者每次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在宿舍内不看言情、武侠、玄幻、凶杀、迷信、反动、游戏的书报及音像制品，违反者每次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在宿舍内不吸烟、不购买或携带香烟，不喝酒，不打扑克，不翻翻墙出本校门等，违反者每次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偷窃他人财物者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，并给予相应处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26028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寄宿生纪律减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分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宿友之间团结互助，没有让班主任以上调解矛盾的，每人每月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宿舍一星期内未被扣分，每人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，室长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被评为星级宿舍，一星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，二星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，三星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受到校级以上表扬，每人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333360"/>
            <a:ext cx="3456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寄宿生纪律加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18900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管理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844640"/>
            <a:ext cx="842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自查关：每位同学每天至少写一分钟日记，用最简洁的语言对自己进行反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互查关：每周有一个督查组进行全方位督促检查，每天晚上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点前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钟进行一天情况通报，表扬先进，鞭策后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监督关：每位班干部对自己分管的工作进行专项记录，一周进行一次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抽查关：班主任会同班长、团支书对各项工作进行抽查，发现问题及时纠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69228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目标：为了让更多的同学少扣分，不扣分，多加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原则：有情的领导，无情的管理，绝情的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40464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量化结果处理办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052640"/>
            <a:ext cx="8640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若年级扣分达到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则全校通报批评，若年级</a:t>
            </a:r>
            <a:r>
              <a:rPr b="0" lang="zh-CN" sz="2400" spc="-1" strike="noStrike">
                <a:solidFill>
                  <a:srgbClr val="99cc00"/>
                </a:solidFill>
                <a:latin typeface="Times New Roman"/>
              </a:rPr>
              <a:t>扣分达到</a:t>
            </a:r>
            <a:r>
              <a:rPr b="0" lang="zh-CN" sz="2400" spc="-1" strike="noStrike">
                <a:solidFill>
                  <a:srgbClr val="99cc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99cc00"/>
                </a:solidFill>
                <a:latin typeface="Times New Roman"/>
              </a:rPr>
              <a:t>分，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则给予警告处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若班级扣分达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全班点名批评，班主任对其戒勉谈话，并写出书面说明书；若班级扣分达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，则根据情节轻重，提交年级组进行一定纪律处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在班规中，若大部分同学认为不合理的条目，只要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80%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以上同学认可，就可修改，各组组长有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的加减分权，各班委委员有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的加减分权，副班长、副支书有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的加减分权，班长、团支书有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的加减分权，但加减分时必须有充分的理由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且在学期结束时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189000"/>
            <a:ext cx="59752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2008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月份的考试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如下同学荣获优胜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05264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陆娟      仇嘉慧    倪超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施力宇   杨夏灵   樊朝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董姗姗   何珂帅    陆燕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姚杰       周晓倩      倪裕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戴炜炜    吴佳伟       秦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137160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24000" y="49417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优胜奖获得者代表发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189000"/>
            <a:ext cx="59752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2008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月份的考试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如下同学荣获进步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05264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董姗姗   陆燕华    仇嘉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范   鼎     周晓倩    徐嘉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王居谦    施俊锴     丁小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孙征宇   许益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137160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24000" y="43657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步奖获得者代表发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0"/>
            <a:ext cx="6337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精明强干的班干队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76280"/>
            <a:ext cx="77724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  长：张瑜   副班长：赵炜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团支书：杨夏灵 副团支书：樊朝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委员：何珂帅  秦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委员：仇嘉慧  陆凯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劳动委员：姚杰    赵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育委员：范鼎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纪律委员：夏宇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保安全委员：施佳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委员：陆燕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六大互助小组负责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樊朝煜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何珂帅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冯炜杰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秦鑫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倪超逸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赵炜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189000"/>
            <a:ext cx="59752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2008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月份的考试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单科优秀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052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刘    洋     杨欢欢   陆     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施力宇    倪超逸    仇嘉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董姗姗     杨夏灵     樊朝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99cc00"/>
                </a:solidFill>
                <a:latin typeface="Times New Roman"/>
              </a:rPr>
              <a:t>高斌杰     何珂帅     陈佩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137160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24000" y="43657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科优秀奖代表发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189000"/>
            <a:ext cx="741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2008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日开学以来在行为习惯、学习习惯等方面最优秀的同学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557360"/>
            <a:ext cx="7632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200" spc="-1" strike="noStrike">
                <a:solidFill>
                  <a:srgbClr val="99cc00"/>
                </a:solidFill>
                <a:latin typeface="Times New Roman"/>
              </a:rPr>
              <a:t>仇嘉慧    赵炜炜      陈佩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</a:rPr>
              <a:t>陆    娟    张天宇      施力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</a:rPr>
              <a:t>杨欢欢    徐嘉琦      范    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</a:rPr>
              <a:t>王    琛    马嘉嶺      陆    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</a:rPr>
              <a:t>倪超逸    董姗姗      张    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</a:rPr>
              <a:t>杨夏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1371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76280"/>
            <a:ext cx="79930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开学以来班级中出现的主要问题及应对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341360"/>
            <a:ext cx="8280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从成绩上看，我班的两极分化现象比较严重，获优秀奖人数在同类班级中是最高的，但未拿到双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的人数也是最多的，这就严重阻碍了本科的录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应对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年级组统一利用课外时间对不达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或达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不保险的同学进行补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改进学习方法，增强主动性和紧迫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549360"/>
            <a:ext cx="8136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开学以来班级中出现的主要问题及应对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628640"/>
            <a:ext cx="828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从班级常规管理分数来看，我们班跟兄弟班级还有差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应对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每位同学从自身做起，首先做到个体不被年级扣分，其次认真完成分配到的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班委会、监督组加强监督公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55640" y="18900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04640"/>
            <a:ext cx="8136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开学以来班级中出现的主要问题及应对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484280"/>
            <a:ext cx="828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从班级内部量化分数看，同学间也参次不齐，扣分超过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的有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位，超过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有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人，说明同学在遵章守纪、习惯养成方面差异性较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应对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坚决杜绝同样错误的扣分，聪明的人不犯第二次同样的错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对已有的扣分进行归因分析，明确目标和努力方向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5640" y="18900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开学以来班级中出现的主要问题及应对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84280"/>
            <a:ext cx="8280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相当一部分同学还没有养成良好的卫生习惯、行为习惯、学习习惯，造成无谓的失分，效率低下。应对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班主任会同任课老师，不厌其烦地纠正不良习惯，自始到终坚决贯彻好习惯的养成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请家长共同督促各位同学养成良好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18900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89000"/>
            <a:ext cx="81356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开学以来班级中出现的主要问题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765000"/>
            <a:ext cx="8893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99cc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一部分同学意志力比较薄弱，造成与优秀生差距越来越大，与后进生的差距越来越小，本届普通班的同学，从中考分数来讲，与实验、包场几乎没有什么优势，但从学习时间上来比较，我们还是最少，每天大约少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小时多一点，如何才能保持我们的优势，把时间上的损失夺回来呢？显然再增加时间几乎是不可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Times New Roman"/>
              </a:rPr>
              <a:t>应对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把可以利用的时间充分利用，早晨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40-7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0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早饭时间，中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-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，晚上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00-6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，早饭争取在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到校前解决；中午休息时间控制在半小时以内，晚饭尽量在学校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）每天暗示自己要提高学习效率，全身心投入，将每天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钟记忆比赛的体验用于每一节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5640" y="18900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89000"/>
            <a:ext cx="81356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家长交流（可任选一个或两个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765000"/>
            <a:ext cx="835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您的孩子学习有了进步或有了值得表扬的行为、成绩，您通常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您的孩子犯了错误或学习成绩不断下降，您通常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您觉得孩子的学习目标明确吗？主要表现在哪些方面？您对他（她）的期望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您认为孩子的学习很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您的孩子能经常主动地谈论他（她）的学习或学校生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您觉得孩子的优点、缺点表现在哪些方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您觉得孩子成绩的关键或者说孩子的潜力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、您对班主任或任课老师有什么建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5040" y="383760"/>
            <a:ext cx="703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积极的心理态度建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90480" y="1612800"/>
            <a:ext cx="39639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观念决定心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心态决定行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行为决定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习惯决定未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89000"/>
            <a:ext cx="8135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欣赏几个名人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态度决定一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积极的态度，消极的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罪于外，归因于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不可能，只是暂时没有找到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一定有方法，千万别说不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每一个不幸中孕含着同当量幸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种子。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89000"/>
            <a:ext cx="8135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欣赏几个名人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2286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认真负责的课代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60020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语文：王琛     数学：施力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英语：董姗姗   物理：冯炜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化学：周晓倩   生物：汤仁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政治：孙征宇   历史：黄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地理：马嘉玲   通用技术：秦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22400" y="274320"/>
            <a:ext cx="629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成功公式探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8200" y="1698480"/>
            <a:ext cx="798840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功公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意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%     100%    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要素是什么呢？是行动、方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功的第一要素是意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意愿会催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方法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89000"/>
            <a:ext cx="8135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欣赏几个名人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71600" y="9144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时间管理法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确目标，制定计划，写成清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定完成期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秒不浪费，工作日志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业余时间管理，睡眠，学习，娱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心致志，不要虎头蛇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用节省时间的工具，通讯，交通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89000"/>
            <a:ext cx="8135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欣赏几个名人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58672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1371600" cy="3657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771640" y="1916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分力合力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89000"/>
            <a:ext cx="8135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欣赏一个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08880" y="3200400"/>
            <a:ext cx="67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fjzzjy.gov.cn/newsInfo.aspx?pkId=164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管理层次与角色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1905120"/>
            <a:ext cx="174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为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干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3429000"/>
            <a:ext cx="1743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ff"/>
                </a:solidFill>
                <a:latin typeface="Times New Roman"/>
                <a:ea typeface="黑体"/>
              </a:rPr>
              <a:t>如何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4724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何时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828800" y="2514600"/>
            <a:ext cx="5104800" cy="3657600"/>
            <a:chOff x="1828800" y="2514600"/>
            <a:chExt cx="5104800" cy="3657600"/>
          </a:xfrm>
        </p:grpSpPr>
        <p:grpSp>
          <p:nvGrpSpPr>
            <p:cNvPr id="53" name=""/>
            <p:cNvGrpSpPr/>
            <p:nvPr/>
          </p:nvGrpSpPr>
          <p:grpSpPr>
            <a:xfrm>
              <a:off x="1828800" y="2514600"/>
              <a:ext cx="5104800" cy="3657600"/>
              <a:chOff x="1828800" y="2514600"/>
              <a:chExt cx="5104800" cy="3657600"/>
            </a:xfrm>
          </p:grpSpPr>
          <p:sp>
            <p:nvSpPr>
              <p:cNvPr id="54" name=""/>
              <p:cNvSpPr/>
              <p:nvPr/>
            </p:nvSpPr>
            <p:spPr>
              <a:xfrm>
                <a:off x="1828800" y="2514600"/>
                <a:ext cx="5104800" cy="365760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5212440" y="3334680"/>
                <a:ext cx="3060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805480" y="4735440"/>
                <a:ext cx="317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5960160" y="4419000"/>
                <a:ext cx="3060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3564360" y="3657600"/>
              <a:ext cx="16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2819520" y="3656880"/>
            <a:ext cx="3124080" cy="1066680"/>
          </a:xfrm>
          <a:custGeom>
            <a:avLst/>
            <a:gdLst>
              <a:gd name="textAreaLeft" fmla="*/ 686880 w 3124080"/>
              <a:gd name="textAreaRight" fmla="*/ 2437200 w 312408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划组织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2514600"/>
            <a:ext cx="1597320" cy="114300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决策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25780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监督执行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735280"/>
            <a:ext cx="2330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班长团支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1280" y="3809880"/>
            <a:ext cx="1247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各班委委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03480" y="5105520"/>
            <a:ext cx="1034280" cy="947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各组组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课代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836640"/>
            <a:ext cx="86421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学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早晚读、上课睡觉，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、迟到早退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包括自修、体锻课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分，旷课每节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分，旷操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早操、眼保健操、课间操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作业潦草马虎不认真，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；背诵默写不过关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；作业缺交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；抄袭他人作业每次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上课期间和老师顶撞而影响课堂纪律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被老师当堂批评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考试作弊一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，并给予相应的学校处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18900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班规及加减分规则（试行）减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76280"/>
            <a:ext cx="86421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二、礼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在校园内必须佩戴胸卡，佩戴在最外面，上面照片不允许遮挡。违犯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在楼道、教室、走廊行走时，要慢步轻声，不得大声喧哗或嘻笑，不吹口哨，不得讲脏话粗话，违犯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坐立时不抖动双腿，不歪头歪脑，不跷二郎腿，站姿要正直，不弯腰驼背东张西看，违犯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、不打响指、不佩戴饰物、不穿高跟鞋，不留长指甲，男生不留长发，女生不梳披肩发、不染指甲，违犯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分；男生烫卷发、蓄胡须，女生烫卷发、浓妆艳抹，染有色发（黑色除外）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8900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班规、加减分规则（试行）减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76280"/>
            <a:ext cx="86421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二、礼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必须认真参加学校班级的卫生值日工作，每天卫生值日若扣分，组员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，组长也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不踩踏草坪，不随地吐痰，口中有痰要吐在手纸里、手帕中；不乱丢垃圾，手中废物要扔进垃圾桶，违犯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遵守静校纪律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中午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后、晚上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0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后教室要保持绝对安静，早饭期间（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40-7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0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）不吃早饭的同学在教室自习并保持学习状态，违犯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，若被巡视老师、班委发现两次或提醒后屡教不改者，取消中午和晚上在教室自习的权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18900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班规、加减分规则（试行）减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76280"/>
            <a:ext cx="86421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二、礼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、自习时不讲闲话，不随便走动，违犯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分；在教室不允许吃零食、嚼口香糖、下棋，违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老师在上课时，迟到同学应先从前门喊报告或轻声敲门，待老师允许后再进入教室；如果不是上课，可以慢步轻声进入，不要影响其他同学自习，违犯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必须虚心接受学校教职工的管教批评，绝不允许顶撞教职工，给教职工提意见态度要诚恳，违反者情节较轻且主动认错，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；情节严重者，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以上；屡教不改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18900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班规、加减分规则（试行）减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476280"/>
            <a:ext cx="7561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333360"/>
            <a:ext cx="86421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二、礼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1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欺骗老师、家长的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，情节严重的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以上，若有诽谤他人、恶意中伤他人者，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，满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次上报学校，给予一定的纪律处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不看言情、武侠、玄幻、凶杀、迷信、反动、游戏的书报及音像制品，违犯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；在校内打扑克、打游戏者每次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；与异性有不正常交往者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3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不服从班干部管理者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，顶撞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、垃圾不可大量扔在教室前的垃圾筒中，违者扣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0"/>
            <a:ext cx="597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班规、加减分规则（试行）减分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09:54Z</dcterms:modified>
  <cp:revision>41</cp:revision>
  <dc:subject>主题班会课件(分28大类): http://shop62905894.taobao.com</dc:subject>
  <dc:title>主题班会课件(分28大类): http://shop62905894.taobao.com</dc:title>
</cp:coreProperties>
</file>