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23.jpeg" ContentType="image/jpeg"/>
  <Override PartName="/ppt/media/image12.png" ContentType="image/png"/>
  <Override PartName="/ppt/media/camera.wav" ContentType="audio/x-wav"/>
  <Override PartName="/ppt/media/image11.jpeg" ContentType="image/jpeg"/>
  <Override PartName="/ppt/media/image9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5.jpeg" ContentType="image/jpeg"/>
  <Override PartName="/ppt/media/image42.png" ContentType="image/png"/>
  <Override PartName="/ppt/media/image26.jpeg" ContentType="image/jpeg"/>
  <Override PartName="/ppt/media/image38.gif" ContentType="image/gif"/>
  <Override PartName="/ppt/media/image40.gif" ContentType="image/gif"/>
  <Override PartName="/ppt/media/image33.png" ContentType="image/png"/>
  <Override PartName="/ppt/media/image41.gif" ContentType="image/gif"/>
  <Override PartName="/ppt/media/image21.jpeg" ContentType="image/jpeg"/>
  <Override PartName="/ppt/media/image36.gif" ContentType="image/gif"/>
  <Override PartName="/ppt/media/image6.gif" ContentType="image/gif"/>
  <Override PartName="/ppt/media/image4.gif" ContentType="image/gif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0A5-010A-44CE-A9BD-20A3305D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83D-36E9-4D9C-9733-29FE92A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37A-588A-459F-979E-582B3321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7F2-C2DA-45C2-A7D6-B0ADC538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4B2-DD3D-476E-819F-803E1C6A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401-3995-49C1-92BF-F7924DF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59D-F230-4FEB-9CE9-4C627D7D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F8D-64F2-4E2C-AF62-8A1A3232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F61-CBFB-4871-822E-A5D997F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2D2-6C90-492E-8E45-6648268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573-131B-4280-AECC-9877D14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120-010F-4178-A7F3-6F38151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9A88-33C9-4986-9094-DFD9EA6ABF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6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3.xml"/><Relationship Id="rId10" Type="http://schemas.openxmlformats.org/officeDocument/2006/relationships/slide" Target="slide43.xml"/><Relationship Id="rId11" Type="http://schemas.openxmlformats.org/officeDocument/2006/relationships/slide" Target="slide41.xml"/><Relationship Id="rId12" Type="http://schemas.openxmlformats.org/officeDocument/2006/relationships/slide" Target="slide41.xml"/><Relationship Id="rId13" Type="http://schemas.openxmlformats.org/officeDocument/2006/relationships/slide" Target="slide40.xml"/><Relationship Id="rId14" Type="http://schemas.openxmlformats.org/officeDocument/2006/relationships/slide" Target="slide40.xml"/><Relationship Id="rId15" Type="http://schemas.openxmlformats.org/officeDocument/2006/relationships/slide" Target="slide42.xml"/><Relationship Id="rId16" Type="http://schemas.openxmlformats.org/officeDocument/2006/relationships/slide" Target="slide42.xml"/><Relationship Id="rId17" Type="http://schemas.openxmlformats.org/officeDocument/2006/relationships/slide" Target="slide45.xml"/><Relationship Id="rId18" Type="http://schemas.openxmlformats.org/officeDocument/2006/relationships/slide" Target="slide45.xml"/><Relationship Id="rId19" Type="http://schemas.openxmlformats.org/officeDocument/2006/relationships/slide" Target="slide46.xml"/><Relationship Id="rId20" Type="http://schemas.openxmlformats.org/officeDocument/2006/relationships/slide" Target="slide46.xml"/><Relationship Id="rId21" Type="http://schemas.openxmlformats.org/officeDocument/2006/relationships/slide" Target="slide46.xml"/><Relationship Id="rId22" Type="http://schemas.openxmlformats.org/officeDocument/2006/relationships/slide" Target="slide48.xml"/><Relationship Id="rId23" Type="http://schemas.openxmlformats.org/officeDocument/2006/relationships/image" Target="../media/image36.gif"/><Relationship Id="rId24" Type="http://schemas.openxmlformats.org/officeDocument/2006/relationships/slide" Target="slide46.xml"/><Relationship Id="rId25" Type="http://schemas.openxmlformats.org/officeDocument/2006/relationships/slide" Target="slide47.xml"/><Relationship Id="rId26" Type="http://schemas.openxmlformats.org/officeDocument/2006/relationships/slide" Target="slide47.xm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" Target="slide39.xm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9.xml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0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3166" t="19273" r="85936" b="27455"/>
          <a:stretch/>
        </p:blipFill>
        <p:spPr>
          <a:xfrm>
            <a:off x="6156360" y="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rcRect l="0" t="0" r="0" b="9203"/>
          <a:stretch/>
        </p:blipFill>
        <p:spPr>
          <a:xfrm>
            <a:off x="228600" y="2100240"/>
            <a:ext cx="8686800" cy="46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-100080"/>
            <a:ext cx="4979880" cy="249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905120"/>
            <a:ext cx="820908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隶书"/>
              </a:rPr>
              <a:t>庆祝教师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彩云"/>
              </a:rPr>
              <a:t>师生同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高三（３）班主题班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5445000"/>
            <a:ext cx="1193760" cy="8953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11253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夸夸其谈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地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773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海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260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D</a:t>
            </a:r>
            <a:r>
              <a:rPr b="1" lang="zh-CN" sz="48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2766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的发现者是谁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29242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舍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429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n do elephants have sixteen fe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07664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When there are four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65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唐朝开国皇帝是谁，四大名著中哪部的剧情发生在这朝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李世民《西游记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572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002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6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验室里放着酒精灯和蜡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手操作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问应   该先点燃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55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349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说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周杰伦为其他歌手写的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14172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3213000"/>
            <a:ext cx="849780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热带雨林》 《河滨公园》 《侯鸟》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.H.E 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骑士精神》 《说爱你》 《布拉格广场》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倒带》 《海盗》 《就是爱》   蔡依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站在你这边》 潘玮柏 《命中注定》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 in l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瓦解》 南拳妈妈 《自我催眠》 罗志祥 等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630864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ull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429000" y="2286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E</a:t>
            </a:r>
            <a:r>
              <a:rPr b="1" lang="zh-CN" sz="48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066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只鸡，一只鹅，放冰箱里，鸡冻死了，鹅却活着，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66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因为这是一只企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971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抬头望明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外国地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573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仰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267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ch is faster ,heat or c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013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Heat, because you can “catch a cold”,but not “catch a hea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1143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2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人是不用电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341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缅甸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8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说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街舞舞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637000"/>
            <a:ext cx="7056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Poppin                   Locking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breaking                hip-ho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332000" y="549360"/>
            <a:ext cx="662472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第二轮 动作题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244000" y="6543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NEX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708280"/>
            <a:ext cx="7632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b2caa"/>
                </a:solidFill>
                <a:latin typeface="黑体"/>
                <a:ea typeface="黑体"/>
              </a:rPr>
              <a:t>每组派出５名代表，其中３人负责描述，另外２人负责猜，时间</a:t>
            </a:r>
            <a:r>
              <a:rPr b="1" lang="zh-CN" sz="3600" spc="-1" strike="noStrike">
                <a:solidFill>
                  <a:srgbClr val="9b2caa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b2caa"/>
                </a:solidFill>
                <a:latin typeface="黑体"/>
                <a:ea typeface="黑体"/>
              </a:rPr>
              <a:t>分钟。每答对一个加</a:t>
            </a:r>
            <a:r>
              <a:rPr b="1" lang="zh-CN" sz="3600" spc="-1" strike="noStrike">
                <a:solidFill>
                  <a:srgbClr val="9b2caa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9b2caa"/>
                </a:solidFill>
                <a:latin typeface="黑体"/>
                <a:ea typeface="黑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869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  <a:hlinkClick r:id="rId4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53737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5661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53737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476280"/>
            <a:ext cx="2232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丘吉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华盛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梁启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李长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韩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孙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476280"/>
            <a:ext cx="309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骑自行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射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救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地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古往今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春秋战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404640"/>
            <a:ext cx="259236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地球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考拉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手电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水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刘德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氯化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生物多样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ull dir="r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60280"/>
            <a:ext cx="20876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老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陶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容祖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庆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孙中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赵本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爱女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476280"/>
            <a:ext cx="2879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铅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压缩文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超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汽车总动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49280"/>
            <a:ext cx="2808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电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戴高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八两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尝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百鸟朝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260280"/>
            <a:ext cx="3744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颠三倒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笔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氢氧化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家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战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梦想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黑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404640"/>
            <a:ext cx="302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倒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峡两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南财经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社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琴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333360"/>
            <a:ext cx="3132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李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联想电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动感地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班主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舞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漫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0"/>
            <a:ext cx="3600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几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脑筋急转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发如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成人高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重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元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张栋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18900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0"/>
            <a:ext cx="237636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左右不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粉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游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马尔代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等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背背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圣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0"/>
            <a:ext cx="316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胡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凡尔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世界银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涂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潘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的地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文字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陈独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轮：人物和音乐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19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3500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941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0560" y="1851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708280"/>
            <a:ext cx="36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爱情转移　　　陈奕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272412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香水有毒　胡杨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436572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大海　　　张雨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29264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东风破　　周杰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580536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菊花台　　　周杰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587700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怒放的生命　　汪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87280" y="1557360"/>
            <a:ext cx="76201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2525"/>
                </a:solidFill>
                <a:latin typeface="黑体"/>
                <a:ea typeface="黑体"/>
              </a:rPr>
              <a:t>本次知识竞赛我们将分五轮进行，第一轮是必答题，第二轮是动作题，第三轮是人物和音乐题，第四轮是抢答题，最后一轮是风险题。比赛结束后，我们将评出一个优胜组，并给予一定的奖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6397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47640" y="83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76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１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48038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１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音乐１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84464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有没有一首歌会让你想起我　　　周华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1916280"/>
            <a:ext cx="36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高原红　　　容中尔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400536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不要惹我生气　黄圣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5734080"/>
            <a:ext cx="36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我相信　　　杨培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5805360"/>
            <a:ext cx="36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大舌头　　　吴克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05360"/>
            <a:ext cx="36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过火　　张信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010040" cy="5486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5400" y="7632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14400" y="365040"/>
            <a:ext cx="2057400" cy="70344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张爱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484360" y="260280"/>
            <a:ext cx="5324400" cy="6453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2492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爱因斯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716040"/>
            <a:ext cx="6705720" cy="4922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733920" y="5791320"/>
            <a:ext cx="1600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余秋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5181840" cy="6324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00800" y="2666880"/>
            <a:ext cx="1828800" cy="642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286520" cy="4809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伽利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457200" y="609480"/>
            <a:ext cx="5054400" cy="6248160"/>
            <a:chOff x="457200" y="609480"/>
            <a:chExt cx="5054400" cy="624816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505440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793160" y="6249600"/>
              <a:ext cx="24908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卧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248520" y="3124080"/>
            <a:ext cx="182880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5245200" cy="547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26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库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52280"/>
            <a:ext cx="4587840" cy="6553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694920" y="2286000"/>
            <a:ext cx="1277640" cy="16002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03640" y="19080"/>
            <a:ext cx="5046480" cy="683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9640" y="220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525"/>
                </a:solidFill>
                <a:latin typeface="Times New Roman"/>
                <a:ea typeface="楷体_GB2312"/>
              </a:rPr>
              <a:t>哥白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286000" y="3049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琥珀简体"/>
              </a:rPr>
              <a:t>第一轮：必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8153280" cy="33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比赛规则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组必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题，待主持人宣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题目后方可解答。每组答对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答错不倒扣分。答题时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838080" y="5638680"/>
            <a:ext cx="129564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2438280" y="5638680"/>
            <a:ext cx="1295640" cy="825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3886200" y="5638680"/>
            <a:ext cx="1295280" cy="82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5334120" y="5638680"/>
            <a:ext cx="12952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6934320" y="5638680"/>
            <a:ext cx="129528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E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NEX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5920" y="304920"/>
            <a:ext cx="4989600" cy="6172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168880" y="1219320"/>
            <a:ext cx="3898800" cy="5257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943600" y="304920"/>
            <a:ext cx="1676520" cy="642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陈省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143000" y="8380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第四轮：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黑体"/>
              </a:rPr>
              <a:t>抢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8507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比赛规则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本轮比赛共有十八小题。待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持人宣读完题目后方可解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每题答对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分，答错不扣　　　　　　　　　分，每题答题时间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秒 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3520" y="5335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上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点燃的蜡烛，先被风吹灭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，不久又一阵风吹灭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，最后桌子上还剩几根蜡烛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2057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还剩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根，其它都烧完了。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819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个胖子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地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819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合肥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429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离离原上草，一岁一枯荣”这种生命现象说明生物体具有（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应激性和适应性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陈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殖和生长现象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遗传和变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5562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963800" cy="1981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" y="304920"/>
            <a:ext cx="7989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翻译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He is not richer than 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He is no richer than I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6765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1)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他不比我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2)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他和我一样，也不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200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太平天国中天王、东王、南王、西王、北王、冀王分别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49568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洪秀全、杨秀清、冯云山、萧朝贵、韦昌辉、石达开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963800" cy="1981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3520" y="533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相片中的胶卷含有什么成份，所以胶卷不能见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AgI 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或 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Ag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243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相逢何必曾相识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成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一见如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809880"/>
            <a:ext cx="8610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人风趣的形容某国狭窄的国土轮廓时说“如果你把头枕在安第斯山上，那么你的脚就会伸进太平洋里去。”请问这是哪个国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0280" y="55738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智利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963800" cy="198108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0948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81952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476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人类已知的最软的石头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1413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滑石</a:t>
            </a:r>
            <a:r>
              <a:rPr b="1" lang="zh-CN" sz="28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2349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张足够大的长方形纸，切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角还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角，切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角还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角，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角开始，连续四次切去所有的角，还有多少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36640" y="391788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答案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56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479736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黄金分割这一名词是谁起名的？他是哪个国家的？黄金数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580536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答案：意大利画家达•芬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0.6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8153280" y="60642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10800" y="5987"/>
                </a:moveTo>
                <a:lnTo>
                  <a:pt x="13376" y="8598"/>
                </a:lnTo>
                <a:lnTo>
                  <a:pt x="13376" y="6857"/>
                </a:lnTo>
                <a:lnTo>
                  <a:pt x="15152" y="6857"/>
                </a:lnTo>
                <a:lnTo>
                  <a:pt x="15152" y="10374"/>
                </a:lnTo>
                <a:lnTo>
                  <a:pt x="17763" y="12950"/>
                </a:lnTo>
                <a:lnTo>
                  <a:pt x="16109" y="12950"/>
                </a:lnTo>
                <a:lnTo>
                  <a:pt x="16109" y="20139"/>
                </a:lnTo>
                <a:lnTo>
                  <a:pt x="5491" y="20139"/>
                </a:lnTo>
                <a:lnTo>
                  <a:pt x="5491" y="12950"/>
                </a:lnTo>
                <a:lnTo>
                  <a:pt x="3837" y="12950"/>
                </a:lnTo>
                <a:close/>
              </a:path>
              <a:path fill="darkenLess" w="21600" h="25900">
                <a:moveTo>
                  <a:pt x="13376" y="8598"/>
                </a:moveTo>
                <a:lnTo>
                  <a:pt x="13376" y="6857"/>
                </a:lnTo>
                <a:lnTo>
                  <a:pt x="15152" y="6857"/>
                </a:lnTo>
                <a:lnTo>
                  <a:pt x="15152" y="10374"/>
                </a:lnTo>
                <a:close/>
              </a:path>
              <a:path fill="darkenLess" w="21600" h="25900">
                <a:moveTo>
                  <a:pt x="9877" y="16449"/>
                </a:moveTo>
                <a:lnTo>
                  <a:pt x="11723" y="16449"/>
                </a:lnTo>
                <a:lnTo>
                  <a:pt x="11723" y="20139"/>
                </a:lnTo>
                <a:lnTo>
                  <a:pt x="16109" y="20139"/>
                </a:lnTo>
                <a:lnTo>
                  <a:pt x="16109" y="12950"/>
                </a:lnTo>
                <a:lnTo>
                  <a:pt x="5491" y="12950"/>
                </a:lnTo>
                <a:lnTo>
                  <a:pt x="5491" y="20139"/>
                </a:lnTo>
                <a:lnTo>
                  <a:pt x="9877" y="201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3240" y="260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子计算机发明于哪一年？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1601640"/>
            <a:ext cx="80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数学的最高奖项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诺贝尔奖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菲尔兹奖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沃尔夫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76720" y="1601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897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中装的球，除去两个以外都是黄色的球，出去两个以外都是红色的球，出去两个以外都是蓝色的球，问袋中一共有多少个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7080" y="4460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22080" y="907920"/>
            <a:ext cx="23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1946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09480" y="60948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下列各是哪个民族的节日吗？古尔邦、三月三、泼水节、那达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80010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773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答案：那达慕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蒙古族、古尔邦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回族、三月三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壮族、泼水节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傣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924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说出下列联合国机构的所在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法院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国教科文组织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卫生组织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银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4581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答案：国际法院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荷兰海牙，联合国教科文组织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法国巴黎，世界卫生组织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瑞士日内瓦，世界银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美国华盛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6094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安门前人民英雄纪念碑背面的碑文是谁题写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060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答案：周恩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80010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33163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最坚硬的部分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62080" y="491652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牙齿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23880" y="152280"/>
            <a:ext cx="6248520" cy="1434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风险题部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304920" y="2514600"/>
            <a:ext cx="243828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3124080" y="2514600"/>
            <a:ext cx="243864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2438280"/>
            <a:ext cx="243828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4" action="ppaction://hlinksldjump"/>
          </p:cNvPr>
          <p:cNvSpPr/>
          <p:nvPr/>
        </p:nvSpPr>
        <p:spPr>
          <a:xfrm>
            <a:off x="6095880" y="5334120"/>
            <a:ext cx="2438640" cy="761760"/>
          </a:xfrm>
          <a:prstGeom prst="ellipse">
            <a:avLst/>
          </a:prstGeom>
          <a:solidFill>
            <a:srgbClr val="ffffd1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5" action="ppaction://hlinksldjump"/>
          </p:cNvPr>
          <p:cNvSpPr/>
          <p:nvPr/>
        </p:nvSpPr>
        <p:spPr>
          <a:xfrm>
            <a:off x="3124080" y="5257800"/>
            <a:ext cx="2438640" cy="762120"/>
          </a:xfrm>
          <a:prstGeom prst="ellipse">
            <a:avLst/>
          </a:prstGeom>
          <a:solidFill>
            <a:srgbClr val="ffffd1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6" action="ppaction://hlinksldjump"/>
          </p:cNvPr>
          <p:cNvSpPr/>
          <p:nvPr/>
        </p:nvSpPr>
        <p:spPr>
          <a:xfrm>
            <a:off x="152280" y="5334120"/>
            <a:ext cx="2438640" cy="761760"/>
          </a:xfrm>
          <a:prstGeom prst="ellipse">
            <a:avLst/>
          </a:prstGeom>
          <a:solidFill>
            <a:srgbClr val="ffffd1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590920"/>
            <a:ext cx="121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2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25909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2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0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25146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1" action="ppaction://hlinksldjump"/>
              </a:rPr>
              <a:t>2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2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544032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3" action="ppaction://hlinksldjump"/>
              </a:rPr>
              <a:t>3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4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7920" y="5364000"/>
            <a:ext cx="833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5" action="ppaction://hlinksldjump"/>
              </a:rPr>
              <a:t>3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6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440320"/>
            <a:ext cx="1447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7" action="ppaction://hlinksldjump"/>
              </a:rPr>
              <a:t>3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8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9" action="ppaction://hlinksldjump"/>
          </p:cNvPr>
          <p:cNvSpPr/>
          <p:nvPr/>
        </p:nvSpPr>
        <p:spPr>
          <a:xfrm>
            <a:off x="990720" y="3657600"/>
            <a:ext cx="3124080" cy="1219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9120" y="3962520"/>
            <a:ext cx="833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20" action="ppaction://hlinksldjump"/>
              </a:rPr>
              <a:t>5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21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381880" y="6172200"/>
            <a:ext cx="685800" cy="5716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rId24" action="ppaction://hlinksldjump"/>
          </p:cNvPr>
          <p:cNvSpPr/>
          <p:nvPr/>
        </p:nvSpPr>
        <p:spPr>
          <a:xfrm>
            <a:off x="4572000" y="3657600"/>
            <a:ext cx="3124080" cy="1219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396252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25" action="ppaction://hlinksldjump"/>
              </a:rPr>
              <a:t>50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26" action="ppaction://hlinksldjump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52680" y="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边电线杆上蹲着一只猴子，司机小李看到 就立刻停下车来，请问为什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9890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他把猴子的屁股当成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365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在空格中填入一个恰当的成语组成诗句：    —— ——总是春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37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at does WTO stan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877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It stands for World Trade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486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紫千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70828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85264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9098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最初发明滑冰，是把它作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357720"/>
            <a:ext cx="28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357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交通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95280" y="1646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国古代天文学家将星空分为二十八宿，东南西北各七宿，请说出四个方向的名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3733920"/>
            <a:ext cx="741672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苍龙（东）     朱雀（南）    白虎（西）     玄武（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666880" y="5448240"/>
            <a:ext cx="3382920" cy="1028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24760" y="5486400"/>
            <a:ext cx="7999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95280" y="2392200"/>
            <a:ext cx="754380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体骨骼的主要成分是那两种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3886200"/>
            <a:ext cx="426708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碳酸钙       磷酸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9200" y="5456160"/>
            <a:ext cx="895320" cy="71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676520" y="1828800"/>
            <a:ext cx="678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体肌肉分为那三种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3352680"/>
            <a:ext cx="54100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平滑肌     横纹肌      心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1008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19320" y="1600200"/>
            <a:ext cx="723888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古代干支次序首位是甲子，那么最后一个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3625920"/>
            <a:ext cx="114300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癸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63868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2346480"/>
            <a:ext cx="7620120" cy="132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干支纪年法中，不存在的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庚亥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申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寅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丁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4678200"/>
            <a:ext cx="1676160" cy="581400"/>
          </a:xfrm>
          <a:prstGeom prst="rect">
            <a:avLst/>
          </a:prstGeom>
          <a:solidFill>
            <a:srgbClr val="9f0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庚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40520" y="548640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2209680"/>
            <a:ext cx="73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地球中生代分为哪三个时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3733920"/>
            <a:ext cx="55627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叠纪    侏罗纪     白垩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23040" y="5318280"/>
            <a:ext cx="701640" cy="70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75960" y="152280"/>
            <a:ext cx="5639040" cy="4267440"/>
            <a:chOff x="75960" y="152280"/>
            <a:chExt cx="5639040" cy="4267440"/>
          </a:xfrm>
        </p:grpSpPr>
        <p:sp>
          <p:nvSpPr>
            <p:cNvPr id="324" name=""/>
            <p:cNvSpPr/>
            <p:nvPr/>
          </p:nvSpPr>
          <p:spPr>
            <a:xfrm flipH="1">
              <a:off x="75960" y="152280"/>
              <a:ext cx="2276280" cy="3467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52600" y="152280"/>
              <a:ext cx="3362400" cy="42674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320" y="3619440"/>
              <a:ext cx="5638680" cy="80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136600" y="2108160"/>
              <a:ext cx="1735200" cy="4446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0640" y="1841400"/>
              <a:ext cx="975960" cy="711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136600" y="2552400"/>
              <a:ext cx="541440" cy="14223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867280" y="398520"/>
            <a:ext cx="320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意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三角形内任意一点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表示三个力，它们的合力方向向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4267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219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1600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391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320" y="4416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A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定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B                                        B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定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C                                              C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可能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B        E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可能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C                  D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可能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A         F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以上选项都不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6095880"/>
            <a:ext cx="647640" cy="517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581280" y="228600"/>
            <a:ext cx="2057400" cy="64260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答案：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90920" y="127080"/>
            <a:ext cx="3352680" cy="10083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趣味猜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371600"/>
            <a:ext cx="845820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很好的恋人相隔千里。某日，女生听其另一朋友说：“你的男友可能找了另一女孩作朋友。”她为了试探是否有其事，写了一封信去问，信的内容只有一个字“怂？”。她男友接到信后，先是一呆，之后笑了笑，挥笔回了一封信去解释这种误会，这封回信的内容也只有一个字，并加了一个感叹号，你知道这个字是什么字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38880" y="457200"/>
            <a:ext cx="1293840" cy="642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您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80028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33520" y="609480"/>
            <a:ext cx="81532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全体师生的参与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28600" y="365760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祝老师们节日快乐！事事如意！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4280" y="5638680"/>
            <a:ext cx="884520" cy="884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914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6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52680" y="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144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哪位华人获得过化学方面的诺贝尔奖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900-19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杨振宁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李政道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李远哲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丁肇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141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于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8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因分子反应动力学的研究而获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172360" y="6543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860640"/>
            <a:ext cx="475308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讲出以下作品的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哭泣的骆驼》——                           《长安乱》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金锁计》——                                  《心中的向往》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三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508464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9417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韩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589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张爱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609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泰戈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grayscl/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360" y="8424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990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小苏打，苏打分别指什么化学物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49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英国“光荣革命”，资产阶级和新贵族的统治确立在哪一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267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小明的母亲有三个儿子，大儿子叫大毛，二儿子叫二毛，三儿子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645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88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55166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44640"/>
            <a:ext cx="815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NaH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楷体_GB2312"/>
                <a:ea typeface="楷体_GB2312"/>
              </a:rPr>
              <a:t>3 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Na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630864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grayscl/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57200"/>
            <a:ext cx="835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 谜语：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What goes on four feet ,on two feet ,and three, but the more feet it goes on, the weaker it will b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2133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0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请在空格中填入一个恰当的成语组成诗句：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　　　　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马蹄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98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得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724280"/>
            <a:ext cx="691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、请说以下游戏的开发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魔兽——            仙境传说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仙剑奇侠传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537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暴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6093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Gamel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64008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ull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197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王一天要刮四五十次脸，脸上却仍有胡子。这是什么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04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组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3493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他是理发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971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居里夫人发现了什么元素获得了诺贝尔奖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35733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Po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钋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Ra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343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翻译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don’t teach because teaching is easy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5445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之所以教书，并不是因为教书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62064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模一样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地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268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769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什么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141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倒过来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616572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44000" y="6381720"/>
            <a:ext cx="647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BACK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86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色电视荧光屏上的彩色是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光合成的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22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答案：红、绿、蓝</a:t>
            </a:r>
            <a:r>
              <a:rPr b="0" lang="zh-CN" sz="3200" spc="-1" strike="noStrike">
                <a:solidFill>
                  <a:srgbClr val="ff2525"/>
                </a:solidFill>
                <a:latin typeface="楷体_GB2312"/>
                <a:ea typeface="楷体_GB2312"/>
              </a:rPr>
              <a:t> 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08:3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6:29Z</dcterms:modified>
  <cp:revision>70</cp:revision>
  <dc:subject>主题班会课件(分28大类): http://shop62905894.taobao.com</dc:subject>
  <dc:title>主题班会课件(分28大类): http://shop62905894.taobao.com</dc:title>
</cp:coreProperties>
</file>