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B4F-900A-46DF-A9B8-1EDEA458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F76-E91B-45E6-A452-93B9BAAC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CA0-B9B1-4EE9-8100-778BB6E7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D061-C5E1-4385-8145-40E15051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467E-69A1-4D1C-8F2D-77259EA7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4F50-1A08-4F2C-8F50-BCEC87E8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E868-D485-47F4-B43E-1582F5F3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131B-C8A0-4B9A-8AED-1B80937E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86D3-2760-4494-813A-05400735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87D0-5A88-46C4-8EDF-77AE4A24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C458-40E6-470B-B2F6-4B21FF5C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D27-B2BE-4AE8-BE26-2CEDF85C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ED35-9B38-4D96-9755-721D2C78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BC55-ED27-41F5-A044-408C218C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5AAA-9DB2-4CE0-A2B2-6FFC41FE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ACAB-D985-49E4-8C82-BE1804B4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0F39-3F2D-4AC7-A9E2-BC220A0F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B2D1F2-1E90-4730-BC1C-F168EC4A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88834-A74A-4DAE-87AB-B44291AC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CB7424-7908-4CB2-8B05-8FDBC449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13141-C849-4979-A20C-F467F8B4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40AFB-DECE-4ABA-987B-E445667E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E4B2-264F-4CFC-A982-9C513C77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BB97C-CBCE-4526-BFA5-6BD6CC06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8AACA-D6A2-4706-A329-C55C305D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6AFE56-308F-4AB8-A52A-16F4B3D5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38278-5CA3-41D0-9DD3-BA810429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205FD-6097-430F-9445-10259BBA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1E767-23D9-410E-ABDB-50604F2E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72876-733B-439C-981A-DB399387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732F2F-828B-41A5-8D87-59BCD0E2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9EBC7E-2D12-4380-91D2-3CA55F5B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28218C-436E-4EBB-BEB0-23187ECF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E11A-465B-4E02-9A50-DAEEB832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16238D-4178-40AB-AC95-DFB1F661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A9D828-3F09-4027-8CC0-C25190EC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81FB31-CCE6-4F1B-AA5D-AFF024B8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183A0E-3689-4466-945C-4D98F8D1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921F2F-B65D-441B-9B9B-A658938F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7EAC03-2E4E-4B28-B51B-71F189CC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D6A86C-49E4-466F-A570-9154847D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A29B80-197D-4DB9-8711-3961489D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3F7AE2-94F6-4759-B7CA-CB6CBD8A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174C9-313C-4A00-8DB2-B2A950F4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4C9F-92E2-4580-B36E-FD20234B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67925-FA74-41C8-BC93-74A06620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733E8-8D77-441A-953F-7D31B531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81102-31D6-47C3-B95E-638DB3D4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CD6FB-0DD3-4ADD-84E9-0616F977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9A61B-133A-464C-87C5-9B001901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D5A6F-29D8-4452-BC90-A911786D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F06DD-080D-41EA-8BC2-2D530F04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CCF7E-3AC4-45FA-B4F5-D78C92CD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6DCE5-B235-4A84-8965-5C6963CC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59B73-A85C-4CC9-B6BB-89D2C885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C0C3-CEE9-4E43-9400-02C951A1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A91F9-48A0-4E07-A02C-3352716B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5174-2B1A-45D5-95D8-02995D9D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4B1-6836-4745-8D42-4B6814E7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8C89-303E-4762-8858-53A1F713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2C11-4F7D-4460-B94D-407A3419AC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843280" y="5013360"/>
            <a:ext cx="396072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06A7-9945-4FFC-B69A-175F2E5F1E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7323-7270-4EA7-8DCC-4563DEC52C0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23C6-2048-438E-A114-1C9DF0928FD0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2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9C2C-A2A5-4396-AC83-2BC1ABBF29DF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../Local%20Settings/Temp/Rar$DI00.375/&#34321;&#33735;&#28857;&#28857;05-&#26376;&#20142;&#24825;&#30340;&#31096;rmvb.rmvb" TargetMode="External"/><Relationship Id="rId3" Type="http://schemas.openxmlformats.org/officeDocument/2006/relationships/hyperlink" Target="file:///../Local%20Settings/Temp/Rar$DI00.375/&#34321;&#33735;&#28857;&#28857;&#33735;&#22909;&#26376;&#22278;.flv" TargetMode="External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4360" y="907920"/>
            <a:ext cx="8208720" cy="26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迎国庆贺中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－－－－主题班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21056400">
            <a:off x="2701080" y="4724280"/>
            <a:ext cx="49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制作人：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班   班委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制作时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95280" y="170028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5.</a:t>
            </a:r>
            <a:r>
              <a:rPr b="1" i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有一天绿豆自杀从</a:t>
            </a:r>
            <a:r>
              <a:rPr b="1" i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5</a:t>
            </a:r>
            <a:r>
              <a:rPr b="1" i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楼跳下来</a:t>
            </a:r>
            <a:r>
              <a:rPr b="1" i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i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流了很多血</a:t>
            </a:r>
            <a:r>
              <a:rPr b="1" i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i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怎么样了</a:t>
            </a:r>
            <a:r>
              <a:rPr b="1" i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76720" y="285264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变成了红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4000" y="34290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6.</a:t>
            </a:r>
            <a:r>
              <a:rPr b="1" i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为什么现在没有恐龙了</a:t>
            </a:r>
            <a:r>
              <a:rPr b="1" i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904000" y="364500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恐龙去拍电影了</a:t>
            </a:r>
            <a:r>
              <a:rPr b="0" i="1" lang="zh-CN" sz="4000" spc="-1" strike="noStrike">
                <a:solidFill>
                  <a:srgbClr val="cc66ff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4000" y="4365720"/>
            <a:ext cx="81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7.</a:t>
            </a:r>
            <a:r>
              <a:rPr b="1" i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小明和小华到海边比赛说笑话</a:t>
            </a:r>
            <a:r>
              <a:rPr b="1" i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i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说完笑话后</a:t>
            </a:r>
            <a:r>
              <a:rPr b="1" i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i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他们就死掉了</a:t>
            </a:r>
            <a:r>
              <a:rPr b="1" i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i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48360" y="5589720"/>
            <a:ext cx="36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因为海啸</a:t>
            </a: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(</a:t>
            </a: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笑</a:t>
            </a: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)</a:t>
            </a: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00000" y="549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cc66ff"/>
                </a:solidFill>
                <a:latin typeface="Arial"/>
                <a:ea typeface="楷体_GB2312"/>
              </a:rPr>
              <a:t>你们想对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med">
    <p:cover dir="l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4360" y="270828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cc66ff"/>
                </a:solidFill>
                <a:latin typeface="Arial"/>
              </a:rPr>
              <a:t>中秋节 中秋的喜悦渲染着美丽大地，月亮的柔美感动着灿烂星空。在这佳节来临的日子，我想借着圆月告诉你：认识你，真好！朋友，就是一生一世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6920" y="4149720"/>
            <a:ext cx="763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87280" y="4149720"/>
            <a:ext cx="763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71640" y="4221000"/>
            <a:ext cx="7632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4221000"/>
            <a:ext cx="7632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4360" y="3933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中秋节 举头仰望《十五的月亮》，让《白月光》温柔地洒在你身上，想把《特别的爱给特别的你》，轻轻哼唱《月亮代表我的心》，你听得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51577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cc66ff"/>
                </a:solidFill>
                <a:latin typeface="Arial"/>
              </a:rPr>
              <a:t>中秋节  虽然我很是想你，但我不会寂寞，因为我与你在分享同一轮明月。朋友，谢谢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95280" y="126828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用心聆听      中秋带给你的喜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rcRect l="1565" t="0" r="0" b="1594"/>
          <a:stretch/>
        </p:blipFill>
        <p:spPr>
          <a:xfrm>
            <a:off x="4643280" y="0"/>
            <a:ext cx="4500720" cy="44370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714600" cy="7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med">
    <p:cover dir="r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900000" y="5661000"/>
            <a:ext cx="45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ff"/>
                </a:solidFill>
                <a:latin typeface="Arial"/>
                <a:ea typeface="楷体_GB2312"/>
              </a:rPr>
              <a:t>请欣赏小动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00720" y="587700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ebf25a"/>
                </a:solidFill>
                <a:uFillTx/>
                <a:latin typeface="Arial"/>
                <a:hlinkClick r:id="rId2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148360" y="5877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ebf25a"/>
                </a:solidFill>
                <a:uFillTx/>
                <a:latin typeface="Arial"/>
                <a:hlinkClick r:id="rId3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rcRect l="0" t="0" r="0" b="-2008"/>
          <a:stretch/>
        </p:blipFill>
        <p:spPr>
          <a:xfrm>
            <a:off x="4643280" y="2852640"/>
            <a:ext cx="3529080" cy="36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68360" y="260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年农历八月十五日，是我国传统的中秋佳节。这时是一年秋季的中期，所以被称为中秋。这也是我国仅次于春节的第二大传统节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8360" y="256536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中国的农历里，一年分为四季，每季又分为孟、仲、季三个部分，因而中秋也称仲秋。八月十五的月亮比其它几个月的满月更圆，更明亮，所以又叫做月夕、秋节、仲秋节、八月节、八月会、追月节、玩月节、拜月节、女儿节或团圆节，是流行于全国众多民族中的传统文化节日。此夜，人们仰望天空如玉如盘的朗朗明月，自然会期盼家人团聚。远在他乡的游子，也借此寄托自己对故乡和亲人的思念之情。所以，中秋又称“团圆节”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59280" y="155736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2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9900ff"/>
                  </a:solidFill>
                  <a:miter/>
                </a:ln>
                <a:solidFill>
                  <a:srgbClr val="00ff00">
                    <a:alpha val="4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中秋の含义</a:t>
            </a:r>
            <a:endParaRPr b="0" lang="en-US" sz="1800" spc="1" strike="noStrike">
              <a:ln w="12600">
                <a:solidFill>
                  <a:srgbClr val="9900ff"/>
                </a:solidFill>
                <a:miter/>
              </a:ln>
              <a:solidFill>
                <a:srgbClr val="00ff00">
                  <a:alpha val="4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med"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3816360" cy="7621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11280" y="2276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隶书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隶书"/>
              </a:rPr>
              <a:t>月饼象征着团圆，是中秋佳节必食之品。在节日之夜，人们还爱吃些西瓜、水果、柚子等团圆的果品，祈祝家人生活美满、甜蜜、平安。中秋吃月饼，和端午吃粽子、元宵节吃汤圆一样，是我国民间的传统习俗。古往今来，人们把月饼当作吉祥、团圆的象征。每逢中秋，皓月当空，阖家团聚，品饼赏月，谈天说地，尽享天伦之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med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067280" y="126828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月光下的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2205000"/>
            <a:ext cx="29530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ff"/>
                </a:solidFill>
                <a:latin typeface="Arial"/>
              </a:rPr>
              <a:t>花间一壶酒，独酌无相亲。举杯邀明月，对影成三人。月既不解饮，影徒随我身。暂伴月将影，行乐须及春。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66ff"/>
                </a:solidFill>
                <a:latin typeface="Arial"/>
              </a:rPr>
              <a:t>——</a:t>
            </a:r>
            <a:r>
              <a:rPr b="1" lang="zh-CN" sz="1800" spc="-1" strike="noStrike">
                <a:solidFill>
                  <a:srgbClr val="cc66ff"/>
                </a:solidFill>
                <a:latin typeface="Arial"/>
              </a:rPr>
              <a:t>李白《月下独酌》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med">
    <p:checke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2700360" y="3573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  <a:ea typeface="楷体_GB2312"/>
              </a:rPr>
              <a:t>导演</a:t>
            </a:r>
            <a:r>
              <a:rPr b="0" lang="zh-CN" sz="3200" spc="-1" strike="noStrike">
                <a:solidFill>
                  <a:srgbClr val="9900ff"/>
                </a:solidFill>
                <a:latin typeface="Arial"/>
                <a:ea typeface="楷体_GB2312"/>
              </a:rPr>
              <a:t>:</a:t>
            </a:r>
            <a:r>
              <a:rPr b="0" lang="zh-CN" sz="3200" spc="-1" strike="noStrike">
                <a:solidFill>
                  <a:srgbClr val="9900ff"/>
                </a:solidFill>
                <a:latin typeface="Arial"/>
                <a:ea typeface="楷体_GB2312"/>
              </a:rPr>
              <a:t>班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08000" y="364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66ff"/>
                </a:solidFill>
                <a:latin typeface="Arial"/>
              </a:rPr>
              <a:t>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9640" y="242100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ff"/>
                </a:solidFill>
                <a:latin typeface="Arial"/>
                <a:ea typeface="楷体_GB2312"/>
              </a:rPr>
              <a:t>还等什么，看表演</a:t>
            </a:r>
            <a:r>
              <a:rPr b="1" lang="zh-CN" sz="6000" spc="-1" strike="noStrike">
                <a:solidFill>
                  <a:srgbClr val="9966ff"/>
                </a:solidFill>
                <a:latin typeface="Arial"/>
                <a:ea typeface="楷体_GB2312"/>
              </a:rPr>
              <a:t>吧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med"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16000" y="69228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）八月十五又称什么节？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月饼节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团圆节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故乡节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诗人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19640" y="4046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59280" y="2133720"/>
            <a:ext cx="60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中秋节又可以称为什么？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仲秋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月夕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秋节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追月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08720" y="1773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84720" y="364500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）以下哪个不是中秋节传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嫦娥奔月　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吴刚伐桂　     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玉兔捣药　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迎涛神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101080" y="43657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59280" y="5373720"/>
            <a:ext cx="32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常识问答 </a:t>
            </a:r>
            <a:r>
              <a:rPr b="0" i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med">
    <p:cover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755640" y="2060640"/>
            <a:ext cx="446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66ff"/>
                </a:solidFill>
                <a:latin typeface="Arial"/>
              </a:rPr>
              <a:t>小谜语    猜一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1" i="1" lang="zh-CN" sz="4400" spc="-1" strike="noStrike">
                <a:solidFill>
                  <a:srgbClr val="cc66ff"/>
                </a:solidFill>
                <a:latin typeface="Arial"/>
              </a:rPr>
              <a:t>看谁是最棒的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403800">
            <a:off x="3203640" y="58766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ebf25a"/>
                </a:solidFill>
                <a:uFillTx/>
                <a:latin typeface="Arial"/>
                <a:hlinkClick r:id="rId2" action="ppaction://hlinksldjump"/>
              </a:rPr>
              <a:t>One  tow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med"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755640" y="249228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不是男孩（猜一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16360" y="2421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00360" y="3213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米的妈妈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40360" y="3213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花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659640" y="31417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因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花生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1640" y="40053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米的爸爸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12000" y="40053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蝶 因蝶恋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med">
    <p:cover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 rot="21413400">
            <a:off x="3979080" y="765360"/>
            <a:ext cx="3888000" cy="703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ff"/>
                </a:solidFill>
                <a:latin typeface="Arial"/>
                <a:ea typeface="楷体_GB2312"/>
              </a:rPr>
              <a:t>抢答</a:t>
            </a:r>
            <a:r>
              <a:rPr b="0" i="1" lang="zh-CN" sz="4000" spc="-1" strike="noStrike">
                <a:solidFill>
                  <a:srgbClr val="cc66ff"/>
                </a:solidFill>
                <a:latin typeface="Arial"/>
                <a:ea typeface="楷体_GB2312"/>
              </a:rPr>
              <a:t>  </a:t>
            </a:r>
            <a:r>
              <a:rPr b="0" i="1" lang="zh-CN" sz="4000" spc="-1" strike="noStrike">
                <a:solidFill>
                  <a:srgbClr val="cc66ff"/>
                </a:solidFill>
                <a:latin typeface="Arial"/>
                <a:ea typeface="楷体_GB2312"/>
              </a:rPr>
              <a:t>Go go 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0920" y="206064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1.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鲨鱼吃了绿豆会怎么样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?</a:t>
            </a:r>
            <a:r>
              <a:rPr b="1" i="1" lang="zh-CN" sz="4000" spc="-1" strike="noStrike">
                <a:solidFill>
                  <a:srgbClr val="cc66ff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96000" y="1989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变成了绿豆沙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278136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2.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林黛玉是怎么死的呢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95640" y="350028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摔死的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天上掉下个林妹妹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)</a:t>
            </a:r>
            <a:r>
              <a:rPr b="0" i="1" lang="zh-CN" sz="4000" spc="-1" strike="noStrike">
                <a:solidFill>
                  <a:srgbClr val="cc66ff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429264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3.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爷爷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,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爸爸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,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弟弟谁听了妈妈的话会流眼泪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9640" y="5013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爷爷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夜夜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)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想起妈妈的话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,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闪闪的泪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558972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4.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猴子不喜欢什么线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5661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平行线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因为没有相交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 spd="med"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2:36:5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6:52Z</dcterms:modified>
  <cp:revision>25</cp:revision>
  <dc:subject>主题班会课件(分28大类): http://shop62905894.taobao.com</dc:subject>
  <dc:title>主题班会课件(分28大类): http://shop62905894.taobao.com</dc:title>
</cp:coreProperties>
</file>