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4.jpeg" ContentType="image/jpeg"/>
  <Override PartName="/ppt/media/image23.jpeg" ContentType="image/jpeg"/>
  <Override PartName="/ppt/media/image20.jpeg" ContentType="image/jpeg"/>
  <Override PartName="/ppt/media/type.wav" ContentType="audio/x-wav"/>
  <Override PartName="/ppt/media/image6.jpeg" ContentType="image/jpeg"/>
  <Override PartName="/ppt/media/image19.jpeg" ContentType="image/jpeg"/>
  <Override PartName="/ppt/media/image2.gif" ContentType="image/gif"/>
  <Override PartName="/ppt/media/image17.jpeg" ContentType="image/jpeg"/>
  <Override PartName="/ppt/media/chimes.wav" ContentType="audio/x-wav"/>
  <Override PartName="/ppt/media/image2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gif" ContentType="image/gif"/>
  <Override PartName="/ppt/media/image11.jpeg" ContentType="image/jpeg"/>
  <Override PartName="/ppt/media/camera.wav" ContentType="audio/x-wav"/>
  <Override PartName="/ppt/media/whoosh.wav" ContentType="audio/x-wav"/>
  <Override PartName="/ppt/media/image28.jpeg" ContentType="image/jpeg"/>
  <Override PartName="/ppt/media/image26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7.jpeg" ContentType="image/jpeg"/>
  <Override PartName="/ppt/media/image45.png" ContentType="image/png"/>
  <Override PartName="/ppt/media/image10.png" ContentType="image/png"/>
  <Override PartName="/ppt/media/image29.jpeg" ContentType="image/jpeg"/>
  <Override PartName="/ppt/media/image37.gif" ContentType="image/gif"/>
  <Override PartName="/ppt/media/image31.jpeg" ContentType="image/jpeg"/>
  <Override PartName="/ppt/media/image38.png" ContentType="image/png"/>
  <Override PartName="/ppt/media/image36.jpeg" ContentType="image/jpeg"/>
  <Override PartName="/ppt/media/image40.gif" ContentType="image/gif"/>
  <Override PartName="/ppt/media/image43.png" ContentType="image/png"/>
  <Override PartName="/ppt/media/image30.jpeg" ContentType="image/jpeg"/>
  <Override PartName="/ppt/media/image8.gif" ContentType="image/gif"/>
  <Override PartName="/ppt/media/image18.jpeg" ContentType="image/jpeg"/>
  <Override PartName="/ppt/media/image33.jpeg" ContentType="image/jpeg"/>
  <Override PartName="/ppt/media/image34.gif" ContentType="image/gif"/>
  <Override PartName="/ppt/media/image4.gif" ContentType="image/gif"/>
  <Override PartName="/ppt/media/image7.png" ContentType="image/png"/>
  <Override PartName="/ppt/media/image44.gif" ContentType="image/gif"/>
  <Override PartName="/ppt/media/image22.jpeg" ContentType="image/jpeg"/>
  <Override PartName="/ppt/media/image42.wmf" ContentType="image/x-wmf"/>
  <Override PartName="/ppt/media/image39.png" ContentType="image/png"/>
  <Override PartName="/ppt/media/image9.png" ContentType="image/png"/>
  <Override PartName="/ppt/media/image3.gif" ContentType="image/gif"/>
  <Override PartName="/ppt/media/image41.gif" ContentType="image/gif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0487-3F16-4448-B369-EF67A532B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5F5B-8A77-4A24-97FD-03EB6E51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745C-998B-4D3F-BA65-ADDFC31AB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7608-1A61-4145-AB5D-02925B049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FCCF-C66B-4FAA-9BAF-A0DFD6FE8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2EBB-A0B4-4FEC-8351-E5E5F8E62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037D-E931-4E53-909F-DC9691C40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1B37-4408-4B1E-AD39-09703EE1C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5A8B-1FE5-4B3C-B59E-23602C307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20DC-5C4D-4E97-8690-EAEDD4A4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B04E-619C-4BBC-AA40-CD7F43C4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D252-AA65-4BAC-B499-A4894C37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20B46-8634-49D7-BF61-51B01E3CD5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10000h.com/zxjxw/lydz/chandong/tangshan.htm" TargetMode="External"/><Relationship Id="rId2" Type="http://schemas.openxmlformats.org/officeDocument/2006/relationships/hyperlink" Target="http://www.10000h.com/zxjxw/lydz/chandong/tangshan.htm" TargetMode="External"/><Relationship Id="rId3" Type="http://schemas.openxmlformats.org/officeDocument/2006/relationships/hyperlink" Target="http://www.10000h.com/zxjxw/lydz/chandong/tangshan.htm" TargetMode="External"/><Relationship Id="rId4" Type="http://schemas.openxmlformats.org/officeDocument/2006/relationships/hyperlink" Target="http://www.10000h.com/zxjxw/lydz/chandong/tangshan.htm" TargetMode="External"/><Relationship Id="rId5" Type="http://schemas.openxmlformats.org/officeDocument/2006/relationships/hyperlink" Target="http://www.10000h.com/zxjxw/lydz/chandong/tangshan.htm" TargetMode="External"/><Relationship Id="rId6" Type="http://schemas.openxmlformats.org/officeDocument/2006/relationships/hyperlink" Target="http://www.10000h.com/zxjxw/lydz/chandong/tangshan.htm" TargetMode="External"/><Relationship Id="rId7" Type="http://schemas.openxmlformats.org/officeDocument/2006/relationships/hyperlink" Target="http://www.10000h.com/zxjxw/lydz/chandong/tangshan.htm" TargetMode="External"/><Relationship Id="rId8" Type="http://schemas.openxmlformats.org/officeDocument/2006/relationships/hyperlink" Target="http://www.10000h.com/zxjxw/lydz/chandong/tangshan.htm" TargetMode="External"/><Relationship Id="rId9" Type="http://schemas.openxmlformats.org/officeDocument/2006/relationships/hyperlink" Target="http://www.10000h.com/zxjxw/lydz/chandong/tangshan.htm" TargetMode="External"/><Relationship Id="rId10" Type="http://schemas.openxmlformats.org/officeDocument/2006/relationships/hyperlink" Target="http://www.10000h.com/zxjxw/lydz/chandong/tangshan.htm" TargetMode="External"/><Relationship Id="rId11" Type="http://schemas.openxmlformats.org/officeDocument/2006/relationships/hyperlink" Target="http://www.10000h.com/zxjxw/lydz/chandong/tangshan.htm" TargetMode="External"/><Relationship Id="rId12" Type="http://schemas.openxmlformats.org/officeDocument/2006/relationships/hyperlink" Target="http://www.10000h.com/zxjxw/lydz/chandong/tangshan.htm" TargetMode="External"/><Relationship Id="rId13" Type="http://schemas.openxmlformats.org/officeDocument/2006/relationships/hyperlink" Target="http://www.10000h.com/zxjxw/lydz/chandong/tangshan.htm" TargetMode="External"/><Relationship Id="rId14" Type="http://schemas.openxmlformats.org/officeDocument/2006/relationships/hyperlink" Target="http://www.10000h.com/zxjxw/lydz/chandong/tangshan.htm" TargetMode="External"/><Relationship Id="rId15" Type="http://schemas.openxmlformats.org/officeDocument/2006/relationships/hyperlink" Target="http://www.10000h.com/zxjxw/lydz/chandong/tangshan.htm" TargetMode="External"/><Relationship Id="rId16" Type="http://schemas.openxmlformats.org/officeDocument/2006/relationships/hyperlink" Target="http://www.10000h.com/zxjxw/lydz/chandong/tangshan.htm" TargetMode="External"/><Relationship Id="rId17" Type="http://schemas.openxmlformats.org/officeDocument/2006/relationships/hyperlink" Target="http://www.10000h.com/zxjxw/lydz/chandong/tangshan.htm" TargetMode="External"/><Relationship Id="rId18" Type="http://schemas.openxmlformats.org/officeDocument/2006/relationships/hyperlink" Target="http://www.10000h.com/zxjxw/lydz/chandong/tangshan.htm" TargetMode="External"/><Relationship Id="rId19" Type="http://schemas.openxmlformats.org/officeDocument/2006/relationships/hyperlink" Target="http://www.10000h.com/zxjxw/lydz/chandong/tangshan.htm" TargetMode="External"/><Relationship Id="rId20" Type="http://schemas.openxmlformats.org/officeDocument/2006/relationships/hyperlink" Target="http://www.10000h.com/zxjxw/lydz/chandong/tangshan.htm" TargetMode="External"/><Relationship Id="rId21" Type="http://schemas.openxmlformats.org/officeDocument/2006/relationships/hyperlink" Target="http://www.10000h.com/zxjxw/lydz/chandong/tangshan.htm" TargetMode="External"/><Relationship Id="rId22" Type="http://schemas.openxmlformats.org/officeDocument/2006/relationships/hyperlink" Target="http://www.10000h.com/zxjxw/lydz/chandong/tangshan.htm" TargetMode="External"/><Relationship Id="rId23" Type="http://schemas.openxmlformats.org/officeDocument/2006/relationships/hyperlink" Target="http://www.10000h.com/zxjxw/lydz/chandong/tangshan.htm" TargetMode="External"/><Relationship Id="rId24" Type="http://schemas.openxmlformats.org/officeDocument/2006/relationships/hyperlink" Target="http://www.10000h.com/zxjxw/lydz/chandong/tangshan.htm" TargetMode="External"/><Relationship Id="rId25" Type="http://schemas.openxmlformats.org/officeDocument/2006/relationships/hyperlink" Target="http://www.10000h.com/zxjxw/lydz/chandong/tangshan.htm" TargetMode="External"/><Relationship Id="rId26" Type="http://schemas.openxmlformats.org/officeDocument/2006/relationships/hyperlink" Target="http://www.10000h.com/zxjxw/lydz/chandong/tangshan.htm" TargetMode="External"/><Relationship Id="rId27" Type="http://schemas.openxmlformats.org/officeDocument/2006/relationships/hyperlink" Target="http://www.10000h.com/zxjxw/lydz/chandong/tangshan.htm" TargetMode="External"/><Relationship Id="rId28" Type="http://schemas.openxmlformats.org/officeDocument/2006/relationships/audio" Target="../media/type.wav"/><Relationship Id="rId29" Type="http://schemas.openxmlformats.org/officeDocument/2006/relationships/audio" Target="../media/camera.wav"/><Relationship Id="rId30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laser.wav" TargetMode="External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hyperlink" Target="http://www.guilin.shuga.net/chuang/shidai/dsgzl.htm" TargetMode="External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5.jpeg"/><Relationship Id="rId3" Type="http://schemas.openxmlformats.org/officeDocument/2006/relationships/hyperlink" Target="http://www.guilin.shuga.net/chuang/shidai/dsgzl.htm" TargetMode="Externa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4.gif"/><Relationship Id="rId2" Type="http://schemas.openxmlformats.org/officeDocument/2006/relationships/audio" Target="file:///tmp/home/.config/libreoffice/4/user/gallery/chimes.wav" TargetMode="External"/><Relationship Id="rId3" Type="http://schemas.microsoft.com/office/2007/relationships/media" Target="file:///tmp/home/.config/libreoffice/4/user/gallery/chimes.wav" TargetMode="External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说一说——我的祝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7924680" cy="44956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057400" y="571464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好朋友过生日啦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自然因素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bbe0e3"/>
                </a:solidFill>
                <a:latin typeface="Arial"/>
              </a:rPr>
              <a:t>恶劣的气候、严重的自然灾害所造成的损失或失败、生老病死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8360" y="400536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水  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4032000" cy="5183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116000" y="126828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海  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076720" y="907920"/>
            <a:ext cx="374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80000" y="1197000"/>
            <a:ext cx="273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80000" y="1341360"/>
            <a:ext cx="23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1844640"/>
            <a:ext cx="23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932360" y="1125360"/>
            <a:ext cx="3887640" cy="5183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851280" y="33336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自然因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605480" y="147600"/>
            <a:ext cx="4430520" cy="33526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7596360" y="2602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流 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4291200" cy="33112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83840" y="1951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龙卷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179280" y="3645000"/>
            <a:ext cx="4267440" cy="3024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24000" y="371628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火山爆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4572000" y="3645000"/>
            <a:ext cx="4419720" cy="2979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7559640" y="3645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水 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造成挫折的因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143000" y="1639800"/>
            <a:ext cx="7543800" cy="44434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8763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自然因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-304920" y="3240"/>
            <a:ext cx="967752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600" y="6094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唐山大地震_x000b_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_x000b_　　</a:t>
            </a: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1976</a:t>
            </a: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年</a:t>
            </a: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7</a:t>
            </a: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月</a:t>
            </a: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28</a:t>
            </a: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日凌晨</a:t>
            </a: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3</a:t>
            </a: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时</a:t>
            </a: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42</a:t>
            </a: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分</a:t>
            </a: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56</a:t>
            </a: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秒</a:t>
            </a: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,</a:t>
            </a: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我国河北省唐山市发生了一次</a:t>
            </a: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7.8</a:t>
            </a: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级强烈地</a:t>
            </a: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.</a:t>
            </a: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在唐山地震中死亡的人员共有</a:t>
            </a: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24.24</a:t>
            </a: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万人</a:t>
            </a: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,</a:t>
            </a: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重伤</a:t>
            </a: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16.46</a:t>
            </a: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万人</a:t>
            </a: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75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台湾地震（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999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日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7924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社会因素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bbe0e3"/>
                </a:solidFill>
                <a:latin typeface="Arial"/>
              </a:rPr>
              <a:t>政治、经济、法律、宗教、道德、风俗习惯、人际关系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社会因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600200"/>
            <a:ext cx="4038480" cy="5257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648320" y="0"/>
            <a:ext cx="3936960" cy="55627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800600" y="571500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"/>
              </a:rPr>
              <a:t>大使馆被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过年了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76960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724280" y="0"/>
            <a:ext cx="441972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380880"/>
            <a:ext cx="4419720" cy="39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3936960" cy="55623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333360"/>
            <a:ext cx="294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社会因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image012" descr=""/>
          <p:cNvPicPr/>
          <p:nvPr/>
        </p:nvPicPr>
        <p:blipFill>
          <a:blip r:embed="rId2"/>
          <a:stretch/>
        </p:blipFill>
        <p:spPr>
          <a:xfrm>
            <a:off x="4788000" y="1197000"/>
            <a:ext cx="3887640" cy="45370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84360" y="6237360"/>
            <a:ext cx="2950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5640" y="6093000"/>
            <a:ext cx="3024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3"/>
              </a:rPr>
              <a:t>大使馆被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003640" y="6093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99"/>
                </a:solidFill>
                <a:uFillTx/>
                <a:latin typeface="Arial"/>
              </a:rPr>
              <a:t>在战争中死去的婴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家庭和学校因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包括家庭变故、教育不当，造成青少年心理上的紧张、焦虑、恐慌和失落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410080" y="601992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考试不及格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304920" y="2819520"/>
            <a:ext cx="3425760" cy="35812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4038480" y="3994200"/>
            <a:ext cx="4343400" cy="28638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3962520" y="304920"/>
            <a:ext cx="4495680" cy="35589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0" y="304920"/>
            <a:ext cx="42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校等人为因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19320" y="837720"/>
            <a:ext cx="761976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行楷"/>
                <a:ea typeface="黑体"/>
              </a:rPr>
              <a:t>个人因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指由于体力、智力、意志、外貌以及某些生理缺陷所带来的限制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bbe0e3"/>
                </a:solidFill>
                <a:latin typeface="Arial"/>
              </a:rPr>
              <a:t>如：生理因素、能力不足、意志薄弱、情绪低沉、不合理的要求、心理不健康等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8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3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8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886280" y="237960"/>
            <a:ext cx="3286080" cy="49914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93840" y="239760"/>
            <a:ext cx="3962160" cy="17492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395280" y="2355840"/>
            <a:ext cx="3960720" cy="40258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361840" y="5346720"/>
            <a:ext cx="274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ahoma"/>
              </a:rPr>
              <a:t>个体因素      </a:t>
            </a: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例如：眼睛近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不能成为飞行员，个子不高不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成为篮球运动员或模特等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-619560" y="380880"/>
            <a:ext cx="219132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黑体"/>
              </a:rPr>
              <a:t>造成挫折的因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371600" y="609480"/>
            <a:ext cx="304920" cy="55627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45080 h 5562720"/>
              <a:gd name="textAreaBottom" fmla="*/ 5417640 h 556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676520" y="380880"/>
            <a:ext cx="3047760" cy="1905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99"/>
                </a:solidFill>
                <a:latin typeface="Times New Roman"/>
              </a:rPr>
              <a:t>主观因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99"/>
                </a:solidFill>
                <a:latin typeface="Times New Roman"/>
              </a:rPr>
              <a:t>（内因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81480" y="2514600"/>
            <a:ext cx="34290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99"/>
                </a:solidFill>
                <a:latin typeface="Times New Roman"/>
              </a:rPr>
              <a:t>自然因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181480" y="3581280"/>
            <a:ext cx="34290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99"/>
                </a:solidFill>
                <a:latin typeface="Times New Roman"/>
              </a:rPr>
              <a:t>社会因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181480" y="4648320"/>
            <a:ext cx="34290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99"/>
                </a:solidFill>
                <a:latin typeface="Times New Roman"/>
              </a:rPr>
              <a:t>家庭因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81480" y="304920"/>
            <a:ext cx="34290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99"/>
                </a:solidFill>
                <a:latin typeface="Times New Roman"/>
              </a:rPr>
              <a:t>个人身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800600" y="380880"/>
            <a:ext cx="304920" cy="1752840"/>
          </a:xfrm>
          <a:custGeom>
            <a:avLst/>
            <a:gdLst>
              <a:gd name="textAreaLeft" fmla="*/ 194760 w 304920"/>
              <a:gd name="textAreaRight" fmla="*/ 305280 w 30492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81480" y="5715000"/>
            <a:ext cx="34290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99"/>
                </a:solidFill>
                <a:latin typeface="Times New Roman"/>
              </a:rPr>
              <a:t>学校因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181480" y="1371600"/>
            <a:ext cx="34290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99"/>
                </a:solidFill>
                <a:latin typeface="Times New Roman"/>
              </a:rPr>
              <a:t>心理因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00600" y="2819520"/>
            <a:ext cx="304920" cy="3504960"/>
          </a:xfrm>
          <a:custGeom>
            <a:avLst/>
            <a:gdLst>
              <a:gd name="textAreaLeft" fmla="*/ 194760 w 304920"/>
              <a:gd name="textAreaRight" fmla="*/ 305280 w 304920"/>
              <a:gd name="textAreaTop" fmla="*/ 91080 h 3504960"/>
              <a:gd name="textAreaBottom" fmla="*/ 3413880 h 3504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76520" y="3124080"/>
            <a:ext cx="3047760" cy="3276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99"/>
                </a:solidFill>
                <a:latin typeface="Times New Roman"/>
              </a:rPr>
              <a:t>客观因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99"/>
                </a:solidFill>
                <a:latin typeface="Times New Roman"/>
              </a:rPr>
              <a:t>（外因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由于身材不高，不能如愿当飞行员，造成这种挫折的因素是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家庭因素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生理因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心理因素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学校因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(   B 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8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3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8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3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60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孔子为了实现自己的理想而周游列国，历尽坎坷、磨难；农民因遇到自然灾害而颗粒无收；司机因大雪封山而不能出车赚钱；同学们在平时考试、升学考试等问题上遇到挫折。这一切说明：①挫折无处不在 ② 名人、伟人有挫折，平凡人同样有挫折 。③ 人的一生只有逆境，没有顺境。④事事顺利，从来没有遇到过任何挫折的人是没有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 ①②③        B ①②④          C ①③④        D ②③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(   B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0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5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0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14600" y="609480"/>
            <a:ext cx="4005360" cy="44960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629400" y="10666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7162920" y="43434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1600200" y="1143000"/>
            <a:ext cx="669960" cy="669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990720" y="493704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685800" y="24382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7"/>
          <a:stretch/>
        </p:blipFill>
        <p:spPr>
          <a:xfrm>
            <a:off x="3581280" y="4952880"/>
            <a:ext cx="1143000" cy="762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8"/>
          <a:stretch/>
        </p:blipFill>
        <p:spPr>
          <a:xfrm>
            <a:off x="3733920" y="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9"/>
          <a:stretch/>
        </p:blipFill>
        <p:spPr>
          <a:xfrm>
            <a:off x="6934320" y="31240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2286000" y="5638680"/>
            <a:ext cx="45720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有没有人能避免挫折？</a:t>
            </a:r>
            <a:endParaRPr b="0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</p:spTree>
  </p:cSld>
  <p:transition>
    <p:pull dir="r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世间的生老病死是属于造成挫折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然因素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社会因素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家庭因素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理因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                        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(   A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2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7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2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7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2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600" y="304920"/>
            <a:ext cx="77724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然界没有不凋谢的花，人世间没有无曲折的路。”这表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生的道路如同顺风行船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个人要想有所作为，随时都有可能遇到各种意想不到的苦难和挫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普通人会遇到挫折，而伟人则不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 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事如意，心想事成”是完全可以实现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(    B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9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4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9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4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9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4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300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在社会生活中，挫折是任何人都无法避免的。这表明挫折的存在具有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普遍性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特殊性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短暂性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持续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1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6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1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由于个人知识和能力的不足，或者对自己的估计不恰当，期望值过高；或者意志薄弱，情绪低沉等，造成愿望、目标无法实现，这是由（      ）导致的挫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生理因素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社会因素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心理因素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个人因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D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8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3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8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7467480" y="3733920"/>
            <a:ext cx="1676520" cy="24908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50920" y="1628640"/>
            <a:ext cx="7561080" cy="5040360"/>
          </a:xfrm>
          <a:prstGeom prst="wedgeRoundRectCallout">
            <a:avLst>
              <a:gd name="adj1" fmla="val 47250"/>
              <a:gd name="adj2" fmla="val 20425"/>
              <a:gd name="adj3" fmla="val 16667"/>
            </a:avLst>
          </a:prstGeom>
          <a:gradFill rotWithShape="0">
            <a:gsLst>
              <a:gs pos="0">
                <a:srgbClr val="ffd88b"/>
              </a:gs>
              <a:gs pos="50000">
                <a:srgbClr val="fef3df"/>
              </a:gs>
              <a:gs pos="100000">
                <a:srgbClr val="ffd88b"/>
              </a:gs>
            </a:gsLst>
            <a:lin ang="5400000"/>
          </a:gradFill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方正姚体"/>
              </a:rPr>
              <a:t>故事：</a:t>
            </a:r>
            <a:r>
              <a:rPr b="1" lang="zh-CN" sz="3200" spc="-1" strike="noStrike">
                <a:solidFill>
                  <a:srgbClr val="009999"/>
                </a:solidFill>
                <a:latin typeface="Times New Roman"/>
                <a:ea typeface="隶书"/>
              </a:rPr>
              <a:t>《以“死”谢罪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方正姚体"/>
              </a:rPr>
              <a:t>       </a:t>
            </a:r>
            <a:r>
              <a:rPr b="1" lang="zh-CN" sz="4000" spc="-1" strike="noStrike">
                <a:solidFill>
                  <a:srgbClr val="009999"/>
                </a:solidFill>
                <a:latin typeface="Times New Roman"/>
                <a:ea typeface="方正姚体"/>
              </a:rPr>
              <a:t>成都青白江区弥牟镇曙光村</a:t>
            </a:r>
            <a:r>
              <a:rPr b="1" lang="zh-CN" sz="4000" spc="-1" strike="noStrike">
                <a:solidFill>
                  <a:srgbClr val="009999"/>
                </a:solidFill>
                <a:latin typeface="Times New Roman"/>
                <a:ea typeface="方正姚体"/>
              </a:rPr>
              <a:t>4</a:t>
            </a:r>
            <a:r>
              <a:rPr b="1" lang="zh-CN" sz="4000" spc="-1" strike="noStrike">
                <a:solidFill>
                  <a:srgbClr val="009999"/>
                </a:solidFill>
                <a:latin typeface="Times New Roman"/>
                <a:ea typeface="方正姚体"/>
              </a:rPr>
              <a:t>组，一名不满</a:t>
            </a:r>
            <a:r>
              <a:rPr b="1" lang="zh-CN" sz="4000" spc="-1" strike="noStrike">
                <a:solidFill>
                  <a:srgbClr val="009999"/>
                </a:solidFill>
                <a:latin typeface="Times New Roman"/>
                <a:ea typeface="方正姚体"/>
              </a:rPr>
              <a:t>19</a:t>
            </a:r>
            <a:r>
              <a:rPr b="1" lang="zh-CN" sz="4000" spc="-1" strike="noStrike">
                <a:solidFill>
                  <a:srgbClr val="009999"/>
                </a:solidFill>
                <a:latin typeface="Times New Roman"/>
                <a:ea typeface="方正姚体"/>
              </a:rPr>
              <a:t>岁的男生温某因高考成绩不理想，觉得愧对家人竟然“以死谢罪”，将自己吊死在家中，让亲人和邻里扼腕叹息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9640" y="765000"/>
            <a:ext cx="3194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情境体验：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0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1125360"/>
            <a:ext cx="891540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方的父母                              先后下岗了，父亲因                         常年患慢性病一时找不到                     合适的工作，还要支付医                      药 份钟点                             工的工作，每                       月收入很低，一家人的生活陷入窘困。看看自己贫困的家境，再看看同学们无忧无虑的样子，小方很自卑，也很难过，精神很消沉，学习成绩也直线下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492360" y="907920"/>
            <a:ext cx="2521080" cy="28083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2340000" y="333360"/>
            <a:ext cx="4608360" cy="1741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7482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遭遇不幸的小方</a:t>
            </a:r>
            <a:endParaRPr b="1" lang="en-US" sz="4000" spc="1" strike="noStrike">
              <a:ln w="9360">
                <a:solidFill>
                  <a:srgbClr val="003366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0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500"/>
                            </p:stCondLst>
                            <p:childTnLst>
                              <p:par>
                                <p:cTn id="60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-387360"/>
            <a:ext cx="9144000" cy="72453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692360" y="404640"/>
            <a:ext cx="7451640" cy="4392720"/>
          </a:xfrm>
          <a:prstGeom prst="cloudCallout">
            <a:avLst>
              <a:gd name="adj1" fmla="val -41523"/>
              <a:gd name="adj2" fmla="val 5592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Txt"/>
                <a:ea typeface="方正姚体"/>
              </a:rPr>
              <a:t>听完这些真实的故事，你们有什么想法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04920" y="2060640"/>
            <a:ext cx="83818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99cc00"/>
                </a:solidFill>
                <a:latin typeface="Times New Roman"/>
              </a:rPr>
              <a:t> </a:t>
            </a:r>
            <a:r>
              <a:rPr b="1" i="1" lang="zh-CN" sz="8000" spc="-1" strike="noStrike">
                <a:solidFill>
                  <a:srgbClr val="009999"/>
                </a:solidFill>
                <a:latin typeface="Times New Roman"/>
              </a:rPr>
              <a:t>面对挫折，会出现哪些不同的态度、不同的结果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762600" y="0"/>
            <a:ext cx="2381400" cy="21146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0" y="260280"/>
            <a:ext cx="4967280" cy="1341360"/>
          </a:xfrm>
          <a:prstGeom prst="cloudCallout">
            <a:avLst>
              <a:gd name="adj1" fmla="val -9731"/>
              <a:gd name="adj2" fmla="val 32917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600200" y="4114800"/>
            <a:ext cx="380880" cy="1066680"/>
          </a:xfrm>
          <a:custGeom>
            <a:avLst/>
            <a:gdLst>
              <a:gd name="textAreaLeft" fmla="*/ 156960 w 380880"/>
              <a:gd name="textAreaRight" fmla="*/ 223920 w 380880"/>
              <a:gd name="textAreaTop" fmla="*/ 439560 h 1066680"/>
              <a:gd name="textAreaBottom" fmla="*/ 62712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981000"/>
            <a:ext cx="609480" cy="381240"/>
          </a:xfrm>
          <a:custGeom>
            <a:avLst/>
            <a:gdLst>
              <a:gd name="textAreaLeft" fmla="*/ 250920 w 609480"/>
              <a:gd name="textAreaRight" fmla="*/ 358560 w 60948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1280" y="4581360"/>
            <a:ext cx="7921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763120" cy="2919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971640" y="5661000"/>
            <a:ext cx="6476760" cy="1080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152280" y="6095880"/>
            <a:ext cx="8839440" cy="295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1403280" y="4292640"/>
            <a:ext cx="6477120" cy="1080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04920" y="457200"/>
            <a:ext cx="609480" cy="1371600"/>
          </a:xfrm>
          <a:custGeom>
            <a:avLst/>
            <a:gdLst>
              <a:gd name="textAreaLeft" fmla="*/ 250920 w 609480"/>
              <a:gd name="textAreaRight" fmla="*/ 358560 w 609480"/>
              <a:gd name="textAreaTop" fmla="*/ 565200 h 1371600"/>
              <a:gd name="textAreaBottom" fmla="*/ 806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53080" y="1219320"/>
            <a:ext cx="609840" cy="380880"/>
          </a:xfrm>
          <a:custGeom>
            <a:avLst/>
            <a:gdLst>
              <a:gd name="textAreaLeft" fmla="*/ 251280 w 609840"/>
              <a:gd name="textAreaRight" fmla="*/ 358560 w 60984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001000" y="2743200"/>
            <a:ext cx="380880" cy="685800"/>
          </a:xfrm>
          <a:custGeom>
            <a:avLst/>
            <a:gdLst>
              <a:gd name="textAreaLeft" fmla="*/ 156960 w 380880"/>
              <a:gd name="textAreaRight" fmla="*/ 223920 w 380880"/>
              <a:gd name="textAreaTop" fmla="*/ 282600 h 685800"/>
              <a:gd name="textAreaBottom" fmla="*/ 403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15000" y="5638680"/>
            <a:ext cx="609480" cy="381240"/>
          </a:xfrm>
          <a:custGeom>
            <a:avLst/>
            <a:gdLst>
              <a:gd name="textAreaLeft" fmla="*/ 250920 w 609480"/>
              <a:gd name="textAreaRight" fmla="*/ 358560 w 60948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50920" y="692280"/>
            <a:ext cx="842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9999"/>
                </a:solidFill>
                <a:latin typeface="华文行楷"/>
                <a:ea typeface="楷体_GB2312"/>
              </a:rPr>
              <a:t>面对挫折，不同的态度会出现不同的结果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2700"/>
                            </p:stCondLst>
                            <p:childTnLst>
                              <p:par>
                                <p:cTn id="64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3200"/>
                            </p:stCondLst>
                            <p:childTnLst>
                              <p:par>
                                <p:cTn id="6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3700"/>
                            </p:stCondLst>
                            <p:childTnLst>
                              <p:par>
                                <p:cTn id="65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095880" y="990720"/>
            <a:ext cx="1866960" cy="18669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405756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95280" y="3276720"/>
            <a:ext cx="6096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隶书"/>
                <a:ea typeface="隶书"/>
              </a:rPr>
              <a:t>《面对</a:t>
            </a:r>
            <a:r>
              <a:rPr b="1" lang="zh-CN" sz="8000" spc="-1" strike="noStrike">
                <a:solidFill>
                  <a:srgbClr val="ff0000"/>
                </a:solidFill>
                <a:latin typeface="隶书"/>
                <a:ea typeface="隶书"/>
              </a:rPr>
              <a:t>80</a:t>
            </a:r>
            <a:r>
              <a:rPr b="1" lang="zh-CN" sz="8000" spc="-1" strike="noStrike">
                <a:solidFill>
                  <a:srgbClr val="000000"/>
                </a:solidFill>
                <a:latin typeface="隶书"/>
                <a:ea typeface="隶书"/>
              </a:rPr>
              <a:t>分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143000" y="609480"/>
            <a:ext cx="28195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实话实说：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2640" y="304560"/>
            <a:ext cx="80010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们多么希望这些美好的愿望都能变成现实呀！然而，“万事如意”、“心想事成”这类的祝福都只不过是人们的良好愿望而已。人生是美好的，但人生历程又是不平坦的。正如古人所云：“人生不如意事十之八九”。在人们的生活中总会有些不顺心的事情发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286000" y="609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981080" y="60948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362320" y="114300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找借口，推卸责任，情绪低落，丧失信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133720" y="5335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向挫折屈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160020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事无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209680" y="411480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勇敢地战胜挫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209680" y="47242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明确的生活目标，不畏困难，力求进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876920" y="525780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活中的成功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95480" y="1828800"/>
            <a:ext cx="1676520" cy="22860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971800" y="5486400"/>
            <a:ext cx="1676520" cy="22860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7772400" y="3049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981080" y="2286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挑战而不能坚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38280" y="281952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意志不坚，缺乏恒心，最终放弃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971800" y="3505320"/>
            <a:ext cx="1676520" cy="22860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876920" y="327672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碌碌无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828800" y="838080"/>
            <a:ext cx="380880" cy="4800600"/>
          </a:xfrm>
          <a:custGeom>
            <a:avLst/>
            <a:gdLst>
              <a:gd name="textAreaLeft" fmla="*/ 243360 w 380880"/>
              <a:gd name="textAreaRight" fmla="*/ 381240 w 380880"/>
              <a:gd name="textAreaTop" fmla="*/ 124920 h 4800600"/>
              <a:gd name="textAreaBottom" fmla="*/ 4675680 h 480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77200" y="838080"/>
            <a:ext cx="13993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不同态度，不同人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8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8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9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476360" y="1413000"/>
            <a:ext cx="3527280" cy="1944720"/>
          </a:xfrm>
          <a:prstGeom prst="cloudCallout">
            <a:avLst>
              <a:gd name="adj1" fmla="val -43518"/>
              <a:gd name="adj2" fmla="val -4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  <a:ea typeface="隶书"/>
              </a:rPr>
              <a:t>坚持拼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---------- ---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43640" y="3429000"/>
            <a:ext cx="2700360" cy="2592360"/>
          </a:xfrm>
          <a:prstGeom prst="cloudCallout">
            <a:avLst>
              <a:gd name="adj1" fmla="val -43768"/>
              <a:gd name="adj2" fmla="val 6169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  <a:ea typeface="隶书"/>
              </a:rPr>
              <a:t>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  <a:ea typeface="隶书"/>
              </a:rPr>
              <a:t>不能、不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-----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11280" y="3645000"/>
            <a:ext cx="3095640" cy="2087640"/>
          </a:xfrm>
          <a:prstGeom prst="cloudCallout">
            <a:avLst>
              <a:gd name="adj1" fmla="val -19796"/>
              <a:gd name="adj2" fmla="val 5243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  <a:ea typeface="隶书"/>
              </a:rPr>
              <a:t>            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  <a:ea typeface="隶书"/>
              </a:rPr>
              <a:t>算了吧          足够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----------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-181080" y="1989000"/>
            <a:ext cx="22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行楷"/>
                <a:ea typeface="楷体_GB2312"/>
              </a:rPr>
              <a:t>挑战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5851440"/>
            <a:ext cx="341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行楷"/>
                <a:ea typeface="楷体_GB2312"/>
              </a:rPr>
              <a:t>半途而废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150680" y="6033960"/>
            <a:ext cx="196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行楷"/>
                <a:ea typeface="楷体_GB2312"/>
              </a:rPr>
              <a:t>放弃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55640" y="0"/>
            <a:ext cx="763272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华文行楷"/>
                <a:ea typeface="楷体_GB2312"/>
              </a:rPr>
              <a:t>请你将挑战者、半途而废者、放弃者在挫折面常用的词语填写在下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5148360" y="1125360"/>
            <a:ext cx="2303280" cy="25927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924360" y="3716280"/>
            <a:ext cx="2376360" cy="28814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684360" y="3357720"/>
            <a:ext cx="8207280" cy="7617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116000" y="2438280"/>
            <a:ext cx="77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32000" y="907920"/>
            <a:ext cx="66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4508640"/>
            <a:ext cx="554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356000" y="1916280"/>
            <a:ext cx="529272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ffffcc"/>
                </a:solidFill>
                <a:latin typeface="Arial"/>
                <a:ea typeface="方正卡通繁体"/>
              </a:rPr>
              <a:t>风风雨雨都接受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Arial"/>
                <a:ea typeface="方正卡通繁体"/>
              </a:rPr>
              <a:t>我一直会在你的左右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048120" y="2781360"/>
            <a:ext cx="33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方正平和简体"/>
              </a:rPr>
              <a:t>阳光总在风雨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981000"/>
            <a:ext cx="6912000" cy="65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Arial"/>
                <a:ea typeface="方正卡通繁体"/>
              </a:rPr>
              <a:t>难免曾经跌倒和等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Arial"/>
                <a:ea typeface="方正卡通繁体"/>
              </a:rPr>
              <a:t>要勇敢的抬头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Arial"/>
                <a:ea typeface="方正卡通繁体"/>
              </a:rPr>
              <a:t>谁愿常躲在避风的港口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Arial"/>
                <a:ea typeface="方正卡通繁体"/>
              </a:rPr>
              <a:t>宁有波涛汹涌的自由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317080" y="602136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3348000" y="333360"/>
            <a:ext cx="597528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Arial"/>
                <a:ea typeface="方正卡通繁体"/>
              </a:rPr>
              <a:t>愿是你心中灯塔的守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Arial"/>
                <a:ea typeface="方正卡通繁体"/>
              </a:rPr>
              <a:t>在迷雾中让你看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908000" y="365040"/>
            <a:ext cx="5832720" cy="65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Arial"/>
                <a:ea typeface="方正卡通繁体"/>
              </a:rPr>
              <a:t>阳光总在风雨后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Arial"/>
                <a:ea typeface="方正卡通繁体"/>
              </a:rPr>
              <a:t>乌云上有睛空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268360" y="4581360"/>
            <a:ext cx="532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Arial"/>
                <a:ea typeface="方正卡通繁体"/>
              </a:rPr>
              <a:t>珍惜所有的感动</a:t>
            </a:r>
            <a:br>
              <a:rPr sz="4000"/>
            </a:br>
            <a:r>
              <a:rPr b="0" lang="zh-CN" sz="4000" spc="-1" strike="noStrike">
                <a:solidFill>
                  <a:srgbClr val="ffffcc"/>
                </a:solidFill>
                <a:latin typeface="Arial"/>
                <a:ea typeface="方正卡通繁体"/>
              </a:rPr>
              <a:t>每一份希望在你手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59280" y="620640"/>
            <a:ext cx="5435640" cy="56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Arial"/>
                <a:ea typeface="方正卡通繁体"/>
              </a:rPr>
              <a:t>阳光总在风雨后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Arial"/>
                <a:ea typeface="方正卡通繁体"/>
              </a:rPr>
              <a:t>请相信有彩虹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333360"/>
            <a:ext cx="540072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Arial"/>
                <a:ea typeface="方正卡通繁体"/>
              </a:rPr>
              <a:t>人生路上甜苦和喜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Arial"/>
                <a:ea typeface="方正卡通繁体"/>
              </a:rPr>
              <a:t>愿与你分担所有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0"/>
            <a:ext cx="403236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  <a:ea typeface="华文新魏"/>
              </a:rPr>
              <a:t>人生路上甜苦和喜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  <a:ea typeface="华文新魏"/>
              </a:rPr>
              <a:t>愿与你分担所有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  <a:ea typeface="华文新魏"/>
              </a:rPr>
              <a:t>难免曾经跌倒和等候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  <a:ea typeface="华文新魏"/>
              </a:rPr>
              <a:t>要勇敢的抬头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  <a:ea typeface="华文新魏"/>
              </a:rPr>
              <a:t>谁愿常躲在避风的港口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  <a:ea typeface="华文新魏"/>
              </a:rPr>
              <a:t>宁有波涛汹涌的自由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  <a:ea typeface="华文新魏"/>
              </a:rPr>
              <a:t>愿是你心中灯塔的守候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  <a:ea typeface="华文新魏"/>
              </a:rPr>
              <a:t>在迷雾中让你看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29120" y="0"/>
            <a:ext cx="42148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  <a:ea typeface="华文新魏"/>
              </a:rPr>
              <a:t>阳光总在风雨后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  <a:ea typeface="华文新魏"/>
              </a:rPr>
              <a:t>乌云上有睛空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  <a:ea typeface="华文新魏"/>
              </a:rPr>
              <a:t>珍惜所有的感动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  <a:ea typeface="华文新魏"/>
              </a:rPr>
              <a:t>每一份希望在你手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  <a:ea typeface="华文新魏"/>
              </a:rPr>
              <a:t>阳光总在风雨后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  <a:ea typeface="华文新魏"/>
              </a:rPr>
              <a:t>请相信有彩虹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ffffcc"/>
                </a:solidFill>
                <a:latin typeface="Arial"/>
                <a:ea typeface="华文新魏"/>
              </a:rPr>
              <a:t>风风雨雨都接受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  <a:ea typeface="华文新魏"/>
              </a:rPr>
              <a:t>我一直会在你的左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0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4" dur="1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12" dur="1" fill="hold">
                                    <p:stCondLst>
                                      <p:cond evt="end">
                                        <p:tn val="806"/>
                                      </p:cond>
                                    </p:stCondLst>
                                  </p:cTn>
                                  <p:tgtEl>
                                    <p:spTgt spid="2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5000"/>
                            </p:stCondLst>
                            <p:childTnLst>
                              <p:par>
                                <p:cTn id="814" nodeType="afterEffect" fill="hold" presetClass="entr" presetID="28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15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5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33000"/>
                            </p:stCondLst>
                            <p:childTnLst>
                              <p:par>
                                <p:cTn id="819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15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5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48000"/>
                            </p:stCondLst>
                            <p:childTnLst>
                              <p:par>
                                <p:cTn id="824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1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63000"/>
                            </p:stCondLst>
                            <p:childTnLst>
                              <p:par>
                                <p:cTn id="829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68000"/>
                            </p:stCondLst>
                            <p:childTnLst>
                              <p:par>
                                <p:cTn id="834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15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5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83000"/>
                            </p:stCondLst>
                            <p:childTnLst>
                              <p:par>
                                <p:cTn id="839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88000"/>
                            </p:stCondLst>
                            <p:childTnLst>
                              <p:par>
                                <p:cTn id="844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15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5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3000"/>
                            </p:stCondLst>
                            <p:childTnLst>
                              <p:par>
                                <p:cTn id="849" nodeType="afterEffect" fill="hold" presetClass="entr" presetID="38">
                                  <p:stCondLst>
                                    <p:cond delay="10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151000"/>
                            </p:stCondLst>
                            <p:childTnLst>
                              <p:par>
                                <p:cTn id="857" nodeType="afterEffect" fill="hold" presetClass="entr" presetID="38">
                                  <p:stCondLst>
                                    <p:cond delay="3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28"/>
                </p:tgtEl>
              </p:cMediaNode>
            </p:audio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-380880" y="0"/>
            <a:ext cx="9905760" cy="6886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066680" y="1752480"/>
            <a:ext cx="73152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a50021"/>
                </a:solidFill>
                <a:latin typeface="Times New Roman"/>
                <a:ea typeface="方正舒体"/>
              </a:rPr>
              <a:t>  </a:t>
            </a:r>
            <a:r>
              <a:rPr b="1" lang="zh-CN" sz="6600" spc="-1" strike="noStrike">
                <a:solidFill>
                  <a:srgbClr val="a50021"/>
                </a:solidFill>
                <a:latin typeface="Times New Roman"/>
                <a:ea typeface="方正舒体"/>
              </a:rPr>
              <a:t>挫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a50021"/>
                </a:solidFill>
                <a:latin typeface="Times New Roman"/>
                <a:ea typeface="方正舒体"/>
              </a:rPr>
              <a:t>       </a:t>
            </a:r>
            <a:r>
              <a:rPr b="1" lang="zh-CN" sz="6600" spc="-1" strike="noStrike">
                <a:solidFill>
                  <a:srgbClr val="a50021"/>
                </a:solidFill>
                <a:latin typeface="Times New Roman"/>
                <a:ea typeface="方正舒体"/>
              </a:rPr>
              <a:t>是普遍存在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1258920" y="1916280"/>
            <a:ext cx="6913440" cy="30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9999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人生难免有挫折</a:t>
            </a:r>
            <a:endParaRPr b="0" lang="en-US" sz="1800" spc="1" strike="noStrike">
              <a:ln w="12600">
                <a:solidFill>
                  <a:srgbClr val="009999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908000" y="256536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方正平和简体"/>
              </a:rPr>
              <a:t>人们在学习中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方正平和简体"/>
              </a:rPr>
              <a:t>生活中遇到的</a:t>
            </a:r>
            <a:r>
              <a:rPr b="1" lang="zh-CN" sz="4800" spc="-1" strike="noStrike">
                <a:solidFill>
                  <a:srgbClr val="990000"/>
                </a:solidFill>
                <a:latin typeface="Times New Roman"/>
              </a:rPr>
              <a:t>失利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4800" spc="-1" strike="noStrike">
                <a:solidFill>
                  <a:srgbClr val="990000"/>
                </a:solidFill>
                <a:latin typeface="Times New Roman"/>
              </a:rPr>
              <a:t>失败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方正平和简体"/>
              </a:rPr>
              <a:t>和</a:t>
            </a:r>
            <a:r>
              <a:rPr b="1" lang="zh-CN" sz="4800" spc="-1" strike="noStrike">
                <a:solidFill>
                  <a:srgbClr val="990000"/>
                </a:solidFill>
                <a:latin typeface="Times New Roman"/>
              </a:rPr>
              <a:t>阻碍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方正平和简体"/>
              </a:rPr>
              <a:t>等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619280" y="907920"/>
            <a:ext cx="2448000" cy="12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44e85f"/>
                </a:solidFill>
                <a:effectLst>
                  <a:outerShdw dist="153753" dir="2700000" blurRad="0" rotWithShape="0">
                    <a:srgbClr val="990000"/>
                  </a:outerShdw>
                </a:effectLst>
                <a:latin typeface="华文行楷"/>
              </a:rPr>
              <a:t>挫折</a:t>
            </a:r>
            <a:endParaRPr b="1" lang="en-US" sz="9600" spc="1" strike="noStrike">
              <a:ln w="19080">
                <a:solidFill>
                  <a:srgbClr val="ff0000"/>
                </a:solidFill>
                <a:miter/>
              </a:ln>
              <a:solidFill>
                <a:srgbClr val="44e85f"/>
              </a:solidFill>
              <a:effectLst>
                <a:outerShdw dist="153753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5157720"/>
            <a:ext cx="8693280" cy="1143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651640" y="981000"/>
            <a:ext cx="25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666880" y="0"/>
            <a:ext cx="404676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68360" y="260280"/>
            <a:ext cx="144792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500" spc="-1" strike="noStrike">
                <a:solidFill>
                  <a:srgbClr val="000000"/>
                </a:solidFill>
                <a:latin typeface="Times New Roman"/>
                <a:ea typeface="隶书"/>
              </a:rPr>
              <a:t>你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2492280"/>
            <a:ext cx="114300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500" spc="-1" strike="noStrike">
                <a:solidFill>
                  <a:srgbClr val="000000"/>
                </a:solidFill>
                <a:latin typeface="Times New Roman"/>
                <a:ea typeface="隶书"/>
              </a:rPr>
              <a:t>我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140360" y="1700280"/>
            <a:ext cx="114300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500" spc="-1" strike="noStrike">
                <a:solidFill>
                  <a:srgbClr val="000000"/>
                </a:solidFill>
                <a:latin typeface="Times New Roman"/>
                <a:ea typeface="隶书"/>
              </a:rPr>
              <a:t>皆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596360" y="260280"/>
            <a:ext cx="121896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500" spc="-1" strike="noStrike">
                <a:solidFill>
                  <a:srgbClr val="000000"/>
                </a:solidFill>
                <a:latin typeface="Times New Roman"/>
                <a:ea typeface="隶书"/>
              </a:rPr>
              <a:t>凡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96360" y="2565360"/>
            <a:ext cx="1143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000" spc="-1" strike="noStrike">
                <a:solidFill>
                  <a:srgbClr val="000000"/>
                </a:solidFill>
                <a:latin typeface="Times New Roman"/>
                <a:ea typeface="隶书"/>
              </a:rPr>
              <a:t>人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4005360"/>
            <a:ext cx="85327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99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说一说自己在求知（知识技能）、做事、做人、与人共处等方面记忆最深刻的一次挫折</a:t>
            </a:r>
            <a:r>
              <a:rPr b="1" lang="zh-CN" sz="40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并描述当时的情绪反映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造成挫折的因素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自然因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社会因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家庭和学校因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个人因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19320" y="2971800"/>
            <a:ext cx="609480" cy="6094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19320" y="4114800"/>
            <a:ext cx="685800" cy="6094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5410080"/>
            <a:ext cx="609840" cy="6098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19320" y="1600200"/>
            <a:ext cx="609480" cy="6094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5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14:36:15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1:35:39Z</dcterms:modified>
  <cp:revision>5</cp:revision>
  <dc:subject>主题班会课件(分28大类): http://shop62905894.taobao.com</dc:subject>
  <dc:title>主题班会课件(分28大类): http://shop62905894.taobao.com</dc:title>
</cp:coreProperties>
</file>