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180-1219-49DA-9445-E4DB50CB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6FE-1969-41DA-8FB0-9C3EDB28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1D1-A0A1-4D2E-A73D-38DC3A7D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C56-E4C8-4B8A-84EF-97A61AF8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B48-184E-4937-B300-C33E1126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1DD-7A9E-4AE9-B86F-72FD565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B10-D721-4183-8D8C-1682DB7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639-DF87-4A38-92F9-647E1C77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DA3-497D-4561-9E73-E570F267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E1A-51C9-4052-BC8C-ABB2ACD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8DC-FBE5-450F-B0AC-9570E984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031-B6CC-41A9-945E-40A6EFA5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80F1-CE5A-457C-B8CA-61E76A87E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349360"/>
            <a:ext cx="691344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老师。教师节快乐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476280"/>
            <a:ext cx="58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送给老师的小诗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8" name=""/>
          <p:cNvSpPr/>
          <p:nvPr/>
        </p:nvSpPr>
        <p:spPr>
          <a:xfrm>
            <a:off x="1069560" y="1706400"/>
            <a:ext cx="2283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的教师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是蜡烛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闪耀微弱的烛光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是园丁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流下辛勤的汗珠滴滴闪亮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啊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老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把我培养成人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让我为祖国发光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9720" y="1778040"/>
            <a:ext cx="255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啊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老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教会我怎样做人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的血液里有你的心血在流淌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老师，辛苦了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是谁－－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把无知的我们领进宽敞的教室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教给我们丰富的知识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是您！老师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07080" y="333360"/>
            <a:ext cx="2421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用辛勤的汗水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哺育了春日刚破土的嫩苗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是谁－－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把调皮的我们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教育成能体贴帮助别人的人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是您！老师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的关怀就好似和煦的春风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温暖了我们的心灵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是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幼小的我们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培育成成熟懂事的少年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是您！老师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19240" y="409680"/>
            <a:ext cx="2283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的保护让我们健康成长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在金秋时节结下硕果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辛苦了！老师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在酷暑严寒中辛勤工作的人们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辛苦了！老师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把青春无私奉献的人们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向您致以崇高的敬意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辛苦了，老师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116000" y="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教师节的祝福短信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3" name=""/>
          <p:cNvSpPr/>
          <p:nvPr/>
        </p:nvSpPr>
        <p:spPr>
          <a:xfrm>
            <a:off x="365040" y="1273320"/>
            <a:ext cx="8778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一棵绿树，沐浴着智慧的阳光，在您知识的土壤里，茁壮成长。天的深情，地的厚爱，铭刻在我心里，生生世世，永不忘怀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老师，您还记得我吗？那个顽皮而不懂事的孩子，当您收到这张心意卡时，就想我又来到您的身边，您的教诲，是明朗朗的阳光，照在我的心田里，让我青春之花开放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老师，您启迪我真正领会了大自然的恩惠，从此我读懂了每一瓣绿叶，每一片彩云，每一个浪花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敬爱的老师，素白的雪，是您的象征，献上为您编织的神圣光环，祝福您岁岁愉快，年年如意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教诲如春风，师恩似海深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学而不厌，诲人不倦，桃李芬芳，其乐亦融融。祝福您，节日愉快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别后，漫漫岁月，您的声音，总在我耳畔响起；您的身影，常在我脑中浮现；您的教诲，常驻在我心田……在今天这属于您的日子里，恭祝您平安如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189000"/>
            <a:ext cx="7148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敬爱的老师，您的教诲如春风，似瑞雨，永铭我心。我虔诚地祝福您：安康，如意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您给了我灿灿如金的生活真谛，经过岁月的磨洗，弥久而愈明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刻在木板上的名字未必不朽，刻在石头上的名字亦未必永垂千古；而刻在我们心灵深处的您的名字，将真正永存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一切过去了的都会变成亲切的怀念，一切逝去了的方知其可贵——我怀念这您带我们走过的分分秒秒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今天，在遥远的他乡，您的学生把您给予的昨天，折叠成记忆的小船，任其飘荡在思念的心湖…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你的谆谆教导，是爱的清泉，将在我心灵的河床里，永远流淌…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阳光普照，园丁心坎春意浓；甘雨滋润，桃李枝头蓓蕾红。——祝您节日愉快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不是您最出色的学生，而您却是我最崇敬的老师。在您的节日，您的学生愿您永远年轻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恩师掬取天池水，洒向人间育新苗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9640" y="1341360"/>
            <a:ext cx="74678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让我们再一次向我们的老师说一声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40000" y="3213000"/>
            <a:ext cx="58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老师。教师节快乐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1341360"/>
            <a:ext cx="60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中国教师节 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日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1985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日，第六届全国人大常委会第九次会议作出决议，将每年的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日定为我国的教师节。尊师重教是中国的优良传统，早在公元前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世纪的西周时期，就提出“弟子事师，敬同于父”，古代大教育家孔子更是留下了“有教无类”、“温故而知新”、“学而时习之”等一系列至理名言。传道授业解惑的教师，被中国人誉为人类灵魂的工程师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　　其实早在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1932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年，民国政府曾规定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日为教师节，解放后废除了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日的教师节，改用“五一国际劳动节”为教师节，但教师节没有单独的活动，没有特点。而将教师节定在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日是考虑到全国大、中、小学新学年开始，学校要有新的气象。新生入学开始，即尊师重教，可以给“教师教好、学生学好”创造良好的气氛。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1985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日，是中国恢复建立第一个教师节，从此以后，老师便有了自己的节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4360" cy="158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6552000" y="339300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教师节由来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68360" y="836640"/>
            <a:ext cx="46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教师节历史大事件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249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773360"/>
            <a:ext cx="7508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◎一九八五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六届全国人大常委会第九次会议通过《关于教师节的决定》，决定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为教师节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全国各地举行隆重的庆祝大会，迎接第一个教师节。国家主席李先念发出《致全国教师的信》，勉励教师为祖国的社会主义教育事业作出更大的贡献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◎一九八六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六届人大四次会议通过《中华人民共和国义务教育法》。该法第十四条规定：全社会应当尊重教师。国家保障教师的合法权益，采取措施提高教师的社会地位，改善教师的物质待遇，对优秀的教育工作者给予奖励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820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◎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一九九四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，国务院发布《教学成果奖励条例》。以鼓励教育工作者从事教育科学研究，提高教学水平和质量。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，国务院办公厅在大连召开全国教师住房工作经验交流会。总结交流和推广各地、各部门解决教师住房问题的经验及做法，研究加快教师住房建设和改革的方针政策及目标任务，以推动全国教职工住房条件的全面改善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◎一九九五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，全国人大八届三次会议通过《中华人民共和国教育法》，其中第三十三条规定：国家保护教师的合法权益，改善教师的工作条件和生活条件，提高教师的社会地位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，国家教委、财政部发出《关于进行国家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贫困地区义务教育工程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项目规划和可行性研究的通知》，启动了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国家贫困地区义务教育工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◎一九九六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实施《教师法》两年多来，教师的待遇有了不同程度的改善。各地教师平均工资水平达到或超过了国家公务员的平均工资水平。此外，中小学、中专教师被列入享受政府特殊津贴的评选范围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3336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◎一九九七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，中共中央总书记江泽民在第十五次全国代表大会上指出，要切实把教育摆在优先发展的战略地位，尊师重教，加强师资队伍的建设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，李岚清视察清华大学教师筒子楼改造工作，全国高校筒子楼改造工程进入高速进行阶段。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年，全国城镇教职工住房建设投资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542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亿元。竣工建筑面积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8012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万平方米，建成住房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05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万套。截至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年底，全国普通高校和城镇中小学教职工家庭人均居住面积已达到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8.45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平方米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                                                                                          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◎一九九八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　                                                                     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29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，九届全国人大常委会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四次会议通过《中华人民共和国高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教育法》。其中第五十条规定：国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保护高等学校教师及其他教育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者的合法权益，采取措施改善高等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校教师及其他教育工作者的工作条件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和生活条件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620640"/>
            <a:ext cx="59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各地不一样的教师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844640"/>
            <a:ext cx="86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湾于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庆祝教师节，此日亦为中国古代教育先驱孔子的诞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香港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主权移交前，教师节跟随中华民国的习惯定于每年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；主权移交后则跟随中华人民共和国改为每年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阿尔巴尼亚的教师节是每年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正好在妇女节的前一天。在教师节这天，阿尔巴尼亚放假一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捷克教师节是一个假日，定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这一天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an ámos Komensk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生日。学童们会在教师节这天送花给他们的老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印度的教师节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并纪念印度第二位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arvepalli Radhakrishn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他也是一位教育家。在传统上，印度教师节的这天，学校教书的工作是交给较高年级的学生负责，让老师们能够休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拉丁美洲的教师节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这个节日是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巴拿马所举行的泛美教育会议上所制定的。这天也是阿根廷教育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omingo Faustino Sarmient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逝世纪念日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许多拉丁美洲国家也会根据自己的国家的历史，设立教师节。在巴西，教师节是每年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；墨西哥的教师节始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，由国家议会颁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为教师节，并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首次庆祝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779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国的教师节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的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星期二，是个放假的节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国的教师节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在这天，学生们会送给老师们康乃馨，并和学生一起度过欢愉的一天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加坡的教师节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。这天新加坡所有的学校放假一天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委内瑞拉——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定为教师节。这天除庆祝大会外，还有向教师献花等敬师活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泰国——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定为教师节。这天全国学校放假，隆重庆祝。各地的庆祝仪式上，向当年退休和刚参加工作的教师颁发奖状并献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苏丹——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起，全国实行教育改革，将这天定为教师节。中、小学一律放假一天，以示庆祝和纪念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捷克、斯洛伐克——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定为教师节。这天前后的一周之内，全国广泛而隆重地举行尊师重教活动。国家向优秀教师颁发勋章或授予荣誉称号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德国——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定为教师节。各地开展尊师敬师活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匈牙利——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的第一个周一定为教师节。节前，国家要召开教师代表大会，表彰和命名一批优秀的教育工作者，有的还颁以重奖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朝鲜——为纪念金日成主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发表《社会主义教育提纲》，将这天定为教师节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印度——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定为教师节，而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的印度儿童节同时定为印度儿童教育工作者的节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苏联——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的第一个周日定为教师节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26920" y="836640"/>
            <a:ext cx="4465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送给老师的鲜花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773360"/>
            <a:ext cx="705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剑兰———怀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剑兰花代表了怀念之情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也表示爱恋、用心、长寿、康宁、福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康乃馨——温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大部分康乃馨都代表了爱、魅力和尊敬之情。浅红色代表钦佩，深红色代表深深的爱和关怀。纯白色代表了纯洁的爱和幸运；花纹康乃馨代表拒绝求爱时的道歉。粉红色康乃馨具有最重要的象征和历史意义，因此粉红色康乃馨成为了不朽的母爱的象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太阳花——高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太阳花的花语是热情与活力，隐藏的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百合花——纯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在基督教中，百合花象征着纯洁、贞洁和天真无邪。在复活节时，百合花束经常出现在基督徒家庭中，因为它是耶稣复活的象征。在中国，百合花是母爱的象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菊花历来被视为孤标亮节、高雅做霜的象征，代表着名士的斯文与友情。菊花因其在深秋不畏秋寒开放，深受中国古代文人的喜欢，多有诗文加以赞美，如东晋大诗人陶渊明著有“采菊东篱下，悠然见南山”的名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50520" y="2205000"/>
            <a:ext cx="395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满天星——百搭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代表了关心，纯洁、成功、喜悦，被称婚礼“百搭花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山茶花：天生丽质、坚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勿忘我：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梅花：高洁、坚定不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　郁金香：神圣、祝福、永恒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2:58:5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17Z</dcterms:modified>
  <cp:revision>2</cp:revision>
  <dc:subject>主题班会课件(分28大类): http://shop62905894.taobao.com</dc:subject>
  <dc:title>主题班会课件(分28大类): http://shop62905894.taobao.com</dc:title>
</cp:coreProperties>
</file>