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5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58.gif" ContentType="image/gif"/>
  <Override PartName="/ppt/media/image19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4.gif" ContentType="image/gif"/>
  <Override PartName="/ppt/media/image1.gif" ContentType="image/gif"/>
  <Override PartName="/ppt/media/image31.gif" ContentType="image/gif"/>
  <Override PartName="/ppt/media/image2.jpeg" ContentType="image/jpeg"/>
  <Override PartName="/ppt/media/image3.jpeg" ContentType="image/jpeg"/>
  <Override PartName="/ppt/media/image27.gif" ContentType="image/gif"/>
  <Override PartName="/ppt/media/image4.gif" ContentType="image/gif"/>
  <Override PartName="/ppt/media/image34.gif" ContentType="image/gif"/>
  <Override PartName="/ppt/media/image28.gif" ContentType="image/gif"/>
  <Override PartName="/ppt/media/image5.gif" ContentType="image/gif"/>
  <Override PartName="/ppt/media/image35.gif" ContentType="image/gif"/>
  <Override PartName="/ppt/media/image29.gif" ContentType="image/gif"/>
  <Override PartName="/ppt/media/image6.gif" ContentType="image/gif"/>
  <Override PartName="/ppt/media/image36.gif" ContentType="image/gif"/>
  <Override PartName="/ppt/media/image11.gif" ContentType="image/gif"/>
  <Override PartName="/ppt/media/image48.gif" ContentType="image/gif"/>
  <Override PartName="/ppt/media/image46.gif" ContentType="image/gif"/>
  <Override PartName="/ppt/media/image44.gif" ContentType="image/gif"/>
  <Override PartName="/ppt/media/image49.png" ContentType="image/png"/>
  <Override PartName="/ppt/media/image56.gif" ContentType="image/gif"/>
  <Override PartName="/ppt/media/image50.gif" ContentType="image/gif"/>
  <Override PartName="/ppt/media/image13.gif" ContentType="image/gif"/>
  <Override PartName="/ppt/media/image51.gif" ContentType="image/gif"/>
  <Override PartName="/ppt/media/image52.gif" ContentType="image/gif"/>
  <Override PartName="/ppt/media/image53.gif" ContentType="image/gif"/>
  <Override PartName="/ppt/media/image54.gif" ContentType="image/gif"/>
  <Override PartName="/ppt/media/image43.gif" ContentType="image/gif"/>
  <Override PartName="/ppt/media/image55.gif" ContentType="image/gif"/>
  <Override PartName="/ppt/media/image45.gif" ContentType="image/gif"/>
  <Override PartName="/ppt/media/image57.gif" ContentType="image/gif"/>
  <Override PartName="/ppt/media/image42.gif" ContentType="image/gif"/>
  <Override PartName="/ppt/media/image40.gif" ContentType="image/gif"/>
  <Override PartName="/ppt/media/image33.gif" ContentType="image/gif"/>
  <Override PartName="/ppt/media/image38.gif" ContentType="image/gif"/>
  <Override PartName="/ppt/media/image8.gif" ContentType="image/gif"/>
  <Override PartName="/ppt/media/image32.gif" ContentType="image/gif"/>
  <Override PartName="/ppt/media/image30.gif" ContentType="image/gif"/>
  <Override PartName="/ppt/media/image12.jpeg" ContentType="image/jpeg"/>
  <Override PartName="/ppt/media/image41.gif" ContentType="image/gif"/>
  <Override PartName="/ppt/media/image10.gif" ContentType="image/gif"/>
  <Override PartName="/ppt/media/image47.gif" ContentType="image/gif"/>
  <Override PartName="/ppt/media/image39.gif" ContentType="image/gif"/>
  <Override PartName="/ppt/media/image9.gif" ContentType="image/gif"/>
  <Override PartName="/ppt/media/image7.gif" ContentType="image/gif"/>
  <Override PartName="/ppt/media/image3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898-EF9C-4EE7-A07C-541CDED8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F33-D4D5-48EA-BD2F-2D4B201F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D6A-C4BF-4829-87DA-1B74CCF0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621-DC72-440C-9008-D9B98E79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FEF-37F5-4B24-AF1E-62006277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5A0-FBE6-457F-A7F9-1CBBF20C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9D0-B942-40C4-8723-4D05C58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005-F5FB-4A0C-A855-1D0B86D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FFB-BAEB-4694-8395-DC16D7DE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4E5-A003-4F3B-BC33-8F737DC4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E40-13CC-422B-ACDC-07089F2D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7BC-F19D-4E25-B276-FFC3AF9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6E51-DA5C-431A-A3A6-93BCFBA93A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image" Target="../media/image57.gif"/><Relationship Id="rId6" Type="http://schemas.openxmlformats.org/officeDocument/2006/relationships/image" Target="../media/image58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28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195640" y="3357720"/>
            <a:ext cx="4535280" cy="296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77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元旦快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195640" y="5084640"/>
            <a:ext cx="9349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859280" y="5084640"/>
            <a:ext cx="934920" cy="145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156360" y="5084640"/>
            <a:ext cx="934920" cy="145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492360" y="5084640"/>
            <a:ext cx="935280" cy="145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195640" y="333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92436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651640" y="333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万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待下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1800360" cy="1627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194472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57636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052640"/>
            <a:ext cx="1440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成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别忘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2376360" cy="15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2016000" cy="103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2232000" cy="1943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940360" y="765000"/>
            <a:ext cx="172404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空听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跳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2881080" cy="2579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2158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加一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尔安静一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泄一番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现生活－－挺好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2376360" cy="1940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4103640" cy="2205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796000" y="1341360"/>
            <a:ext cx="2736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如何要记住有我这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27640" y="765000"/>
            <a:ext cx="2448000" cy="222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80360" y="1557360"/>
            <a:ext cx="12189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44654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但愿把祝福带给我的朋友——高二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班的所有学生！让大家都有一个快乐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95640" y="4653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410000"/>
            <a:ext cx="33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761080" y="0"/>
            <a:ext cx="3382920" cy="155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995640" y="0"/>
            <a:ext cx="1008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亲爱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0920" y="2923920"/>
            <a:ext cx="80643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元旦即将来临之际，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年里，我祝你：好好   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35640" y="5013360"/>
            <a:ext cx="2305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          好                好，赚多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也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             这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957240" cy="1373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76720" y="1125360"/>
            <a:ext cx="1218960" cy="1578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093080" y="907920"/>
            <a:ext cx="1596960" cy="2163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916360" y="2997360"/>
            <a:ext cx="208728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619280" y="4365720"/>
            <a:ext cx="1152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151164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2736720" cy="211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321680" y="476280"/>
            <a:ext cx="1427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在没地方， 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喜欢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1584360" cy="2189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08360" y="3068640"/>
            <a:ext cx="1440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送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2016360" cy="16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259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172728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512720" cy="2011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659640" y="1197000"/>
            <a:ext cx="180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急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免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她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跑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2159280" cy="129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2313000" cy="1440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843280" y="1197000"/>
            <a:ext cx="2808360" cy="1219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12000" y="1125360"/>
            <a:ext cx="2447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情没有时间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重要，充分了解之后，才要在一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不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不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2089440" cy="122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2305080" cy="145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340000" y="5013360"/>
            <a:ext cx="2663640" cy="165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851280" y="1052640"/>
            <a:ext cx="3809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1:32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5:52Z</dcterms:modified>
  <cp:revision>32</cp:revision>
  <dc:subject>主题班会课件(分28大类): http://shop62905894.taobao.com</dc:subject>
  <dc:title>主题班会课件(分28大类): http://shop62905894.taobao.com</dc:title>
</cp:coreProperties>
</file>