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13.jpeg" ContentType="image/jpeg"/>
  <Override PartName="/ppt/media/image20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3CF-DEB9-4FF7-BAD7-344C28DB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FC2-1A4B-4FEC-8518-CB5BAD1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F67-9DB8-4624-AA52-8A015D2B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8D7-25F0-4350-8182-A9FD4D32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1AE-F0AD-4A04-8C56-7E535858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7A9-D9A0-4553-AAFA-8D8C3A3C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839-D97A-4149-B013-A30BC448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E00-D763-4099-BB1E-C29919FB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1E1-CC61-4F0E-8F69-3FD2493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311-2754-4D77-BBB2-C914AE5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D54-2369-423D-8849-4188918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B96-04BF-4890-9D97-2324381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A68-95E1-43DA-9436-E563E4982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676520"/>
            <a:ext cx="457200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0066ff"/>
                </a:solidFill>
                <a:latin typeface="华文中宋"/>
              </a:rPr>
              <a:t>师恩似海</a:t>
            </a:r>
            <a:endParaRPr b="1" lang="en-US" sz="4800" spc="1" strike="noStrike">
              <a:ln w="9360">
                <a:solidFill>
                  <a:srgbClr val="ff6699"/>
                </a:solidFill>
                <a:miter/>
              </a:ln>
              <a:solidFill>
                <a:srgbClr val="0066ff"/>
              </a:solidFill>
              <a:latin typeface="华文中宋"/>
              <a:ea typeface="华文中宋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57600" y="5486400"/>
            <a:ext cx="4762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26</a:t>
            </a:r>
            <a:r>
              <a:rPr b="0" lang="zh-CN" sz="20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班“感谢师恩”教师节主题班会</a:t>
            </a:r>
            <a:endParaRPr b="0" lang="en-US" sz="2000" spc="1" strike="noStrike">
              <a:ln w="12600">
                <a:solidFill>
                  <a:srgbClr val="ff3399"/>
                </a:solidFill>
                <a:miter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5400000">
            <a:off x="-576000" y="4471920"/>
            <a:ext cx="295092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师恩似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0836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76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Lucida Handwriting"/>
              </a:rPr>
              <a:t>       </a:t>
            </a:r>
            <a:r>
              <a:rPr b="0" lang="zh-CN" sz="3600" spc="-1" strike="noStrike">
                <a:solidFill>
                  <a:srgbClr val="ff33cc"/>
                </a:solidFill>
                <a:latin typeface="Lucida Handwriting"/>
              </a:rPr>
              <a:t>美好的记忆留在青春的校园，感谢您的关怀，感谢您的帮助，感谢您为我们所做的一切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6165720"/>
            <a:ext cx="36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Li Xu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5715000" y="426708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记忆永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532800" y="434340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师恩难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29000" y="4737240"/>
            <a:ext cx="5715000" cy="2120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380880"/>
            <a:ext cx="8153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敬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师道尊严    人伦表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道德学问    是效是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养我蒙正   教我嘉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不敬其师    何能受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609480"/>
            <a:ext cx="4419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感恩的心</a:t>
            </a:r>
            <a:endParaRPr b="0" lang="en-US" sz="4800" spc="1" strike="noStrike">
              <a:ln w="9360">
                <a:solidFill>
                  <a:srgbClr val="ff6699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9880" y="5943600"/>
            <a:ext cx="4762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三（</a:t>
            </a:r>
            <a:r>
              <a:rPr b="0" lang="en-US" sz="2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2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）班“感谢师恩”教师节主题班会</a:t>
            </a:r>
            <a:endParaRPr b="0" lang="en-US" sz="2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86200" y="22860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秦老师：请原谅这迟来的教师节祝福，不过在我心里每一天都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。希望你永远年轻漂亮！秦老师，教师节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谢您的学生：许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80880"/>
            <a:ext cx="18288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9900"/>
                </a:solidFill>
                <a:latin typeface="宋体"/>
              </a:rPr>
              <a:t>感恩心语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99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1460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老师：您好！我因为有事不能去看望你们了。即使我有千言万语想对你们说，但我不知从何说起，我只能说声谢谢您，谢谢您一直以来的照顾与关心，您辛苦了！在这里我祝您节日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您永远的学生：官永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219320"/>
            <a:ext cx="510552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老师：开学悄悄来临我就知道要和你及同学们分开；那离别的滋味是眷恋，是苦涩，是泪水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;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老师，真的不想和你们说再见；经历这次的离别我更珍惜您往日的关爱。将来，无论我成为参天大树。还是低矮的灌木，我都将以生命的翠绿向您祝福，我的老师！教师节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您永远的学生：韦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80880"/>
            <a:ext cx="18288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感恩心语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2286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隶书"/>
              </a:rPr>
              <a:t>尊师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父母生我，给我色身；老师教我，长我慧命。使我由蒙昧见到光明，使我由无知变为有知，使我由愚痴启发智慧，使我由无能成为才能。老鼠只会永远在地上打洞，因为他们没有老师；小鸟只会永远在树上作窝，因为他们没有老师。老师是我们文化的传人，老师是我们慧命的保姆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因为有老师，人类文化才有进展；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因为有老师，人类前途才有光明；因为有老师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人性尊严才能建立；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因为有老师，人性光明才得发扬。因此，发愿：“从今日起，永远真心的尊敬老师！永远真心的感激老师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91440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《晋语》栾共子曰：“成闻之：‘民生于三，事之如一。’父生之，师教之，君食之。非父不生，非食不长，非教不知生之族也，故壹事之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715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华文中宋"/>
                <a:ea typeface="华文中宋"/>
              </a:rPr>
              <a:t>一日为师，终身为父。——关汉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1981080"/>
            <a:ext cx="705636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感谢您的光临和指导！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4737240"/>
            <a:ext cx="5715000" cy="212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286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哲人语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066680"/>
            <a:ext cx="8763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师者，所以传道受业解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唐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)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韩愈《师说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为学莫重于尊师。——谭嗣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事师之犹事父也。——《吕氏春秋劝学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师道既尊，学风自善。——康有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明师之恩，诚为过于天地，重于父母多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晋）葛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15241" t="24003" r="13657" b="6001"/>
          <a:stretch/>
        </p:blipFill>
        <p:spPr>
          <a:xfrm>
            <a:off x="7010280" y="3352680"/>
            <a:ext cx="213372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95680" y="0"/>
            <a:ext cx="236232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09680" y="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858000" y="6029280"/>
            <a:ext cx="22860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572000" y="6029280"/>
            <a:ext cx="228600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286000" y="6029280"/>
            <a:ext cx="228600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0" y="6029280"/>
            <a:ext cx="2286000" cy="82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09680" y="685800"/>
            <a:ext cx="6248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小小的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也想抬起头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感谢春光的爱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然而深厚的恩慈</a:t>
            </a: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反使她终于沉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老师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文鼎古印体"/>
                <a:ea typeface="文鼎古印体"/>
              </a:rPr>
              <a:t>你是那春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鼎古印体"/>
                <a:ea typeface="文鼎古印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1600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师恩是一首唱不完的歌；老师是一篇写不完的诗．我们在老师关爱的天空下健康的成长．可是啊，我们却无法为您做些什么，因为做的一切都无法表达我们对您深深的爱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现在请听听我们爱的告白，心的声音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83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老师　谢谢您带我认识这个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838080"/>
            <a:ext cx="8381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等学子，能接受师长的折磨，忍耐上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中等学子，能接受师长的鼓励，奋发图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下等学子，能接受师长的赞美，爱中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劣等学子，什么都不能接受，事事叛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629400" y="548640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谢师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858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父母给了我们生命；老师给了我们慧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971800"/>
            <a:ext cx="3733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老师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您辛苦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7160"/>
            <a:ext cx="66294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每一次    都在徘徊孤单中坚强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每一次    就算很受伤   也不闪泪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我知道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我一直有双隐形的翅膀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带我飞    飞过绝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不去想    他们拥有美丽的太阳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我看见    每天的夕阳    也会有变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我知道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我一直有双隐形的翅膀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带我飞      给我希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6400440" y="274320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新魏"/>
              </a:rPr>
              <a:t>隐形的翅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0"/>
            <a:ext cx="792468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终于    看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所有梦想都开花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追逐的年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歌声多嘹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我终于    翱翔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用心凝望不害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哪里会有风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就飞多远吧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隐形的翅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让梦恒久比天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留一个   愿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让自己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600200"/>
            <a:ext cx="6019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幼圆"/>
              </a:rPr>
              <a:t>我们都是蒲公英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幼圆"/>
              </a:rPr>
              <a:t>我们在哪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幼圆"/>
              </a:rPr>
              <a:t>老师的心就在哪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4864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幼圆"/>
                <a:ea typeface="幼圆"/>
              </a:rPr>
              <a:t>初三（</a:t>
            </a:r>
            <a:r>
              <a:rPr b="0" lang="zh-CN" sz="2800" spc="-1" strike="noStrike">
                <a:solidFill>
                  <a:srgbClr val="ffcc00"/>
                </a:solidFill>
                <a:latin typeface="幼圆"/>
                <a:ea typeface="幼圆"/>
              </a:rPr>
              <a:t>2</a:t>
            </a:r>
            <a:r>
              <a:rPr b="0" lang="zh-CN" sz="2800" spc="-1" strike="noStrike">
                <a:solidFill>
                  <a:srgbClr val="ffcc00"/>
                </a:solidFill>
                <a:latin typeface="幼圆"/>
                <a:ea typeface="幼圆"/>
              </a:rPr>
              <a:t>）班教师节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6:47Z</dcterms:modified>
  <cp:revision>1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