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B8D-1904-4198-A648-91B449DB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335-B543-4E5D-8797-0E0D874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038-9E97-4DF2-8211-C86C1330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8CD-9418-4FBD-A615-2FF5F1D9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61A1-F77C-41FA-A659-6CA56991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3856-578F-4988-A543-DD92D92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562D-637E-4D0F-A6D9-60905B5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C984-E46A-4D0A-8EA7-A47E36C8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E26B-D813-4599-95CE-B80AEBB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C76-05E4-4B72-A95F-12ACD4A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D8E-C43B-4464-8688-CFD7F1E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C2B-1BC6-488D-B93A-DAD28517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37D1-865B-493E-83FD-0BFD68B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3666-F4E5-4532-B72E-023DB40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4C03-1C3F-4E26-A2F7-1088785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243-A62E-4A6B-A4D2-346A9235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645F-DF91-4BE6-886D-B3479807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1D6-2541-4665-8262-4926920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E95-1973-4C9D-A96B-CFD7395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B0F-7734-4AA2-813D-E4669457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39E-6057-4493-84A8-8AAB3DE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1F3-D799-4E91-A743-9A53CF7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D0E-D436-4E36-A70A-07F5BF5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66D-88A5-4020-878B-F6FBEF9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EA8-034F-4956-A06E-66E80C3AD1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C1F5-F5F6-4460-8720-6EE63EB08A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981080"/>
            <a:ext cx="8610480" cy="175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黑体"/>
              </a:rPr>
              <a:t>新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年</a:t>
            </a:r>
            <a:r>
              <a:rPr b="1" lang="zh-CN" sz="8000" spc="-1" strike="noStrike">
                <a:solidFill>
                  <a:srgbClr val="800000"/>
                </a:solidFill>
                <a:latin typeface="Times New Roman"/>
                <a:ea typeface="黑体"/>
              </a:rPr>
              <a:t>新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5290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00"/>
                </a:solidFill>
                <a:latin typeface="Arial"/>
                <a:ea typeface="黑体"/>
              </a:rPr>
              <a:t>气象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986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679"/>
                </a:solidFill>
                <a:latin typeface="Times New Roman"/>
              </a:rPr>
              <a:t>——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429264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b2b2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739240"/>
            <a:ext cx="7467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最好的解决方法，就是使学习具有“计划性”。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计划是实现目标的前提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没有计划，目标就成了水上浮萍，没有根基。做事没有计划，结果不是“眉毛胡子一把抓”，就是“盲人摸象”一样，只见树木，不见森林。生活对于没有计划的人来说，就是“走一步看一步”，“当一天和尚撞一天钟”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358720"/>
            <a:ext cx="7007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战讲究“知己知彼，百战不殆”。学习也是一场战斗，计划就是做到“知己”，因为要制定出符合自己实际情况的学习计划，必须要“知己”。“知己”包括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三层含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明确地估计自己的能力，了解当时学习情况，明确学习的目标。做到“知己”后，我们就可以制定计划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8584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别人告诉你的方法是很难完全套用的。只有自己去试着做，摸索出自己的完整方法，才是最有用的。而别人告诉你的方法，最多只能充当一个指路标的作用。 所以，不要过于重视它的形式。只要是能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达到目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计划都是好计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要让自己知道，每天你具体干些什么，知道每周、每月的安排等。一句话，就是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做到心中有谱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计划的安排应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合理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科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尽量不要让你的时间浪费。应该说明的是，不浪费时间并不是把所有时间都用来学习，也不是说打球、洗衣服等时间都是浪费。很多事不能不做，但要放在合适的时候做，黄金时间都应用来学习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609480"/>
            <a:ext cx="867564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严格遵守学习计划有很多好处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学习计划表可以帮助你克服惰性和倦怠，尤其是当它配合一个自我奖励制度时会更加有效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如果你能按部就班、循序渐进地完成你的学习，那么学习便不会给你带来太大的压力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学习计划表可以确保你不会浪费时间，使你有时间做其他该做的事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学习计划表可以使你了解自己的学习进度，让你清楚地知道哪些事等着做；又可以帮助自己对先前的学习做个评价。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7840" y="990720"/>
            <a:ext cx="75675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努力养成以下几个好习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按计划学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习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专时专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讲求效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习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独立钻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务求甚解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习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善于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请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习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查阅工具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资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习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1532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美国哈佛大学心理学教授乔治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赫华斯博士经多年的研究，指出事业的成败很大程度上取决于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人品优劣</a:t>
            </a:r>
            <a:r>
              <a:rPr b="1" lang="zh-CN" sz="3200" spc="-1" strike="noStrike">
                <a:solidFill>
                  <a:srgbClr val="ffa67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679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赫华斯教授指出：“成功人物最重要的是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高尚的品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健康的身心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事业上的失意者大都是由于品格低劣及不能自我调节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349200"/>
            <a:ext cx="84582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成功九大要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①为人有幽默感；②待人处事温文尔雅；③注重友情、热心；④与同事真诚合作；⑤仪表大方；⑥人格平衡发展；⑦富于想象力；⑧有克服任何困难的勇气；有必胜的坚强毅力。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失败九大因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①言行孤僻，不善与人合作；②言而无信；③脾气古怪无常；④处事敷衍，工作丢三落四；⑤自负，目空一切；⑥惹是生非，胆大妄为；⑦看不起同事，自诩天下无双；⑧不求进取，懒惰；⑨不尊重别人建议，亦不接受别人的意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838080"/>
            <a:ext cx="10363320" cy="7772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0720" y="2590920"/>
            <a:ext cx="7238880" cy="2016000"/>
          </a:xfrm>
          <a:prstGeom prst="rect">
            <a:avLst/>
          </a:prstGeom>
          <a:gradFill rotWithShape="0">
            <a:gsLst>
              <a:gs pos="0">
                <a:srgbClr val="a27800"/>
              </a:gs>
              <a:gs pos="100000">
                <a:srgbClr val="ddcf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预祝全班同学在新学期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考出好成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882720"/>
            <a:ext cx="769644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在新年来临之际，祝愿各位同学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黑体"/>
              </a:rPr>
              <a:t>身体健康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黑体"/>
              </a:rPr>
              <a:t>学习进步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60958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8406"/>
                </a:moveTo>
                <a:lnTo>
                  <a:pt x="18998" y="8406"/>
                </a:lnTo>
                <a:lnTo>
                  <a:pt x="23420" y="3794"/>
                </a:lnTo>
                <a:lnTo>
                  <a:pt x="23420" y="17806"/>
                </a:lnTo>
                <a:lnTo>
                  <a:pt x="18998" y="13194"/>
                </a:lnTo>
                <a:lnTo>
                  <a:pt x="14568" y="13194"/>
                </a:lnTo>
                <a:close/>
              </a:path>
              <a:path fill="darken" w="43149" h="21600">
                <a:moveTo>
                  <a:pt x="25073" y="10800"/>
                </a:moveTo>
                <a:lnTo>
                  <a:pt x="28581" y="10800"/>
                </a:lnTo>
              </a:path>
              <a:path fill="darken" w="43149" h="21600">
                <a:moveTo>
                  <a:pt x="25073" y="8406"/>
                </a:moveTo>
                <a:lnTo>
                  <a:pt x="28581" y="5639"/>
                </a:lnTo>
              </a:path>
              <a:path fill="darken" w="43149" h="21600">
                <a:moveTo>
                  <a:pt x="25073" y="13194"/>
                </a:moveTo>
                <a:lnTo>
                  <a:pt x="28581" y="15961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回味佳节春意闹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0920" y="2060280"/>
            <a:ext cx="6337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你春节有哪些所见所闻所感，与大家一起交流分享一下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*^__^*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23587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甩手的故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816444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下。大家能做到吗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学生们都笑了。这么简单的事，有什么做不到的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过了一个月，苏格拉底问学生们：“每天甩手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300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下，哪些同学坚持了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?”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％的同学骄傲地举起了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880920"/>
            <a:ext cx="792504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又过了一个月，苏格拉底又问，这回，坚持下来的学生只剩下八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一年过后，苏格拉底再一次问大家：“请告诉我，最简单的甩手运动，还有哪几位同学坚持了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?”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这时，整个教室里，只有一人举起了手。这个学生就是后来成为古希腊另一位大哲学家的柏拉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114560"/>
            <a:ext cx="75438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间最容易的事是坚持，最难的事也是坚持。说它容易，是因为只要愿意做，人人能做到；说它难，是因为真正能做到的，终究只是少数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成功在于坚持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是一个并不神秘的秘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2467440"/>
            <a:ext cx="837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百无聊赖地坐在桌前，对着那一摞摞厚重的教科书、参考书、习题册呆望了一会儿，从中捡出一本，乱翻了几页，从中挑出一道题，结果半个小时也没能做出结果，然后只有没好气地把它再丢回书堆中去，再捡起一本……，在这简单的重复劳动中，时间匆匆而过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这样的经历，你是否有过？这是心理空虚和急躁的表现：一方面想抓紧时间，努力学习；另一方面，又常常举棋不定，不知从何下手，往往由于一些小难题而自暴自弃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05:58:3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14Z</dcterms:modified>
  <cp:revision>35</cp:revision>
  <dc:subject>主题班会课件(分28大类): http://shop62905894.taobao.com</dc:subject>
  <dc:title>主题班会课件(分28大类): http://shop62905894.taobao.com</dc:title>
</cp:coreProperties>
</file>